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DC2A-92C1-4935-B846-D3320E0C6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72A2-CFAB-422B-9AAE-5E8D35FB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FD7A-FA9E-4A07-A012-21C1178B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9D2D-70A5-4D86-97E4-7A2B9D528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30D5-34AE-4F38-8D1F-09D889BC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9852-D62B-4035-98ED-D39CCC9A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FC94-9979-4419-A7BF-C9DCD514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02DC-22BA-45EA-916E-123E7194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4511-E50F-42B7-B853-E6D488EE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32E6-F820-47A7-A8A9-E3C55649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0152-24A8-477C-9BB3-6D615A76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87E1-CCA2-487C-AB51-4BBA6852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431C-B803-4DC3-928B-B150BB031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89000" y="0"/>
            <a:ext cx="7047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5:35:23Z</dcterms:created>
  <dc:creator>ERIK</dc:creator>
  <dc:description/>
  <dc:language>en-US</dc:language>
  <cp:lastModifiedBy>ERIK</cp:lastModifiedBy>
  <dcterms:modified xsi:type="dcterms:W3CDTF">2009-02-05T15:40:02Z</dcterms:modified>
  <cp:revision>1</cp:revision>
  <dc:subject/>
  <dc:title>Geen diatitel</dc:title>
</cp:coreProperties>
</file>