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373-42B3-4622-B03F-84B8C86D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916-186C-4A82-9A0A-9ED354E9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4A5-FAC3-4660-A998-2EB656F6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C77-0D61-49EE-8B3D-502F0611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AF7-6373-4B33-B68E-1A19B96D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583-41A4-4DFD-957C-AEF9B903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880-035D-4ECE-880A-39E89D1A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8EF-7E88-4ABA-838B-ED8AF3A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FAD-C115-4395-B3BE-38F5EA15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FD7-C17A-4A01-BA21-E5F6E3E7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FD9-EBEB-484E-87A2-86D1224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CCB-FCC8-4377-B513-B5EC5725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2B03-F9B8-4DCD-A944-E89CAC091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9000" y="0"/>
            <a:ext cx="7047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35:23Z</dcterms:created>
  <dc:creator>ERIK</dc:creator>
  <dc:description/>
  <dc:language>en-US</dc:language>
  <cp:lastModifiedBy>ERIK</cp:lastModifiedBy>
  <dcterms:modified xsi:type="dcterms:W3CDTF">2009-02-05T15:40:02Z</dcterms:modified>
  <cp:revision>1</cp:revision>
  <dc:subject/>
  <dc:title>Geen diatitel</dc:title>
</cp:coreProperties>
</file>