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EE0-4EE8-4A2C-BD66-DA3C8B19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CB3-F497-40A0-8F96-5494CED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5A2-8EE5-438B-A1A7-59F5EB31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846-05C5-43B2-9ACE-F99483C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6C3-2F90-4997-ADDE-8535DA8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ABF-54EA-44C5-B6B9-1B80B9BF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48A-170D-4E50-9B09-EEFEA470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064-6253-4EF5-9E2B-87BE971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9E2-590D-484D-B2CC-FA58370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FA2-59B1-48F5-B97E-613844E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E83-6B8C-41A9-BDD8-C5BD294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B4B-28B5-48BC-90EF-79E7A61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48A-E4F8-4D90-ADE3-4F7814CF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26:47Z</dcterms:created>
  <dc:creator>ERIK</dc:creator>
  <dc:description/>
  <dc:language>en-US</dc:language>
  <cp:lastModifiedBy>ERIK</cp:lastModifiedBy>
  <dcterms:modified xsi:type="dcterms:W3CDTF">2009-02-05T15:34:48Z</dcterms:modified>
  <cp:revision>1</cp:revision>
  <dc:subject/>
  <dc:title>Geen diatitel</dc:title>
</cp:coreProperties>
</file>