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858-A52E-410D-8565-0FDE436D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D8E-9A97-4C1D-8387-4C473EB5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FED-39C7-4B15-9F9D-73B317FD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DB0-A8B4-48DA-B75C-7B0289FB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40B-E4CF-4B62-9C91-AB560861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8E3-1DCD-466E-B735-7998B2DB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CEC-2426-43B7-B631-4F61AED8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1E5-86F5-4D60-8D9C-7ADD52C2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2A5-9F7D-422E-98F9-EAA25CC1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98A-C2DF-4D8F-8F99-E837671E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724-3221-4820-9CF6-8ACE441D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52B-D392-4616-A2BE-CFD6BD9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678-306F-4EA7-9CEA-5A02D7917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26:47Z</dcterms:created>
  <dc:creator>ERIK</dc:creator>
  <dc:description/>
  <dc:language>en-US</dc:language>
  <cp:lastModifiedBy>ERIK</cp:lastModifiedBy>
  <dcterms:modified xsi:type="dcterms:W3CDTF">2009-02-05T15:34:48Z</dcterms:modified>
  <cp:revision>1</cp:revision>
  <dc:subject/>
  <dc:title>Geen diatitel</dc:title>
</cp:coreProperties>
</file>