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3D-B95B-47D6-B2FB-E64A9DC7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F7-E21B-4E99-ACC2-6F6D76D7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44E-DC35-4E19-8EBA-882BAB4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AE1-84B0-4E9B-9911-1AE6F73C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64B-27AD-403B-BC4A-D2D0F42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9E4-F083-4C6A-9DD5-437671C9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E61-887C-4A63-8FAB-2F05C46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745-0E89-4266-B597-1F87EFB6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1AC-2BC3-4989-9B72-0117F8D6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B06-976A-4CF6-A031-FD8D71D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6FA-3FE2-4AAE-8931-D1A44B8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E0D-30A3-4E78-ADED-87DA5AB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433-4BE8-4591-9131-E1D4DDF762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040" t="0" r="0" b="0"/>
          <a:stretch/>
        </p:blipFill>
        <p:spPr>
          <a:xfrm>
            <a:off x="7128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150520" y="0"/>
            <a:ext cx="139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sekloeffe nr 6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20:36Z</dcterms:created>
  <dc:creator>ERIK</dc:creator>
  <dc:description/>
  <dc:language>en-US</dc:language>
  <cp:lastModifiedBy>Erik de backer</cp:lastModifiedBy>
  <dcterms:modified xsi:type="dcterms:W3CDTF">2014-04-09T19:27:38Z</dcterms:modified>
  <cp:revision>3</cp:revision>
  <dc:subject/>
  <dc:title>Geen diatitel</dc:title>
</cp:coreProperties>
</file>