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DDA-5542-4340-9226-F646E1AD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F6A-D32B-4BC8-AF07-DF8ECDE0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016-A260-49B2-A4F7-F78937B4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20D-B7A0-4DF2-A60B-B2590C31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578-2157-42B9-A042-CFE59330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FD5-9B94-43DA-B90A-3B838D0E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E79-1FC0-42B0-BDF4-5D0CA840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8C8-4A07-432B-829E-1A6C2922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E08-B0D4-463B-AB8C-5BD92DC7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DB3-5277-4D7B-A720-316BA42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73A-6DB6-441F-B14F-7C1D98BC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9E8-4B5A-49F6-A001-3A16C2CC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38F5-636B-435E-A75A-6508966743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040" t="0" r="0" b="0"/>
          <a:stretch/>
        </p:blipFill>
        <p:spPr>
          <a:xfrm>
            <a:off x="71280" y="0"/>
            <a:ext cx="678672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150520" y="0"/>
            <a:ext cx="139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sekloeffe nr 6 bld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20:36Z</dcterms:created>
  <dc:creator>ERIK</dc:creator>
  <dc:description/>
  <dc:language>en-US</dc:language>
  <cp:lastModifiedBy>Erik de backer</cp:lastModifiedBy>
  <dcterms:modified xsi:type="dcterms:W3CDTF">2014-04-09T19:27:38Z</dcterms:modified>
  <cp:revision>3</cp:revision>
  <dc:subject/>
  <dc:title>Geen diatitel</dc:title>
</cp:coreProperties>
</file>