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EAA-C876-415A-80F4-415F40C4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908-B182-4123-96F4-7704D6A9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420-38AA-424D-8229-B37B91EC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982-37A9-40BB-8977-96AB79BD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D0A-71D0-4C1A-9FA0-D30B32E4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D8D-5BFD-4C99-95BB-20865B3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E84-F37A-41E2-A82B-3B0C02C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BA0-5E43-4A12-B0EC-E083EBB4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EC2-B7AB-4AF3-B19A-610E02E1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E83-A530-42CE-A39B-8D99492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7F4-513F-40EB-BDA8-9CEA3DD1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C19-763A-436A-8FEF-7F30307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80D-61F0-462F-9004-3C4A5E37FC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83" t="0" r="0" b="0"/>
          <a:stretch/>
        </p:blipFill>
        <p:spPr>
          <a:xfrm>
            <a:off x="142920" y="0"/>
            <a:ext cx="67150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863960" y="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6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17:59Z</dcterms:created>
  <dc:creator>ERIK</dc:creator>
  <dc:description/>
  <dc:language>en-US</dc:language>
  <cp:lastModifiedBy>Erik de backer</cp:lastModifiedBy>
  <dcterms:modified xsi:type="dcterms:W3CDTF">2014-04-09T19:21:13Z</dcterms:modified>
  <cp:revision>2</cp:revision>
  <dc:subject/>
  <dc:title>Geen diatitel</dc:title>
</cp:coreProperties>
</file>