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464-2E2A-4E76-8199-12E7E4EB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516-42EC-440D-8647-3B2C82B7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F59-BAF8-4F76-8B08-1F1F8CDD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C19-CA7A-4AEB-BE36-A7FB9EB7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E4D-80DF-4B4B-84CE-FAF076F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28D-956E-4480-A305-198FE3FA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0D9-C92E-479C-888D-61943DC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BDD-4950-4B4B-ACCC-C54421C8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8AF-C3FA-4CD9-A5A7-95EC22F2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C16-FFC4-42F0-A741-5A91D20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C85-857B-43EF-ABB1-D23EFED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E75-A2E1-496A-AAC6-29D3508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026-40BE-48B4-91D5-97D42CC2A87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83" t="0" r="0" b="0"/>
          <a:stretch/>
        </p:blipFill>
        <p:spPr>
          <a:xfrm>
            <a:off x="142920" y="0"/>
            <a:ext cx="671508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863960" y="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6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17:59Z</dcterms:created>
  <dc:creator>ERIK</dc:creator>
  <dc:description/>
  <dc:language>en-US</dc:language>
  <cp:lastModifiedBy>Erik de backer</cp:lastModifiedBy>
  <dcterms:modified xsi:type="dcterms:W3CDTF">2014-04-09T19:21:13Z</dcterms:modified>
  <cp:revision>2</cp:revision>
  <dc:subject/>
  <dc:title>Geen diatitel</dc:title>
</cp:coreProperties>
</file>