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6F4C-FA6F-46E6-AB36-CDA53DAE5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8C76-0852-4623-8DC8-149D3A31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9EF3-F512-4340-AD45-A73D17976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2F0A-651B-41BD-8B53-ACABCBF7B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459D-5EC6-4D5F-B614-5E395A26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8F8C-3780-4F83-85C2-8FA03B36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4ECC-C4CF-4B49-9232-0DF134D5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058A-F21D-4F40-8EF8-149CC394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64DF-46B4-4F27-9379-AAD06AA7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165B-0CA5-435A-B703-FBDFB184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CFEA-B6AB-47AC-9223-EDFC25A5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FD17-4B32-46A1-8667-0D6E133B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EE9A-BAE4-4D65-A7AC-BE07AE27D8B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89000" y="0"/>
            <a:ext cx="7047000" cy="9906120"/>
          </a:xfrm>
          <a:prstGeom prst="rect">
            <a:avLst/>
          </a:prstGeom>
          <a:ln w="0">
            <a:noFill/>
          </a:ln>
        </p:spPr>
      </p:pic>
      <p:sp>
        <p:nvSpPr>
          <p:cNvPr id="42" name="Tekstvak 2"/>
          <p:cNvSpPr/>
          <p:nvPr/>
        </p:nvSpPr>
        <p:spPr>
          <a:xfrm>
            <a:off x="4863960" y="0"/>
            <a:ext cx="13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Times New Roman"/>
              </a:rPr>
              <a:t>Donksekloef nr 6 bld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5:12:30Z</dcterms:created>
  <dc:creator>ERIK</dc:creator>
  <dc:description/>
  <dc:language>en-US</dc:language>
  <cp:lastModifiedBy>Erik de backer</cp:lastModifiedBy>
  <dcterms:modified xsi:type="dcterms:W3CDTF">2014-04-09T19:09:38Z</dcterms:modified>
  <cp:revision>2</cp:revision>
  <dc:subject/>
  <dc:title>Geen diatitel</dc:title>
</cp:coreProperties>
</file>