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CEA-F804-4178-8D52-C2C1B860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9A6-F306-4CE8-BEB4-38FF34D8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3FA-AA77-4D87-BCDB-4F5BB06C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C0F-8D9E-4DA1-9DAA-5D7D44AF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DEA-2FDA-4DBB-8C75-D631D66C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F3C-36D2-4FF6-BFA6-D6D582B5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9DE-65A0-4AEB-998E-0CD04148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444-465A-4B4F-A649-D4C7152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50E-1977-41E8-903C-CC47D34A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14E-AEB1-420A-B513-B90B775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9A5-ABC1-4060-BD8C-29CDEE92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C31-1547-42BA-8AE8-3A2EAD4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7629-7202-4DC7-AC6F-819F690A2B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89000" y="0"/>
            <a:ext cx="7047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863960" y="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6 bl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12:30Z</dcterms:created>
  <dc:creator>ERIK</dc:creator>
  <dc:description/>
  <dc:language>en-US</dc:language>
  <cp:lastModifiedBy>Erik de backer</cp:lastModifiedBy>
  <dcterms:modified xsi:type="dcterms:W3CDTF">2014-04-09T19:09:38Z</dcterms:modified>
  <cp:revision>2</cp:revision>
  <dc:subject/>
  <dc:title>Geen diatitel</dc:title>
</cp:coreProperties>
</file>