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6D78-0C5B-421B-A635-ED9CBC65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2E8-ABEC-4916-B959-E0B26703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6429-ECB4-4B7C-BBC1-5C003C00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F0EB-00D5-4883-8709-FF5FE43B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9CB-C69B-4C64-98DF-48576E19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FF3-F893-4788-A003-A64D7EA1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FAA-41BC-49E4-914A-0BE812A1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0AC-5399-4050-B8EC-2B5D0CC5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880-03D7-40E3-A924-00817FA0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1BC-5B9F-42C9-ACEB-70EC6CF8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51AF-53AA-497B-9618-EB690117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B22-3330-4C3B-8009-AC5A2DD8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7F04-55C0-4F46-9C31-298EF06FA82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87200" y="0"/>
            <a:ext cx="70452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4:57:26Z</dcterms:created>
  <dc:creator>ERIK</dc:creator>
  <dc:description/>
  <dc:language>en-US</dc:language>
  <cp:lastModifiedBy>Test</cp:lastModifiedBy>
  <dcterms:modified xsi:type="dcterms:W3CDTF">2012-03-17T16:07:47Z</dcterms:modified>
  <cp:revision>1</cp:revision>
  <dc:subject/>
  <dc:title>Geen diatitel</dc:title>
</cp:coreProperties>
</file>