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A99-6B4B-4453-91A8-95428DB1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848-922D-49D9-866F-C7C31C24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AEF-ED66-4239-857F-EF50FCA1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5D3-6117-42F7-95E6-002D9DD1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D7B-B530-4CBF-900F-C6D516C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0F3-EB37-4F16-8690-8A30AFC8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45F-57EA-46BE-B7B5-FE672792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1D4-F81C-48DE-9F51-5A14274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4F3-590A-4729-8D20-E71D78A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26E-F585-4551-8843-F173F4D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CA4-995A-40C9-9CAF-3BB38A1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3D1-6D62-41F8-B475-C22E022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ED2E-1B2A-444B-8C31-BC789F576F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87200" y="0"/>
            <a:ext cx="70452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57:26Z</dcterms:created>
  <dc:creator>ERIK</dc:creator>
  <dc:description/>
  <dc:language>en-US</dc:language>
  <cp:lastModifiedBy>Test</cp:lastModifiedBy>
  <dcterms:modified xsi:type="dcterms:W3CDTF">2012-03-17T16:07:47Z</dcterms:modified>
  <cp:revision>1</cp:revision>
  <dc:subject/>
  <dc:title>Geen diatitel</dc:title>
</cp:coreProperties>
</file>