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506-CAA5-4836-98DA-28C0B56C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5C4-867B-4EA2-909A-15150BB8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4D8-63BE-423A-9E43-83EE726F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D26-DA04-4D5F-B4A3-8B283DB6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A02-0A75-4572-B2BB-C30440C8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A86-E816-42F9-8651-B7875354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20A-46AE-4CD2-AD36-BD2B4EFB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D71-D923-4C1D-9AD4-E0E63701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6C9-0C84-43CF-9EF1-54BC375C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4CD-BFDF-48BA-97E1-67E910E1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58E-745C-4491-956B-94E32948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7F1-03DA-42D2-81BD-A5CCAAB8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48D6-F2F8-4182-ACF1-256BDA51C20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415" t="0" r="1027" b="0"/>
          <a:stretch/>
        </p:blipFill>
        <p:spPr>
          <a:xfrm>
            <a:off x="0" y="0"/>
            <a:ext cx="678672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5292720" y="9540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nksekloef nr 5 bld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9:39:08Z</dcterms:created>
  <dc:creator>ERIK</dc:creator>
  <dc:description/>
  <dc:language>en-US</dc:language>
  <cp:lastModifiedBy>Erik de backer</cp:lastModifiedBy>
  <dcterms:modified xsi:type="dcterms:W3CDTF">2014-04-09T17:06:24Z</dcterms:modified>
  <cp:revision>4</cp:revision>
  <dc:subject/>
  <dc:title>Geen diatitel</dc:title>
</cp:coreProperties>
</file>