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E1EB-DAEB-43FB-AEB8-D5F53797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FC29-72A5-4524-838A-56CAF29D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BDA3-8EAB-43D1-A4DD-0E5A5739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6475-4E5D-40DF-B455-DB1F6794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B188-A5A0-4C6F-83DE-A85314B1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D7E8-1870-4BCD-B58E-B2549014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D530-520B-4B76-AD9C-E7AA5C70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64F5-7064-4766-8952-25494FAC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6232-B876-4AFF-875C-EA09E2B5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3C48-E55E-44BE-83E6-645FFF9C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C403-A55C-4B1E-AAF2-EF80AABA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5110-7DEF-4CB7-AA7A-B1748EBA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C1D2-1E4B-4F2B-B213-481A7E6C0D4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1415" t="0" r="1027" b="0"/>
          <a:stretch/>
        </p:blipFill>
        <p:spPr>
          <a:xfrm>
            <a:off x="0" y="0"/>
            <a:ext cx="678672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5292720" y="95400"/>
            <a:ext cx="13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Donksekloef nr 5 bld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9:39:08Z</dcterms:created>
  <dc:creator>ERIK</dc:creator>
  <dc:description/>
  <dc:language>en-US</dc:language>
  <cp:lastModifiedBy>Erik de backer</cp:lastModifiedBy>
  <dcterms:modified xsi:type="dcterms:W3CDTF">2014-04-09T17:06:24Z</dcterms:modified>
  <cp:revision>4</cp:revision>
  <dc:subject/>
  <dc:title>Geen diatitel</dc:title>
</cp:coreProperties>
</file>