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7F0-FFBA-4026-B770-964B25BF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8BD-630A-423A-B20D-3FE9EB9D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D8D-5F56-4B25-9E4D-437D3A0D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6EE-E90A-4FDB-B5CD-4B4A2C2F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CAA-167F-4A61-B3CB-F1EF4A98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C86-8211-4634-B475-6E70B519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6F4-22CB-4DE8-B5E8-87B7E089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355-D420-4600-BE69-1AA0A170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F91-275F-4232-90FB-86B61A30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A99-F5AB-4F6D-87FB-9CE38BC5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EC0-0D82-4EE2-92E2-9E4D3925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A5E-41E9-4195-987F-38DB31CA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E813-7167-4C51-B3E3-84153A74ABC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2083" t="0" r="0" b="0"/>
          <a:stretch/>
        </p:blipFill>
        <p:spPr>
          <a:xfrm>
            <a:off x="142920" y="0"/>
            <a:ext cx="671508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5292720" y="16668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nksekloef nr 5 bl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9:27:52Z</dcterms:created>
  <dc:creator>ERIK</dc:creator>
  <dc:description/>
  <dc:language>en-US</dc:language>
  <cp:lastModifiedBy>Erik de backer</cp:lastModifiedBy>
  <dcterms:modified xsi:type="dcterms:W3CDTF">2014-04-09T16:46:30Z</dcterms:modified>
  <cp:revision>3</cp:revision>
  <dc:subject/>
  <dc:title>Geen diatitel</dc:title>
</cp:coreProperties>
</file>