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F9C-3BF2-47ED-A367-DDE278DE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AB2-C593-45B9-BFC4-DAAA315B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CB5-85A9-4E2E-88CF-E1CB8F2D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B12-6EA2-415D-B4A9-19EAD4C5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71E-5C33-4E49-81FC-A622DA3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D91-DF9D-4355-83EA-AE8093A0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9A3-EA32-4F48-8EB8-3B6145FB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3A0-AE63-4382-9439-56D7AC27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7A1-0D92-4C19-B67C-E4FF779F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D00-C366-45A4-BAF2-B8229A73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081-35BC-4498-ABEF-D6EBDB30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0EF-399D-4C94-97D4-1E768886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88A-27EC-484D-B1A3-B7C6B7E363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83" t="0" r="0" b="0"/>
          <a:stretch/>
        </p:blipFill>
        <p:spPr>
          <a:xfrm>
            <a:off x="142920" y="0"/>
            <a:ext cx="671508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292720" y="16668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5 bl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9:27:52Z</dcterms:created>
  <dc:creator>ERIK</dc:creator>
  <dc:description/>
  <dc:language>en-US</dc:language>
  <cp:lastModifiedBy>Erik de backer</cp:lastModifiedBy>
  <dcterms:modified xsi:type="dcterms:W3CDTF">2014-04-09T16:46:30Z</dcterms:modified>
  <cp:revision>3</cp:revision>
  <dc:subject/>
  <dc:title>Geen diatitel</dc:title>
</cp:coreProperties>
</file>