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DE2-8A92-41EE-ABCE-429726EE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33-C3DE-49FC-8BDB-6AF5B293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E3A-050A-4201-B191-FBABECA4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C99-3D6C-4C8E-84C8-5CC59EC1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814-4F7D-4434-8EE0-CF328915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D5D-B3F7-4C3A-AC83-41F23AC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B4F-0357-44F9-AE66-912E7FF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350-A06E-44CA-BAA9-8A94954A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0A4-2A08-45BE-A1FE-9D6D213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0D-DF20-4F85-9616-45670168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A44-02C3-47BE-9412-957A2C8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252-F4C2-4D9A-BF5F-C81DD36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9150-1030-4BFD-B564-903E6C3B5E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42920" y="0"/>
            <a:ext cx="7000920" cy="994428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076720" y="1666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5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29344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04:47Z</dcterms:created>
  <dc:creator>ERIK</dc:creator>
  <dc:description/>
  <dc:language>en-US</dc:language>
  <cp:lastModifiedBy>Erik de backer</cp:lastModifiedBy>
  <dcterms:modified xsi:type="dcterms:W3CDTF">2015-09-08T12:11:12Z</dcterms:modified>
  <cp:revision>3</cp:revision>
  <dc:subject/>
  <dc:title>Geen diatitel</dc:title>
</cp:coreProperties>
</file>