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9486-6860-437C-8E31-91881BB66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3836-60BD-4549-951D-EA2E1CFA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7645-1F57-4E6D-B9C2-5CE9A0AD7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60C7-BCAE-484F-81F9-28AB30320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2ACF-8530-4E2C-9A69-2C57471B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B573-3D71-4510-A312-BB510821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4FCE-2676-4063-BC41-63A9FC07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F7DD-2E48-421F-8514-6327ACF1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AC17-0FF9-4C32-A513-68BE1877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6AC1-1865-4F6C-8438-603CC3FD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17A2-CC7A-444F-B8A5-8A8A80CF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8DEA-4D0C-4085-9264-21DCDA25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BE89-07BB-4C59-BFE6-CF5D9CF7D36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42920" y="0"/>
            <a:ext cx="7000920" cy="9944280"/>
          </a:xfrm>
          <a:prstGeom prst="rect">
            <a:avLst/>
          </a:prstGeom>
          <a:ln w="0">
            <a:noFill/>
          </a:ln>
        </p:spPr>
      </p:pic>
      <p:sp>
        <p:nvSpPr>
          <p:cNvPr id="42" name="Tekstvak 2"/>
          <p:cNvSpPr/>
          <p:nvPr/>
        </p:nvSpPr>
        <p:spPr>
          <a:xfrm>
            <a:off x="5076720" y="166680"/>
            <a:ext cx="11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Times New Roman"/>
              </a:rPr>
              <a:t>Dokloef nr 5 bld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kstvak 3"/>
          <p:cNvSpPr/>
          <p:nvPr/>
        </p:nvSpPr>
        <p:spPr>
          <a:xfrm>
            <a:off x="5293440" y="9659880"/>
            <a:ext cx="97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9:04:47Z</dcterms:created>
  <dc:creator>ERIK</dc:creator>
  <dc:description/>
  <dc:language>en-US</dc:language>
  <cp:lastModifiedBy>Erik de backer</cp:lastModifiedBy>
  <dcterms:modified xsi:type="dcterms:W3CDTF">2015-09-08T12:11:12Z</dcterms:modified>
  <cp:revision>3</cp:revision>
  <dc:subject/>
  <dc:title>Geen diatitel</dc:title>
</cp:coreProperties>
</file>