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385-700D-44FD-B661-EF90CDE2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E05-CDC8-46EA-A9D2-E27B694F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EC2-BCEA-4EF6-9072-4C52C8CB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4FF-D114-492E-A3A7-B59546B0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B6B-83E7-4178-8A28-EB2F1104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97B-1E31-41C3-9379-C64F7E20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DB7-1CDE-4727-AE9D-73F22A2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2BC-4934-473F-AF70-463249A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303-5588-4D6A-945F-C2A7804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90F-2FC6-4487-B8B8-19DCAE2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6DB-D895-4F7F-BE23-9CCA54E0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93D-4C3B-438E-8A0C-CB03B0E6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5A7-B3E1-4E01-B6FC-E980189D31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1:02:18Z</dcterms:created>
  <dc:creator>ERIK</dc:creator>
  <dc:description/>
  <dc:language>en-US</dc:language>
  <cp:lastModifiedBy>Erik de backer</cp:lastModifiedBy>
  <dcterms:modified xsi:type="dcterms:W3CDTF">2014-04-09T16:34:19Z</dcterms:modified>
  <cp:revision>2</cp:revision>
  <dc:subject/>
  <dc:title>Geen diatitel</dc:title>
</cp:coreProperties>
</file>