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77B-AD83-4B66-ACB3-02D48003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A71-E57A-4AB9-8B5A-4771AD34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184-9147-4EB6-8DB1-37F8EE6A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449-CC2F-43A6-9E11-2528DFD6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B48-493B-46A1-ACB2-0F5D0FFF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E31-3208-4164-A65F-15174DE8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F56-345B-427A-AE89-139240E4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406-E814-46C3-ABA6-90409ABD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9E4-52C7-4408-BAE4-B3C721DA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F7A-7F5D-48DF-BA92-FD8EC8A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A27-C3A0-4486-888F-2EC7C023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F8E-29A2-43E5-A1A3-A384A49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3DD7-5574-4AF6-A72E-51A6EE200CF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21:02:18Z</dcterms:created>
  <dc:creator>ERIK</dc:creator>
  <dc:description/>
  <dc:language>en-US</dc:language>
  <cp:lastModifiedBy>Erik de backer</cp:lastModifiedBy>
  <dcterms:modified xsi:type="dcterms:W3CDTF">2014-04-09T16:34:19Z</dcterms:modified>
  <cp:revision>2</cp:revision>
  <dc:subject/>
  <dc:title>Geen diatitel</dc:title>
</cp:coreProperties>
</file>