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F67-E6CD-4971-878B-625A71DD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448-F802-4C34-A5C6-2873DE29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D12-3D08-42C8-9FC5-0A8EC133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BE2-48CF-400F-811A-3B29B116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649-FE6F-4C4B-AAF6-D73F62C0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F31-D475-4DDF-A665-F94AA952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C49-D063-4BE9-BD08-2E743663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52D-497D-4DA9-BC30-1FB8BBF7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2EB-3843-4BA1-A36D-57DF6C1E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889-0AF6-4FA1-83B2-2AA07B42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A31-8F75-47A9-8F44-29EE5510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69C-5D9D-4974-9E97-4BF0949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8132-28F8-416B-AA3B-1BE035AEBB0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040" t="0" r="0" b="0"/>
          <a:stretch/>
        </p:blipFill>
        <p:spPr>
          <a:xfrm>
            <a:off x="71280" y="0"/>
            <a:ext cx="678672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933800" y="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4 bl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hthoek 3"/>
          <p:cNvSpPr/>
          <p:nvPr/>
        </p:nvSpPr>
        <p:spPr>
          <a:xfrm>
            <a:off x="6143760" y="237960"/>
            <a:ext cx="3571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kstvak 4"/>
          <p:cNvSpPr/>
          <p:nvPr/>
        </p:nvSpPr>
        <p:spPr>
          <a:xfrm>
            <a:off x="5507640" y="9659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23:48Z</dcterms:created>
  <dc:creator>ERIK</dc:creator>
  <dc:description/>
  <dc:language>en-US</dc:language>
  <cp:lastModifiedBy>Erik de backer</cp:lastModifiedBy>
  <dcterms:modified xsi:type="dcterms:W3CDTF">2014-04-09T14:20:22Z</dcterms:modified>
  <cp:revision>3</cp:revision>
  <dc:subject/>
  <dc:title>Geen diatitel</dc:title>
</cp:coreProperties>
</file>