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F60-8341-45D2-AF1D-F46DFE3F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44E-F525-44F7-AE7A-67E6E0A2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188-24CF-49F2-9A87-BAEF83C1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10C-0432-4871-83E9-69A82C4F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863-8C3D-4D80-82D7-2BC8B38C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D44-AA73-4F66-B4F4-F87053DA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449-654F-4153-BAA7-8DE1FF97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2D1-5F86-4FA9-BFFE-0CE591DD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312-2384-430F-9C28-C5035192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4B3-4B73-40D1-9959-90D5D028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4E2-16FB-4FF7-9B55-911438A0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7F9-6ED4-4FD3-B01D-62BAC78D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30FC-62F6-4DAB-B074-365816DF26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040" t="0" r="0" b="0"/>
          <a:stretch/>
        </p:blipFill>
        <p:spPr>
          <a:xfrm>
            <a:off x="71280" y="0"/>
            <a:ext cx="678672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933800" y="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loef nr 4 bl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hthoek 3"/>
          <p:cNvSpPr/>
          <p:nvPr/>
        </p:nvSpPr>
        <p:spPr>
          <a:xfrm>
            <a:off x="6143760" y="237960"/>
            <a:ext cx="3571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kstvak 4"/>
          <p:cNvSpPr/>
          <p:nvPr/>
        </p:nvSpPr>
        <p:spPr>
          <a:xfrm>
            <a:off x="5507640" y="9659880"/>
            <a:ext cx="9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23:48Z</dcterms:created>
  <dc:creator>ERIK</dc:creator>
  <dc:description/>
  <dc:language>en-US</dc:language>
  <cp:lastModifiedBy>Erik de backer</cp:lastModifiedBy>
  <dcterms:modified xsi:type="dcterms:W3CDTF">2014-04-09T14:20:22Z</dcterms:modified>
  <cp:revision>3</cp:revision>
  <dc:subject/>
  <dc:title>Geen diatitel</dc:title>
</cp:coreProperties>
</file>