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850-564C-4B68-A4B5-5C4A36E2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364-BD2A-42A4-B3DF-D0A10C67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F66-1DA4-46FF-908B-8B9833FE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150-2EF3-4E1C-A441-FB35E578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BDE-8172-4398-9694-CBC79F98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8D8-2885-44B1-9E69-413B14C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409-7D89-4AD3-BE9C-DF69D0E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C0E-7DB0-4276-89B6-5182B0E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FCB-83DB-4904-ADCF-B0114B14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193-1BDA-48A8-9948-F4991FA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F5C-D6D1-40C8-92B5-D897BD8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DEC-E0AB-4428-B4EC-23749AF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54F-FE46-4975-A168-7DEB9C78CA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1036" b="0"/>
          <a:stretch/>
        </p:blipFill>
        <p:spPr>
          <a:xfrm>
            <a:off x="-42840" y="0"/>
            <a:ext cx="682956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21956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4 b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21:07Z</dcterms:created>
  <dc:creator>ERIK</dc:creator>
  <dc:description/>
  <dc:language>en-US</dc:language>
  <cp:lastModifiedBy>Erik de backer</cp:lastModifiedBy>
  <dcterms:modified xsi:type="dcterms:W3CDTF">2014-04-09T14:04:36Z</dcterms:modified>
  <cp:revision>3</cp:revision>
  <dc:subject/>
  <dc:title>Geen diatitel</dc:title>
</cp:coreProperties>
</file>