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6C2-B67E-4E16-817C-1238A363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888-28EE-4E86-AF69-38B4C208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8AF-F558-457E-9001-62832B3D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56F-7616-4589-8560-6D4428B6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3A3-5312-43EC-BCE6-4C2E2A71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79B-5EE1-482C-AA09-39EF1504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F3C-BD16-4C9E-B259-65BF9D0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07C-C214-4D2F-8E49-C37BF241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301-EA28-434E-B427-9F1E4E8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D71-ADD2-469F-A161-49808A3A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B71-4E82-45F2-85AD-867065D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4F1-BAFE-477C-A94F-7FEA10FD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E2F7-F580-4491-B73E-12EC21E680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1036" b="0"/>
          <a:stretch/>
        </p:blipFill>
        <p:spPr>
          <a:xfrm>
            <a:off x="-42840" y="0"/>
            <a:ext cx="682956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21956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4 bl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21:07Z</dcterms:created>
  <dc:creator>ERIK</dc:creator>
  <dc:description/>
  <dc:language>en-US</dc:language>
  <cp:lastModifiedBy>Erik de backer</cp:lastModifiedBy>
  <dcterms:modified xsi:type="dcterms:W3CDTF">2014-04-09T14:04:36Z</dcterms:modified>
  <cp:revision>3</cp:revision>
  <dc:subject/>
  <dc:title>Geen diatitel</dc:title>
</cp:coreProperties>
</file>