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16B-3AFC-4FCB-82E8-4A697095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760-AD96-49F5-8E9C-0563C397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F42-040C-4814-8E6F-7ABB3C85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42A-06F2-41C7-91A2-BC79CC40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9AB-9CA6-46F9-AFBA-A8B337D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60C-1365-4EF9-9068-644EDEA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905-B0AA-4752-9789-B24B5516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C2B-3C90-4338-98F3-E5187C42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D3F-D61C-4C40-B2AA-BDBFCC4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E7E-063C-4D56-A57D-FAC3E1D2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0F5-1DED-4390-854C-400C5BA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353-6620-43E0-AC17-4A11FAB6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7C8-025B-4921-A9F7-9E8D12071D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Rechthoek 2"/>
          <p:cNvSpPr/>
          <p:nvPr/>
        </p:nvSpPr>
        <p:spPr>
          <a:xfrm>
            <a:off x="1000080" y="66672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hte verbindingslijn 4"/>
          <p:cNvSpPr/>
          <p:nvPr/>
        </p:nvSpPr>
        <p:spPr>
          <a:xfrm>
            <a:off x="928800" y="8096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hthoek 5"/>
          <p:cNvSpPr/>
          <p:nvPr/>
        </p:nvSpPr>
        <p:spPr>
          <a:xfrm>
            <a:off x="5715000" y="809640"/>
            <a:ext cx="2142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8:57:13Z</dcterms:created>
  <dc:creator>ERIK</dc:creator>
  <dc:description/>
  <dc:language>en-US</dc:language>
  <cp:lastModifiedBy>Erik de backer</cp:lastModifiedBy>
  <dcterms:modified xsi:type="dcterms:W3CDTF">2014-04-09T16:15:37Z</dcterms:modified>
  <cp:revision>2</cp:revision>
  <dc:subject/>
  <dc:title>Geen diatitel</dc:title>
</cp:coreProperties>
</file>