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1D2-5FEA-4ADF-AF72-24792ADD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EB4-2377-44CA-BA24-13878B8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DAC-93BD-4816-B924-C007544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A19-756E-4A06-8796-0B3E9D24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CC5-83F3-4E0F-AF76-75808FB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D3E-8F09-4251-A050-D25701F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620-B8E8-4D67-B314-3316F59C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DB0-B717-40A5-BBC5-5FAFB86D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8D8-4C08-403F-A51E-037173F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AA7-EFB5-44D2-A455-7FE8290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1EC-F9C4-4708-9462-235A10B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4FC-E943-4F44-8AFA-AEAFFC1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AC6-1679-4F85-8809-D4602BC851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Rechthoek 2"/>
          <p:cNvSpPr/>
          <p:nvPr/>
        </p:nvSpPr>
        <p:spPr>
          <a:xfrm>
            <a:off x="1000080" y="66672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e verbindingslijn 4"/>
          <p:cNvSpPr/>
          <p:nvPr/>
        </p:nvSpPr>
        <p:spPr>
          <a:xfrm>
            <a:off x="928800" y="8096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hthoek 5"/>
          <p:cNvSpPr/>
          <p:nvPr/>
        </p:nvSpPr>
        <p:spPr>
          <a:xfrm>
            <a:off x="5715000" y="809640"/>
            <a:ext cx="214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8:57:13Z</dcterms:created>
  <dc:creator>ERIK</dc:creator>
  <dc:description/>
  <dc:language>en-US</dc:language>
  <cp:lastModifiedBy>Erik de backer</cp:lastModifiedBy>
  <dcterms:modified xsi:type="dcterms:W3CDTF">2014-04-09T16:15:37Z</dcterms:modified>
  <cp:revision>2</cp:revision>
  <dc:subject/>
  <dc:title>Geen diatitel</dc:title>
</cp:coreProperties>
</file>