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875-D37C-4327-A870-0FD54AC6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9A5-6CBB-40FB-B7D8-861FC28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D42-F151-432D-ADF2-7BD2B721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7D5-01F4-4AB2-AF9F-16DA96F9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E45-C7FD-4445-93AC-769B4545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FDA-DA31-4CA1-9481-CBF98D9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DE4-6952-4723-A0E6-9F3EFC9E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CED-DFE3-426D-AC59-81F0BFBC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3D4-3962-4932-AA20-029DA789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0BF-F6CA-4951-A3ED-2FA04B0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DAB-3815-4B9E-ADD7-9F93FB6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26F-1483-4E07-9A4C-64CA7EF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3FD-7954-4A7E-BFDF-A085310C81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5505480" y="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Dokloef nr 3 bld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1:24:43Z</dcterms:created>
  <dc:creator>ERIK</dc:creator>
  <dc:description/>
  <dc:language>en-US</dc:language>
  <cp:lastModifiedBy>Erik de backer</cp:lastModifiedBy>
  <dcterms:modified xsi:type="dcterms:W3CDTF">2014-04-09T13:48:45Z</dcterms:modified>
  <cp:revision>2</cp:revision>
  <dc:subject/>
  <dc:title>Geen diatitel</dc:title>
</cp:coreProperties>
</file>