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114A-92EA-434A-821C-869021D2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C857-F94C-4C05-B78B-A807E6DD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361A-0EC1-4CD8-9DEA-114E7B556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8D82-9964-4886-9BF9-3BF58FCF0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57A5-F969-44CD-8F71-365E7C29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079F-E6E1-44BE-AD5B-D3547AD5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0FF3-B2F5-4EC4-9509-0DC492C3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00CD-E58E-4216-97DF-C9916DEE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A08C-1AD6-4D5C-A5BA-71D46ED9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97F3-3D18-4A81-81CD-C058FA95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DA92-BE44-4CD0-8E02-F54CA03C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18F1-6C4D-4ABF-9F72-945505EC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CEDB-65F5-40F1-A66D-5B3A5F2B64E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42" name="Tekstvak 2"/>
          <p:cNvSpPr/>
          <p:nvPr/>
        </p:nvSpPr>
        <p:spPr>
          <a:xfrm>
            <a:off x="5505480" y="0"/>
            <a:ext cx="11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Times New Roman"/>
              </a:rPr>
              <a:t>Dokloef nr 3 bld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21:24:43Z</dcterms:created>
  <dc:creator>ERIK</dc:creator>
  <dc:description/>
  <dc:language>en-US</dc:language>
  <cp:lastModifiedBy>Erik de backer</cp:lastModifiedBy>
  <dcterms:modified xsi:type="dcterms:W3CDTF">2014-04-09T13:48:45Z</dcterms:modified>
  <cp:revision>2</cp:revision>
  <dc:subject/>
  <dc:title>Geen diatitel</dc:title>
</cp:coreProperties>
</file>