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A73-E5A1-4CFE-B222-85D890F5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661-1214-4672-AD4B-1C038EC0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B26-B8D6-4705-A050-C7BCF00E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676-6BDE-4E7B-86E2-8A22C2FF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F5D-6012-42AF-9AED-06EE3991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A7C-6B40-49B2-BBE8-42E5BDA4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79B-189D-4FB3-ABD5-11996222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521-3EF6-4C39-9EE3-C66110DC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107-53A6-46A9-9DE6-49FEEB0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F59-6413-4843-B704-C92D2333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AFA-C7C3-448B-B752-A70AD30A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0EA-5BB6-49EC-BFE1-BC647812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DE2A-57A6-4BDC-97F8-FD0DB1799E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 flipH="1">
            <a:off x="228240" y="1522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5292720" y="16668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2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51:59Z</dcterms:created>
  <dc:creator>ERIK</dc:creator>
  <dc:description/>
  <dc:language>en-US</dc:language>
  <cp:lastModifiedBy>Erik de backer</cp:lastModifiedBy>
  <dcterms:modified xsi:type="dcterms:W3CDTF">2014-04-09T10:09:46Z</dcterms:modified>
  <cp:revision>2</cp:revision>
  <dc:subject/>
  <dc:title>Geen diatitel</dc:title>
</cp:coreProperties>
</file>