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C646-7C09-4062-983C-21DE2450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F145-F0A4-45B1-9024-EFCAB314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1FA7-B6F4-4800-B38A-071F3DFD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4BB9-A848-4347-AD2E-6379B2D2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4F68-BBDE-4B19-96E2-DEB5C2E4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BA51-71AF-4E32-BD13-F3D93ABA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B503-CAA0-4872-937B-461E9B4E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883F-CD49-4FAB-AE8B-DD308202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33EA-78E5-47DC-A2B8-054AC55A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DBB9-4C9A-4431-ACB1-C852D672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A051-7EF1-4CFE-B4AE-9BC06D9C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C646-4841-43BD-B974-F376D450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8C72-4E4F-4F7D-8D9A-4ECC736D34B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Line 3"/>
          <p:cNvSpPr/>
          <p:nvPr/>
        </p:nvSpPr>
        <p:spPr>
          <a:xfrm flipH="1">
            <a:off x="228240" y="1522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kstvak 3"/>
          <p:cNvSpPr/>
          <p:nvPr/>
        </p:nvSpPr>
        <p:spPr>
          <a:xfrm>
            <a:off x="5292720" y="166680"/>
            <a:ext cx="13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Times New Roman"/>
              </a:rPr>
              <a:t>Donksekloef nr 2 bld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1:51:59Z</dcterms:created>
  <dc:creator>ERIK</dc:creator>
  <dc:description/>
  <dc:language>en-US</dc:language>
  <cp:lastModifiedBy>Erik de backer</cp:lastModifiedBy>
  <dcterms:modified xsi:type="dcterms:W3CDTF">2014-04-09T10:09:46Z</dcterms:modified>
  <cp:revision>2</cp:revision>
  <dc:subject/>
  <dc:title>Geen diatitel</dc:title>
</cp:coreProperties>
</file>