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C0AF-7698-40CD-A827-202ABE265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1A46-79C9-4392-8677-BC475629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7A97-98EC-48FE-A5F0-440488A7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87E4-5B63-481A-AE94-E68C307D5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7449-3827-4B48-BA11-FE27F9C1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F07E-5CDD-46BA-A79C-69CE1A15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5D64-5E34-44EB-9825-832F363F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B844-C452-4D54-B83A-BD9746C4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9A38-11C0-456E-8A9E-1BE4DB36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A2D4-98E5-4105-92E5-7E1D6001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B2EA-6FB5-4A5D-B598-10917B79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C67D-6F7A-485F-97D2-8D597722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51DC-AF9A-4A64-A015-B433BD64FF1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42" name="Rechthoek 2"/>
          <p:cNvSpPr/>
          <p:nvPr/>
        </p:nvSpPr>
        <p:spPr>
          <a:xfrm>
            <a:off x="6286680" y="166680"/>
            <a:ext cx="35712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kstvak 3"/>
          <p:cNvSpPr/>
          <p:nvPr/>
        </p:nvSpPr>
        <p:spPr>
          <a:xfrm>
            <a:off x="5433840" y="166680"/>
            <a:ext cx="11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Times New Roman"/>
              </a:rPr>
              <a:t>Dokloef nr 2 bld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kstvak 4"/>
          <p:cNvSpPr/>
          <p:nvPr/>
        </p:nvSpPr>
        <p:spPr>
          <a:xfrm>
            <a:off x="5650560" y="9659880"/>
            <a:ext cx="9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1:44:46Z</dcterms:created>
  <dc:creator>ERIK</dc:creator>
  <dc:description/>
  <dc:language>en-US</dc:language>
  <cp:lastModifiedBy>Erik de backer</cp:lastModifiedBy>
  <dcterms:modified xsi:type="dcterms:W3CDTF">2014-04-09T10:08:08Z</dcterms:modified>
  <cp:revision>2</cp:revision>
  <dc:subject/>
  <dc:title>Geen diatitel</dc:title>
</cp:coreProperties>
</file>