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C27-D83E-46EE-88C6-DE24EC61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7BD-9E35-4551-96F8-4DC933D0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987-EEA2-4BE3-A1C5-2003A8C3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7D3-C186-48D0-A23B-6015F55F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55D9-4F5B-4A91-B43A-158A5053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F4D-C922-4028-8302-705D54C4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C91-F0D9-48D3-AE4C-30DF3A30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E45-CF67-4C46-AFB7-EE5E8CA6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CFC-EE70-4079-B821-0443557E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DB5-D5CF-4C7E-AE7E-C35DBA61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616-38B7-4EF0-B165-E387C60B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A46-CD52-4986-99DF-E5168A2B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FFBB-3355-4F4A-85C5-5F01FCC23B9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Rechthoek 2"/>
          <p:cNvSpPr/>
          <p:nvPr/>
        </p:nvSpPr>
        <p:spPr>
          <a:xfrm>
            <a:off x="6286680" y="166680"/>
            <a:ext cx="3571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5433840" y="16668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kloef nr 2 bl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kstvak 4"/>
          <p:cNvSpPr/>
          <p:nvPr/>
        </p:nvSpPr>
        <p:spPr>
          <a:xfrm>
            <a:off x="5650560" y="9659880"/>
            <a:ext cx="9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Erik De Ba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1:44:46Z</dcterms:created>
  <dc:creator>ERIK</dc:creator>
  <dc:description/>
  <dc:language>en-US</dc:language>
  <cp:lastModifiedBy>Erik de backer</cp:lastModifiedBy>
  <dcterms:modified xsi:type="dcterms:W3CDTF">2014-04-09T10:08:08Z</dcterms:modified>
  <cp:revision>2</cp:revision>
  <dc:subject/>
  <dc:title>Geen diatitel</dc:title>
</cp:coreProperties>
</file>