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08F6-0013-4033-A0C9-BC6BCA51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345-8C59-474E-BE7E-671E1A97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690B-BD4B-48BE-AE9E-08846C96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78B4-6143-4B39-8A9F-A628F858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A8F-870B-4511-AA25-684929A4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A470-0234-4F25-B88B-29FADE64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84EC-6E06-4E3B-8001-048DEDC3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217-7583-4093-B614-BF42B42C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77A-A32B-4FC4-93D4-3C6E5F2D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FB6-A97F-471A-9AC1-F1B1E9CC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20AF-7276-4C8A-B2CB-4398E632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FE49-9ACD-4155-AA02-79E04678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C310-A300-4C76-B744-510688266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84240" y="0"/>
            <a:ext cx="694224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21:15:44Z</dcterms:created>
  <dc:creator>ERIK</dc:creator>
  <dc:description/>
  <dc:language>en-US</dc:language>
  <cp:lastModifiedBy>ERIK</cp:lastModifiedBy>
  <dcterms:modified xsi:type="dcterms:W3CDTF">2008-09-15T21:19:10Z</dcterms:modified>
  <cp:revision>1</cp:revision>
  <dc:subject/>
  <dc:title>Geen diatitel</dc:title>
</cp:coreProperties>
</file>