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1D1-DAB3-41D7-8428-B0206476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8C9-CED8-430C-AEBC-A1305931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149-B2EC-4FB7-AD52-1C707F95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641-FAAF-4460-95D2-A6B6A8D3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B22-401C-48D5-AF27-8317F48E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5D1-3142-4380-B05E-98CCACE1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910-C695-436E-992B-695AD156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510-3F34-473F-A218-243A126A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B41-80BB-4BC2-9D50-C057AC86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0D1-7272-4BCE-B276-19DFDFD2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5E7-2F4B-4BD1-9822-8F3F3E45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806-7B61-4FB6-AB2D-A8D921CB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6145-340F-4556-9286-2A56337F5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84240" y="0"/>
            <a:ext cx="694224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1:15:44Z</dcterms:created>
  <dc:creator>ERIK</dc:creator>
  <dc:description/>
  <dc:language>en-US</dc:language>
  <cp:lastModifiedBy>ERIK</cp:lastModifiedBy>
  <dcterms:modified xsi:type="dcterms:W3CDTF">2008-09-15T21:19:10Z</dcterms:modified>
  <cp:revision>1</cp:revision>
  <dc:subject/>
  <dc:title>Geen diatitel</dc:title>
</cp:coreProperties>
</file>