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5F1-78F7-499A-94E6-0C6E4BDC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05C-62AB-4E17-8B42-00DF70DA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3B9-6FB8-42A1-BA16-4A2D82D9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3F1-F5BD-4873-8D45-DB0EC0D3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F00-27FD-4AA6-82E1-0F45C6D0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1FA-C0D5-4105-AD0C-57CBA37C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63F-BDAE-4CBF-9290-520FB0B6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FBC-BC9F-4C8F-A71A-4A832899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ED4-D125-42E3-9A4E-1E553B7B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7F0-F94A-4287-B391-D1C91E65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7A0-65B3-4E59-AE33-01566E0D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3BF-CF37-4AF7-AED8-57395563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3E5C-54B6-4ADC-AFD4-C86C0F726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922032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400800"/>
            <a:ext cx="3049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905120"/>
            <a:ext cx="3049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9:16:59Z</dcterms:created>
  <dc:creator>ERIK</dc:creator>
  <dc:description/>
  <dc:language>en-US</dc:language>
  <cp:lastModifiedBy>ERIK</cp:lastModifiedBy>
  <dcterms:modified xsi:type="dcterms:W3CDTF">2008-09-15T21:15:11Z</dcterms:modified>
  <cp:revision>1</cp:revision>
  <dc:subject/>
  <dc:title>Geen diatitel</dc:title>
</cp:coreProperties>
</file>