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123-9E64-4F4D-934C-AADB6685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012-9F8B-4E6B-B004-2500C51A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DFF-F0EE-42F1-84EB-42022A83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BEB-11F9-4226-A6EC-B3794927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CE3-1E37-4B87-80C8-95959242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C43-6737-42A1-B5B3-A39CB1F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5FB-36F8-4FF9-9314-3C9A978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1ED-F181-4E63-BBC0-6534480C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855-7A40-4111-B869-AC197F5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C8B-DE2E-4031-AE74-168A7D8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33D-133E-498B-B197-E350EAB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DBF-A09A-4F74-8CEE-21E1CDB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B54-D1BB-457A-BD7F-5F163129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92203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400800"/>
            <a:ext cx="304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905120"/>
            <a:ext cx="304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9:16:59Z</dcterms:created>
  <dc:creator>ERIK</dc:creator>
  <dc:description/>
  <dc:language>en-US</dc:language>
  <cp:lastModifiedBy>ERIK</cp:lastModifiedBy>
  <dcterms:modified xsi:type="dcterms:W3CDTF">2008-09-15T21:15:11Z</dcterms:modified>
  <cp:revision>1</cp:revision>
  <dc:subject/>
  <dc:title>Geen diatitel</dc:title>
</cp:coreProperties>
</file>