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D51-289F-4AF0-9D7C-4D89605C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27C-05AD-4058-90B6-18438ED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840-F588-49DC-B18C-85AB633A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BC1-4387-4867-A908-0FA10599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8EE-7332-4AD0-BB92-D920299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721-7DF8-4381-AF64-C03BD0C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969-6985-4CD1-81EC-F937B357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F7A-BE58-48BF-B32B-336BAB91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1F9-BD48-48C1-8FD3-7283BFE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90F-9650-4AB0-B919-EDA40C7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376-33E2-4191-A675-8B6A611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9DD-6651-477C-AA43-53F7447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DDC-5E5B-4BBD-B02E-E540C577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858000" y="-36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629400" y="914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705720" y="5867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38:59Z</dcterms:created>
  <dc:creator>ERIK</dc:creator>
  <dc:description/>
  <dc:language>en-US</dc:language>
  <cp:lastModifiedBy>ERIK</cp:lastModifiedBy>
  <dcterms:modified xsi:type="dcterms:W3CDTF">2008-09-12T11:43:57Z</dcterms:modified>
  <cp:revision>1</cp:revision>
  <dc:subject/>
  <dc:title>Geen diatitel</dc:title>
</cp:coreProperties>
</file>