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850D-39C4-4FC7-8256-EB5F29142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DF72-DAE4-4CEE-B0C4-135B5048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DB71-357E-4EC0-A5E0-16C1C3C14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164E-5361-4494-B45E-F67773F21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341C-9198-46FE-B60D-88D380F5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C8EB-2A3A-41DD-87B2-3C1D0D32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BE26-8B40-4E10-8983-F384E148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91B8-DE40-444E-B1FD-B677BB84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9FCA-8BC5-44DD-B6D3-9A4D6F5C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FEE1-8F81-4E18-9B3F-8788A953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965D-8346-45E0-8321-41BE8947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C1E2-42C7-4323-89BE-F1027EC2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E02A-E866-416B-AB43-ECD004E1E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89000" y="0"/>
            <a:ext cx="7047000" cy="9906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V="1">
            <a:off x="6858000" y="-360"/>
            <a:ext cx="0" cy="990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6629400" y="914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705720" y="586728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11:38:59Z</dcterms:created>
  <dc:creator>ERIK</dc:creator>
  <dc:description/>
  <dc:language>en-US</dc:language>
  <cp:lastModifiedBy>ERIK</cp:lastModifiedBy>
  <dcterms:modified xsi:type="dcterms:W3CDTF">2008-09-12T11:43:57Z</dcterms:modified>
  <cp:revision>1</cp:revision>
  <dc:subject/>
  <dc:title>Geen diatitel</dc:title>
</cp:coreProperties>
</file>