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8A7-413A-4702-A5E6-9173D379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695-DF58-4E61-A9A9-C0116A3E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134-7802-41DE-A611-0D0FDEC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80-C570-4615-8479-0C387E7F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283-BF2D-432A-91B6-CDFC2BD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F4A-633E-4122-B647-9E9F8D1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4F1-5A29-467F-ABD0-A29F3D9E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352-A5DB-4D6E-B196-A8BF16D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ABB-6FC5-434B-98CE-F107CB6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D40-7911-4994-B9FF-6C502E2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669-E22B-4084-9346-68A64F2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795-0F2E-4D43-BD6A-E6156445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9EB2-A40D-4E54-9F0C-4B2001554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00:29Z</dcterms:created>
  <dc:creator>ERIK</dc:creator>
  <dc:description/>
  <dc:language>en-US</dc:language>
  <cp:lastModifiedBy>ERIK</cp:lastModifiedBy>
  <dcterms:modified xsi:type="dcterms:W3CDTF">2008-12-18T21:02:03Z</dcterms:modified>
  <cp:revision>1</cp:revision>
  <dc:subject/>
  <dc:title>Geen diatitel</dc:title>
</cp:coreProperties>
</file>