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D9B-CABC-4F49-A7FE-26D81E5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BE5-60A9-4D30-94C1-1C668201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143-64BC-4BF6-9EA0-9B3FFA54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320-3298-48B3-8DF3-B892435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C91-0282-4616-842F-ED9FD16D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1AB-D69F-4E65-B9B9-B6864254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DDD-7D97-40C8-B2D3-C9CF79A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283-64F4-4E26-B8F4-8F2FE53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C95-9F3C-499B-8C6C-29D0542E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706-70AD-477F-8541-AB5B840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100-2442-4E0D-BEBF-2D4D951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3A0-87D9-40C3-A364-43FAAA78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5F7-3CE2-40C4-B575-8271555F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1:00:29Z</dcterms:created>
  <dc:creator>ERIK</dc:creator>
  <dc:description/>
  <dc:language>en-US</dc:language>
  <cp:lastModifiedBy>ERIK</cp:lastModifiedBy>
  <dcterms:modified xsi:type="dcterms:W3CDTF">2008-12-18T21:02:03Z</dcterms:modified>
  <cp:revision>1</cp:revision>
  <dc:subject/>
  <dc:title>Geen diatitel</dc:title>
</cp:coreProperties>
</file>