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432-97C9-47F6-AB56-2B0C0E43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CDA-0AEC-4A8B-83E2-C05FDFA2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D2C-4FB9-4370-864C-E6A7C164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BDB-D283-45D8-90BF-336C2B9A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6E6-D139-420D-9CB1-0ADCA3DA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D0A-67B3-4381-B982-6B7EC9D3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5AE-8D3B-4F85-8C75-D4B15F91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2FE-DB91-4B9D-8030-E2C0DCC6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A4B-06BF-4EF4-93D5-066535EA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811-E1C5-4877-924F-F156F6C2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279-8B7A-43FB-866C-1FB4642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C8A-FBBA-4856-9A9E-AE618568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367B-02FE-429D-BE61-1AB71BFDB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9296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33520" y="380880"/>
            <a:ext cx="0" cy="876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400800" y="380520"/>
            <a:ext cx="0" cy="891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572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33520" y="32004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33160" y="1905120"/>
            <a:ext cx="57150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52520" y="7940520"/>
            <a:ext cx="3772080" cy="1270080"/>
          </a:xfrm>
          <a:custGeom>
            <a:avLst/>
            <a:gdLst/>
            <a:ahLst/>
            <a:rect l="l" t="t" r="r" b="b"/>
            <a:pathLst>
              <a:path w="2376" h="800">
                <a:moveTo>
                  <a:pt x="162" y="566"/>
                </a:moveTo>
                <a:cubicBezTo>
                  <a:pt x="128" y="577"/>
                  <a:pt x="94" y="585"/>
                  <a:pt x="60" y="596"/>
                </a:cubicBezTo>
                <a:cubicBezTo>
                  <a:pt x="26" y="589"/>
                  <a:pt x="19" y="582"/>
                  <a:pt x="0" y="554"/>
                </a:cubicBezTo>
                <a:cubicBezTo>
                  <a:pt x="2" y="528"/>
                  <a:pt x="3" y="502"/>
                  <a:pt x="6" y="476"/>
                </a:cubicBezTo>
                <a:cubicBezTo>
                  <a:pt x="12" y="430"/>
                  <a:pt x="77" y="333"/>
                  <a:pt x="114" y="308"/>
                </a:cubicBezTo>
                <a:cubicBezTo>
                  <a:pt x="141" y="267"/>
                  <a:pt x="147" y="270"/>
                  <a:pt x="156" y="218"/>
                </a:cubicBezTo>
                <a:cubicBezTo>
                  <a:pt x="149" y="169"/>
                  <a:pt x="136" y="123"/>
                  <a:pt x="126" y="74"/>
                </a:cubicBezTo>
                <a:cubicBezTo>
                  <a:pt x="134" y="41"/>
                  <a:pt x="142" y="46"/>
                  <a:pt x="174" y="38"/>
                </a:cubicBezTo>
                <a:cubicBezTo>
                  <a:pt x="203" y="57"/>
                  <a:pt x="201" y="90"/>
                  <a:pt x="210" y="122"/>
                </a:cubicBezTo>
                <a:cubicBezTo>
                  <a:pt x="213" y="134"/>
                  <a:pt x="211" y="152"/>
                  <a:pt x="222" y="158"/>
                </a:cubicBezTo>
                <a:cubicBezTo>
                  <a:pt x="248" y="171"/>
                  <a:pt x="267" y="185"/>
                  <a:pt x="288" y="206"/>
                </a:cubicBezTo>
                <a:cubicBezTo>
                  <a:pt x="311" y="171"/>
                  <a:pt x="286" y="155"/>
                  <a:pt x="270" y="122"/>
                </a:cubicBezTo>
                <a:cubicBezTo>
                  <a:pt x="304" y="100"/>
                  <a:pt x="309" y="115"/>
                  <a:pt x="324" y="146"/>
                </a:cubicBezTo>
                <a:cubicBezTo>
                  <a:pt x="330" y="181"/>
                  <a:pt x="327" y="208"/>
                  <a:pt x="366" y="182"/>
                </a:cubicBezTo>
                <a:cubicBezTo>
                  <a:pt x="379" y="138"/>
                  <a:pt x="383" y="136"/>
                  <a:pt x="408" y="104"/>
                </a:cubicBezTo>
                <a:cubicBezTo>
                  <a:pt x="421" y="87"/>
                  <a:pt x="431" y="63"/>
                  <a:pt x="450" y="50"/>
                </a:cubicBezTo>
                <a:cubicBezTo>
                  <a:pt x="525" y="0"/>
                  <a:pt x="653" y="11"/>
                  <a:pt x="732" y="8"/>
                </a:cubicBezTo>
                <a:cubicBezTo>
                  <a:pt x="792" y="12"/>
                  <a:pt x="813" y="9"/>
                  <a:pt x="864" y="26"/>
                </a:cubicBezTo>
                <a:cubicBezTo>
                  <a:pt x="895" y="36"/>
                  <a:pt x="917" y="61"/>
                  <a:pt x="948" y="74"/>
                </a:cubicBezTo>
                <a:cubicBezTo>
                  <a:pt x="990" y="116"/>
                  <a:pt x="1022" y="165"/>
                  <a:pt x="1056" y="212"/>
                </a:cubicBezTo>
                <a:cubicBezTo>
                  <a:pt x="1074" y="237"/>
                  <a:pt x="1092" y="275"/>
                  <a:pt x="1122" y="290"/>
                </a:cubicBezTo>
                <a:cubicBezTo>
                  <a:pt x="1167" y="312"/>
                  <a:pt x="1216" y="326"/>
                  <a:pt x="1260" y="350"/>
                </a:cubicBezTo>
                <a:cubicBezTo>
                  <a:pt x="1275" y="358"/>
                  <a:pt x="1287" y="372"/>
                  <a:pt x="1302" y="380"/>
                </a:cubicBezTo>
                <a:cubicBezTo>
                  <a:pt x="1377" y="422"/>
                  <a:pt x="1299" y="377"/>
                  <a:pt x="1374" y="410"/>
                </a:cubicBezTo>
                <a:cubicBezTo>
                  <a:pt x="1397" y="420"/>
                  <a:pt x="1413" y="444"/>
                  <a:pt x="1434" y="458"/>
                </a:cubicBezTo>
                <a:cubicBezTo>
                  <a:pt x="1544" y="436"/>
                  <a:pt x="1658" y="452"/>
                  <a:pt x="1770" y="458"/>
                </a:cubicBezTo>
                <a:cubicBezTo>
                  <a:pt x="1797" y="553"/>
                  <a:pt x="1789" y="585"/>
                  <a:pt x="1854" y="650"/>
                </a:cubicBezTo>
                <a:cubicBezTo>
                  <a:pt x="1882" y="734"/>
                  <a:pt x="1953" y="739"/>
                  <a:pt x="2034" y="752"/>
                </a:cubicBezTo>
                <a:cubicBezTo>
                  <a:pt x="2137" y="747"/>
                  <a:pt x="2224" y="743"/>
                  <a:pt x="2322" y="710"/>
                </a:cubicBezTo>
                <a:cubicBezTo>
                  <a:pt x="2346" y="726"/>
                  <a:pt x="2358" y="758"/>
                  <a:pt x="2376" y="782"/>
                </a:cubicBezTo>
                <a:cubicBezTo>
                  <a:pt x="2374" y="788"/>
                  <a:pt x="2376" y="800"/>
                  <a:pt x="2370" y="800"/>
                </a:cubicBezTo>
                <a:cubicBezTo>
                  <a:pt x="2364" y="800"/>
                  <a:pt x="2368" y="786"/>
                  <a:pt x="2364" y="782"/>
                </a:cubicBezTo>
                <a:cubicBezTo>
                  <a:pt x="2355" y="773"/>
                  <a:pt x="2339" y="771"/>
                  <a:pt x="2328" y="764"/>
                </a:cubicBezTo>
                <a:cubicBezTo>
                  <a:pt x="2312" y="715"/>
                  <a:pt x="2288" y="739"/>
                  <a:pt x="2250" y="752"/>
                </a:cubicBezTo>
                <a:cubicBezTo>
                  <a:pt x="2238" y="756"/>
                  <a:pt x="2214" y="764"/>
                  <a:pt x="2214" y="764"/>
                </a:cubicBezTo>
                <a:cubicBezTo>
                  <a:pt x="2188" y="762"/>
                  <a:pt x="2162" y="762"/>
                  <a:pt x="2136" y="758"/>
                </a:cubicBezTo>
                <a:cubicBezTo>
                  <a:pt x="2124" y="756"/>
                  <a:pt x="2100" y="746"/>
                  <a:pt x="2100" y="746"/>
                </a:cubicBezTo>
                <a:cubicBezTo>
                  <a:pt x="2062" y="754"/>
                  <a:pt x="2024" y="762"/>
                  <a:pt x="1986" y="770"/>
                </a:cubicBezTo>
                <a:lnTo>
                  <a:pt x="1908" y="728"/>
                </a:lnTo>
                <a:cubicBezTo>
                  <a:pt x="1908" y="728"/>
                  <a:pt x="1908" y="728"/>
                  <a:pt x="1908" y="728"/>
                </a:cubicBezTo>
                <a:cubicBezTo>
                  <a:pt x="1848" y="713"/>
                  <a:pt x="1876" y="721"/>
                  <a:pt x="1824" y="704"/>
                </a:cubicBezTo>
                <a:cubicBezTo>
                  <a:pt x="1800" y="669"/>
                  <a:pt x="1795" y="618"/>
                  <a:pt x="1782" y="578"/>
                </a:cubicBezTo>
                <a:cubicBezTo>
                  <a:pt x="1777" y="562"/>
                  <a:pt x="1762" y="550"/>
                  <a:pt x="1752" y="536"/>
                </a:cubicBezTo>
                <a:cubicBezTo>
                  <a:pt x="1748" y="518"/>
                  <a:pt x="1749" y="498"/>
                  <a:pt x="1740" y="482"/>
                </a:cubicBezTo>
                <a:cubicBezTo>
                  <a:pt x="1728" y="460"/>
                  <a:pt x="1694" y="475"/>
                  <a:pt x="1680" y="476"/>
                </a:cubicBezTo>
                <a:cubicBezTo>
                  <a:pt x="1620" y="479"/>
                  <a:pt x="1560" y="480"/>
                  <a:pt x="1500" y="482"/>
                </a:cubicBezTo>
                <a:cubicBezTo>
                  <a:pt x="1427" y="467"/>
                  <a:pt x="1511" y="493"/>
                  <a:pt x="1458" y="440"/>
                </a:cubicBezTo>
                <a:cubicBezTo>
                  <a:pt x="1449" y="431"/>
                  <a:pt x="1434" y="432"/>
                  <a:pt x="1422" y="428"/>
                </a:cubicBezTo>
                <a:cubicBezTo>
                  <a:pt x="1401" y="442"/>
                  <a:pt x="1402" y="464"/>
                  <a:pt x="1380" y="470"/>
                </a:cubicBezTo>
                <a:cubicBezTo>
                  <a:pt x="1364" y="474"/>
                  <a:pt x="1348" y="474"/>
                  <a:pt x="1332" y="476"/>
                </a:cubicBezTo>
                <a:cubicBezTo>
                  <a:pt x="1181" y="526"/>
                  <a:pt x="867" y="489"/>
                  <a:pt x="786" y="488"/>
                </a:cubicBezTo>
                <a:cubicBezTo>
                  <a:pt x="748" y="482"/>
                  <a:pt x="709" y="479"/>
                  <a:pt x="672" y="470"/>
                </a:cubicBezTo>
                <a:cubicBezTo>
                  <a:pt x="564" y="475"/>
                  <a:pt x="448" y="476"/>
                  <a:pt x="342" y="500"/>
                </a:cubicBezTo>
                <a:cubicBezTo>
                  <a:pt x="293" y="511"/>
                  <a:pt x="255" y="541"/>
                  <a:pt x="204" y="548"/>
                </a:cubicBezTo>
                <a:cubicBezTo>
                  <a:pt x="171" y="559"/>
                  <a:pt x="150" y="569"/>
                  <a:pt x="120" y="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600200" y="8458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8153280"/>
            <a:ext cx="457200" cy="747720"/>
          </a:xfrm>
          <a:custGeom>
            <a:avLst/>
            <a:gdLst/>
            <a:ahLst/>
            <a:rect l="l" t="t" r="r" b="b"/>
            <a:pathLst>
              <a:path w="288" h="471">
                <a:moveTo>
                  <a:pt x="282" y="30"/>
                </a:moveTo>
                <a:cubicBezTo>
                  <a:pt x="241" y="16"/>
                  <a:pt x="202" y="13"/>
                  <a:pt x="162" y="0"/>
                </a:cubicBezTo>
                <a:cubicBezTo>
                  <a:pt x="119" y="14"/>
                  <a:pt x="127" y="17"/>
                  <a:pt x="96" y="48"/>
                </a:cubicBezTo>
                <a:cubicBezTo>
                  <a:pt x="89" y="69"/>
                  <a:pt x="79" y="87"/>
                  <a:pt x="72" y="108"/>
                </a:cubicBezTo>
                <a:cubicBezTo>
                  <a:pt x="74" y="141"/>
                  <a:pt x="71" y="296"/>
                  <a:pt x="120" y="312"/>
                </a:cubicBezTo>
                <a:cubicBezTo>
                  <a:pt x="133" y="331"/>
                  <a:pt x="149" y="347"/>
                  <a:pt x="162" y="366"/>
                </a:cubicBezTo>
                <a:cubicBezTo>
                  <a:pt x="129" y="374"/>
                  <a:pt x="90" y="380"/>
                  <a:pt x="60" y="396"/>
                </a:cubicBezTo>
                <a:cubicBezTo>
                  <a:pt x="0" y="429"/>
                  <a:pt x="48" y="414"/>
                  <a:pt x="0" y="426"/>
                </a:cubicBezTo>
                <a:cubicBezTo>
                  <a:pt x="6" y="430"/>
                  <a:pt x="11" y="438"/>
                  <a:pt x="18" y="438"/>
                </a:cubicBezTo>
                <a:cubicBezTo>
                  <a:pt x="59" y="438"/>
                  <a:pt x="29" y="406"/>
                  <a:pt x="54" y="444"/>
                </a:cubicBezTo>
                <a:cubicBezTo>
                  <a:pt x="72" y="391"/>
                  <a:pt x="86" y="440"/>
                  <a:pt x="90" y="462"/>
                </a:cubicBezTo>
                <a:cubicBezTo>
                  <a:pt x="124" y="410"/>
                  <a:pt x="79" y="471"/>
                  <a:pt x="120" y="438"/>
                </a:cubicBezTo>
                <a:cubicBezTo>
                  <a:pt x="176" y="393"/>
                  <a:pt x="95" y="445"/>
                  <a:pt x="138" y="402"/>
                </a:cubicBezTo>
                <a:cubicBezTo>
                  <a:pt x="151" y="389"/>
                  <a:pt x="174" y="393"/>
                  <a:pt x="192" y="390"/>
                </a:cubicBezTo>
                <a:cubicBezTo>
                  <a:pt x="209" y="356"/>
                  <a:pt x="214" y="360"/>
                  <a:pt x="258" y="360"/>
                </a:cubicBezTo>
                <a:lnTo>
                  <a:pt x="288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66760" y="8134200"/>
            <a:ext cx="125640" cy="457200"/>
          </a:xfrm>
          <a:custGeom>
            <a:avLst/>
            <a:gdLst/>
            <a:ahLst/>
            <a:rect l="l" t="t" r="r" b="b"/>
            <a:pathLst>
              <a:path w="79" h="288">
                <a:moveTo>
                  <a:pt x="24" y="0"/>
                </a:moveTo>
                <a:cubicBezTo>
                  <a:pt x="35" y="7"/>
                  <a:pt x="53" y="18"/>
                  <a:pt x="60" y="30"/>
                </a:cubicBezTo>
                <a:cubicBezTo>
                  <a:pt x="66" y="41"/>
                  <a:pt x="68" y="54"/>
                  <a:pt x="72" y="66"/>
                </a:cubicBezTo>
                <a:cubicBezTo>
                  <a:pt x="74" y="72"/>
                  <a:pt x="78" y="84"/>
                  <a:pt x="78" y="84"/>
                </a:cubicBezTo>
                <a:cubicBezTo>
                  <a:pt x="75" y="108"/>
                  <a:pt x="79" y="136"/>
                  <a:pt x="66" y="156"/>
                </a:cubicBezTo>
                <a:cubicBezTo>
                  <a:pt x="31" y="209"/>
                  <a:pt x="0" y="219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8696160"/>
            <a:ext cx="361800" cy="277920"/>
          </a:xfrm>
          <a:custGeom>
            <a:avLst/>
            <a:gdLst/>
            <a:ahLst/>
            <a:rect l="l" t="t" r="r" b="b"/>
            <a:pathLst>
              <a:path w="228" h="175">
                <a:moveTo>
                  <a:pt x="180" y="0"/>
                </a:moveTo>
                <a:cubicBezTo>
                  <a:pt x="151" y="19"/>
                  <a:pt x="164" y="5"/>
                  <a:pt x="150" y="48"/>
                </a:cubicBezTo>
                <a:lnTo>
                  <a:pt x="144" y="66"/>
                </a:lnTo>
                <a:cubicBezTo>
                  <a:pt x="144" y="66"/>
                  <a:pt x="90" y="84"/>
                  <a:pt x="90" y="84"/>
                </a:cubicBezTo>
                <a:cubicBezTo>
                  <a:pt x="76" y="89"/>
                  <a:pt x="68" y="103"/>
                  <a:pt x="54" y="108"/>
                </a:cubicBezTo>
                <a:cubicBezTo>
                  <a:pt x="11" y="122"/>
                  <a:pt x="29" y="113"/>
                  <a:pt x="0" y="132"/>
                </a:cubicBezTo>
                <a:cubicBezTo>
                  <a:pt x="8" y="134"/>
                  <a:pt x="18" y="133"/>
                  <a:pt x="24" y="138"/>
                </a:cubicBezTo>
                <a:cubicBezTo>
                  <a:pt x="40" y="151"/>
                  <a:pt x="17" y="175"/>
                  <a:pt x="42" y="138"/>
                </a:cubicBezTo>
                <a:cubicBezTo>
                  <a:pt x="52" y="168"/>
                  <a:pt x="64" y="150"/>
                  <a:pt x="96" y="144"/>
                </a:cubicBezTo>
                <a:cubicBezTo>
                  <a:pt x="98" y="132"/>
                  <a:pt x="95" y="118"/>
                  <a:pt x="102" y="108"/>
                </a:cubicBezTo>
                <a:cubicBezTo>
                  <a:pt x="110" y="96"/>
                  <a:pt x="138" y="84"/>
                  <a:pt x="138" y="84"/>
                </a:cubicBezTo>
                <a:cubicBezTo>
                  <a:pt x="190" y="101"/>
                  <a:pt x="185" y="50"/>
                  <a:pt x="198" y="12"/>
                </a:cubicBezTo>
                <a:cubicBezTo>
                  <a:pt x="200" y="5"/>
                  <a:pt x="222" y="6"/>
                  <a:pt x="228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79680" y="8058240"/>
            <a:ext cx="115920" cy="260280"/>
          </a:xfrm>
          <a:custGeom>
            <a:avLst/>
            <a:gdLst/>
            <a:ahLst/>
            <a:rect l="l" t="t" r="r" b="b"/>
            <a:pathLst>
              <a:path w="73" h="164">
                <a:moveTo>
                  <a:pt x="31" y="0"/>
                </a:moveTo>
                <a:cubicBezTo>
                  <a:pt x="0" y="47"/>
                  <a:pt x="33" y="108"/>
                  <a:pt x="49" y="156"/>
                </a:cubicBezTo>
                <a:cubicBezTo>
                  <a:pt x="52" y="164"/>
                  <a:pt x="65" y="160"/>
                  <a:pt x="73" y="162"/>
                </a:cubicBezTo>
                <a:cubicBezTo>
                  <a:pt x="69" y="156"/>
                  <a:pt x="62" y="151"/>
                  <a:pt x="61" y="144"/>
                </a:cubicBezTo>
                <a:cubicBezTo>
                  <a:pt x="60" y="138"/>
                  <a:pt x="68" y="132"/>
                  <a:pt x="67" y="126"/>
                </a:cubicBezTo>
                <a:cubicBezTo>
                  <a:pt x="63" y="87"/>
                  <a:pt x="62" y="92"/>
                  <a:pt x="37" y="84"/>
                </a:cubicBezTo>
                <a:cubicBezTo>
                  <a:pt x="28" y="32"/>
                  <a:pt x="31" y="60"/>
                  <a:pt x="31" y="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1:13:37Z</dcterms:created>
  <dc:creator>ERIK</dc:creator>
  <dc:description/>
  <dc:language>en-US</dc:language>
  <cp:lastModifiedBy>ERIK</cp:lastModifiedBy>
  <dcterms:modified xsi:type="dcterms:W3CDTF">2008-09-10T21:40:22Z</dcterms:modified>
  <cp:revision>1</cp:revision>
  <dc:subject/>
  <dc:title>Geen diatitel</dc:title>
</cp:coreProperties>
</file>