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C4D-4F25-497E-94EA-74DEC08B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A51-E0FF-4383-ACF0-626130B4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408-781E-4F45-B89B-45A7A1D4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C5B-3785-4B48-9CCA-C5CC933A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E24-0702-4508-A68D-A3E42BD4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336-4D36-4DEF-BEDC-AD90862E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A20-1F39-4952-B505-3C55F8F4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CA0-E1B9-4113-86B2-439796AE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CF8-F4F7-4A2C-89EF-9347B087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ECC-3F49-4A05-9435-1B75EB3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D18-6CB4-464B-AF54-80986FA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EFD-D489-4EF5-ADE7-1384B9B5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D172-0573-4247-B2A5-2E95F7063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85800" y="533520"/>
            <a:ext cx="5486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5800" y="533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172200" y="60912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48120" y="7162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7162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172200" y="6324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85800" y="9144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914400" y="1218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0199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219320"/>
            <a:ext cx="5105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9051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066680"/>
            <a:ext cx="5105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38080" y="76212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91440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0:03:01Z</dcterms:created>
  <dc:creator>ERIK</dc:creator>
  <dc:description/>
  <dc:language>en-US</dc:language>
  <cp:lastModifiedBy>ERIK</cp:lastModifiedBy>
  <dcterms:modified xsi:type="dcterms:W3CDTF">2008-09-10T21:53:05Z</dcterms:modified>
  <cp:revision>1</cp:revision>
  <dc:subject/>
  <dc:title>Geen diatitel</dc:title>
</cp:coreProperties>
</file>