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D24-555E-4517-8A93-2FF416E3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2ED-B106-40BA-8447-9E184F73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999-03D7-49B2-A2B9-6FA78B01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80E-32DF-4192-98E0-8B2615BF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03E-E99C-4E65-ADFA-4D4295A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F68-E87B-4B4C-9439-3C32A2A6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1C7-1550-4ECB-9BF0-C773F052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599-606F-426F-BDB4-66A5C05D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03F-100C-44FD-847B-62CC17ED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242-5FBF-48A4-BDF7-D2116C49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64B-D312-43F0-BE0C-E2E64A6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D99-F18D-4240-8BA9-7086C78B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2772-537F-4C34-A467-48266EEDB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85800" y="533520"/>
            <a:ext cx="5486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5800" y="5331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172200" y="60912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48120" y="7162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7162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172200" y="6324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85800" y="9144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914400" y="1218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0199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219320"/>
            <a:ext cx="5105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9051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066680"/>
            <a:ext cx="5105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38080" y="76212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91440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0:03:01Z</dcterms:created>
  <dc:creator>ERIK</dc:creator>
  <dc:description/>
  <dc:language>en-US</dc:language>
  <cp:lastModifiedBy>ERIK</cp:lastModifiedBy>
  <dcterms:modified xsi:type="dcterms:W3CDTF">2008-09-10T21:53:05Z</dcterms:modified>
  <cp:revision>1</cp:revision>
  <dc:subject/>
  <dc:title>Geen diatitel</dc:title>
</cp:coreProperties>
</file>