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E7A-80A5-4027-8986-3FEF010B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3C6-7423-46DF-8EDB-86D8596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411-E6E6-4701-9694-0C038AAD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FDF-D432-4CE9-8894-0B4D2BCD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E67-FCBF-4D72-B077-F78B5DF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783-41A6-4AFF-8B96-7A323D2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25C-A5FA-4A60-B05F-36E02EA7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3FD-5ECA-400E-8349-6BF50515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76B-BD1B-4515-B0CC-F00564C3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A4B-B437-4232-A222-DD02454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362-00F3-47A0-B360-D656AFF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BB4-E5BD-479D-B938-D827F37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27B-256B-4E03-9BAC-7C6FCE8188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762120" y="228600"/>
            <a:ext cx="5105160" cy="114300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362320" y="685800"/>
            <a:ext cx="1981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gierig?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04920" y="1447920"/>
            <a:ext cx="5790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het van-Dale:idiodoom-woordenboek.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30492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1430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20574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8862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8006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9718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7150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90160" y="22478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delstaf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808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042640" y="2476440"/>
            <a:ext cx="26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an de bedelstaf raken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25280" y="2781360"/>
            <a:ext cx="62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diepe armoede vervall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ak gaat het om iemand die vroeger véél bezat,maar dit allema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een samenloop van omstandigheden is kwijtgeraak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bedelstaf,is een staf of stok,waarmee de bedelaar liep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9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304920" y="3962520"/>
            <a:ext cx="1963440" cy="2970000"/>
          </a:xfrm>
          <a:prstGeom prst="rect">
            <a:avLst/>
          </a:prstGeom>
          <a:ln w="0">
            <a:noFill/>
          </a:ln>
        </p:spPr>
      </p:pic>
      <p:sp>
        <p:nvSpPr>
          <p:cNvPr id="58" name="Line 21"/>
          <p:cNvSpPr/>
          <p:nvPr/>
        </p:nvSpPr>
        <p:spPr>
          <a:xfrm flipV="1">
            <a:off x="152280" y="4647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838080" y="4724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5"/>
          <p:cNvSpPr/>
          <p:nvPr/>
        </p:nvSpPr>
        <p:spPr>
          <a:xfrm flipV="1">
            <a:off x="152280" y="6705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6"/>
          <p:cNvSpPr/>
          <p:nvPr/>
        </p:nvSpPr>
        <p:spPr>
          <a:xfrm flipH="1" flipV="1">
            <a:off x="152280" y="43430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7"/>
          <p:cNvSpPr/>
          <p:nvPr/>
        </p:nvSpPr>
        <p:spPr>
          <a:xfrm flipV="1">
            <a:off x="380880" y="67816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457200" y="67816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1676520" y="64008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0"/>
          <p:cNvSpPr/>
          <p:nvPr/>
        </p:nvSpPr>
        <p:spPr>
          <a:xfrm flipV="1">
            <a:off x="1676520" y="6400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1" descr=""/>
          <p:cNvPicPr/>
          <p:nvPr/>
        </p:nvPicPr>
        <p:blipFill>
          <a:blip r:embed="rId2"/>
          <a:stretch/>
        </p:blipFill>
        <p:spPr>
          <a:xfrm>
            <a:off x="304920" y="5029200"/>
            <a:ext cx="2775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3257640" y="3886200"/>
            <a:ext cx="1941480" cy="2895480"/>
          </a:xfrm>
          <a:prstGeom prst="rect">
            <a:avLst/>
          </a:prstGeom>
          <a:ln w="0">
            <a:noFill/>
          </a:ln>
        </p:spPr>
      </p:pic>
      <p:sp>
        <p:nvSpPr>
          <p:cNvPr id="68" name="Line 33"/>
          <p:cNvSpPr/>
          <p:nvPr/>
        </p:nvSpPr>
        <p:spPr>
          <a:xfrm>
            <a:off x="2819520" y="662940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4"/>
          <p:cNvSpPr/>
          <p:nvPr/>
        </p:nvSpPr>
        <p:spPr>
          <a:xfrm flipV="1">
            <a:off x="2438280" y="6553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5"/>
          <p:cNvSpPr/>
          <p:nvPr/>
        </p:nvSpPr>
        <p:spPr>
          <a:xfrm flipV="1">
            <a:off x="4114800" y="64771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4800600" y="63244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279720" y="7429680"/>
            <a:ext cx="61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Voorbeeld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éél Indoneziérs geven de Chinese winkeliers de schuld van d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conomische crisis,die al tientallen miljoenen mensen aan de be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lstaf heeft gebrach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k hoorde van de deurwaarder dat ik niet het enige hopeloze ge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 was.Menige kunstenaarscollega,die ik aan de vooravo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zijn bezoek nog vrolijk en vrijgevig in het café had meege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aakt,bleek aan de rand van de bedelstaf te verker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51703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9"/>
          <p:cNvSpPr/>
          <p:nvPr/>
        </p:nvSpPr>
        <p:spPr>
          <a:xfrm>
            <a:off x="2057400" y="4114800"/>
            <a:ext cx="1371600" cy="685800"/>
          </a:xfrm>
          <a:prstGeom prst="wedgeRoundRectCallout">
            <a:avLst>
              <a:gd name="adj1" fmla="val -69907"/>
              <a:gd name="adj2" fmla="val 2708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eft u iets vo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j, mijnheer!!?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od zal het u lonen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kstvak 37"/>
          <p:cNvSpPr/>
          <p:nvPr/>
        </p:nvSpPr>
        <p:spPr>
          <a:xfrm>
            <a:off x="5077440" y="0"/>
            <a:ext cx="114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Times New Roman"/>
              </a:rPr>
              <a:t>Dokloef 112  blz 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7:29:33Z</dcterms:created>
  <dc:creator>ERIK</dc:creator>
  <dc:description/>
  <dc:language>en-US</dc:language>
  <cp:lastModifiedBy>Erik de backer</cp:lastModifiedBy>
  <cp:lastPrinted>2008-04-30T18:45:52Z</cp:lastPrinted>
  <dcterms:modified xsi:type="dcterms:W3CDTF">2015-11-08T11:00:53Z</dcterms:modified>
  <cp:revision>4</cp:revision>
  <dc:subject/>
  <dc:title>Geen diatitel</dc:title>
</cp:coreProperties>
</file>