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DDE-7165-4731-9705-05BB243E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BE9-051D-4B87-99FB-8B7A8263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DB1-DBDA-45A7-862A-B9146B28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A94-9118-40DB-9FD0-113303FC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9C2-BC77-4890-9664-0846E0FF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A1C-B63E-41CA-BECF-DBD1CF0D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B09-24BF-42D2-A077-0A02100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7BF-8E42-46D1-ABC8-277C97D3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08B-448B-4A54-AC7D-934830EF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D3B-BF4C-4B5A-9FEE-00F6B52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776-F97D-4C64-B93C-A77E2033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64E-B337-483F-AE76-26561452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9CCE-97D6-4382-A075-BE1EF83D6A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762120" y="228600"/>
            <a:ext cx="5105160" cy="1143000"/>
          </a:xfrm>
          <a:prstGeom prst="su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362320" y="685800"/>
            <a:ext cx="1981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gierig?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04920" y="1447920"/>
            <a:ext cx="57909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it het van-Dale:idiodoom-woordenboek.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30492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11430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20574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8862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8006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29718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57150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90160" y="22478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delstaf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3808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042640" y="2476440"/>
            <a:ext cx="26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an de bedelstaf raken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25280" y="2781360"/>
            <a:ext cx="625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diepe armoede vervalle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ak gaat het om iemand die vroeger véél bezat,maar dit allema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een samenloop van omstandigheden is kwijtgeraak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bedelstaf,is een staf of stok,waarmee de bedelaar liep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9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304920" y="3962520"/>
            <a:ext cx="1963440" cy="2970000"/>
          </a:xfrm>
          <a:prstGeom prst="rect">
            <a:avLst/>
          </a:prstGeom>
          <a:ln w="0">
            <a:noFill/>
          </a:ln>
        </p:spPr>
      </p:pic>
      <p:sp>
        <p:nvSpPr>
          <p:cNvPr id="58" name="Line 21"/>
          <p:cNvSpPr/>
          <p:nvPr/>
        </p:nvSpPr>
        <p:spPr>
          <a:xfrm flipV="1">
            <a:off x="152280" y="4647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838080" y="4724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5"/>
          <p:cNvSpPr/>
          <p:nvPr/>
        </p:nvSpPr>
        <p:spPr>
          <a:xfrm flipV="1">
            <a:off x="152280" y="67053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6"/>
          <p:cNvSpPr/>
          <p:nvPr/>
        </p:nvSpPr>
        <p:spPr>
          <a:xfrm flipH="1" flipV="1">
            <a:off x="152280" y="43430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7"/>
          <p:cNvSpPr/>
          <p:nvPr/>
        </p:nvSpPr>
        <p:spPr>
          <a:xfrm flipV="1">
            <a:off x="380880" y="67816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457200" y="6781680"/>
            <a:ext cx="1523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1676520" y="640080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0"/>
          <p:cNvSpPr/>
          <p:nvPr/>
        </p:nvSpPr>
        <p:spPr>
          <a:xfrm flipV="1">
            <a:off x="1676520" y="64004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1" descr=""/>
          <p:cNvPicPr/>
          <p:nvPr/>
        </p:nvPicPr>
        <p:blipFill>
          <a:blip r:embed="rId2"/>
          <a:stretch/>
        </p:blipFill>
        <p:spPr>
          <a:xfrm>
            <a:off x="304920" y="5029200"/>
            <a:ext cx="27756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"/>
          <p:cNvPicPr/>
          <p:nvPr/>
        </p:nvPicPr>
        <p:blipFill>
          <a:blip r:embed="rId3">
            <a:lum contrast="-18000"/>
          </a:blip>
          <a:stretch/>
        </p:blipFill>
        <p:spPr>
          <a:xfrm>
            <a:off x="3257640" y="3886200"/>
            <a:ext cx="1941480" cy="2895480"/>
          </a:xfrm>
          <a:prstGeom prst="rect">
            <a:avLst/>
          </a:prstGeom>
          <a:ln w="0">
            <a:noFill/>
          </a:ln>
        </p:spPr>
      </p:pic>
      <p:sp>
        <p:nvSpPr>
          <p:cNvPr id="68" name="Line 33"/>
          <p:cNvSpPr/>
          <p:nvPr/>
        </p:nvSpPr>
        <p:spPr>
          <a:xfrm>
            <a:off x="2819520" y="6629400"/>
            <a:ext cx="2361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4"/>
          <p:cNvSpPr/>
          <p:nvPr/>
        </p:nvSpPr>
        <p:spPr>
          <a:xfrm flipV="1">
            <a:off x="2438280" y="6553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5"/>
          <p:cNvSpPr/>
          <p:nvPr/>
        </p:nvSpPr>
        <p:spPr>
          <a:xfrm flipV="1">
            <a:off x="4114800" y="64771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6"/>
          <p:cNvSpPr/>
          <p:nvPr/>
        </p:nvSpPr>
        <p:spPr>
          <a:xfrm>
            <a:off x="4800600" y="632448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7"/>
          <p:cNvSpPr/>
          <p:nvPr/>
        </p:nvSpPr>
        <p:spPr>
          <a:xfrm>
            <a:off x="279720" y="7429680"/>
            <a:ext cx="612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Voorbeeld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éél Indoneziérs geven de Chinese winkeliers de schuld van d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conomische crisis,die al tientallen miljoenen mensen aan de be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lstaf heeft gebrach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k hoorde van de deurwaarder dat ik niet het enige hopeloze ge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l was.Menige kunstenaarscollega,die ik aan de vooravon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 zijn bezoek nog vrolijk en vrijgevig in het café had meege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aakt,bleek aan de rand van de bedelstaf te verkere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517032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9"/>
          <p:cNvSpPr/>
          <p:nvPr/>
        </p:nvSpPr>
        <p:spPr>
          <a:xfrm>
            <a:off x="2057400" y="4114800"/>
            <a:ext cx="1371600" cy="685800"/>
          </a:xfrm>
          <a:prstGeom prst="wedgeRoundRectCallout">
            <a:avLst>
              <a:gd name="adj1" fmla="val -69907"/>
              <a:gd name="adj2" fmla="val 2708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eft u iets voo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ij, mijnheer!!?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od zal het u lonen!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kstvak 37"/>
          <p:cNvSpPr/>
          <p:nvPr/>
        </p:nvSpPr>
        <p:spPr>
          <a:xfrm>
            <a:off x="5077440" y="0"/>
            <a:ext cx="114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Times New Roman"/>
              </a:rPr>
              <a:t>Dokloef 112  blz 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7:29:33Z</dcterms:created>
  <dc:creator>ERIK</dc:creator>
  <dc:description/>
  <dc:language>en-US</dc:language>
  <cp:lastModifiedBy>Erik de backer</cp:lastModifiedBy>
  <cp:lastPrinted>2008-04-30T18:45:52Z</cp:lastPrinted>
  <dcterms:modified xsi:type="dcterms:W3CDTF">2015-11-08T11:00:53Z</dcterms:modified>
  <cp:revision>4</cp:revision>
  <dc:subject/>
  <dc:title>Geen diatitel</dc:title>
</cp:coreProperties>
</file>