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ABEC-5A9C-439E-BFBF-6D931244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4E9B-BEED-422F-AD1C-C8449438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8386-FAF9-42C1-932D-04166B0F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988-1E2A-40B5-ABCD-9AD8DA50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B88-83FA-40CF-AF29-66EA8CC2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ADB-95C7-4D8C-925D-B64D7476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E255-F189-4F55-B9C0-5CD57D83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3DD-6154-4952-9403-2B7AE4BB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EA6-0EEA-4C05-A62F-B398E0DB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77D-9CA3-487B-BCAC-C98C29A5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57A-B8B4-4D2D-A31A-97C5E026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C8C-F7BB-4660-8CB6-34CC61EC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9082-A79A-4595-B4C7-30A16767743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609480" y="9524880"/>
            <a:ext cx="609624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rcRect l="12518" t="6690" r="12518" b="311"/>
          <a:stretch/>
        </p:blipFill>
        <p:spPr>
          <a:xfrm>
            <a:off x="609480" y="152280"/>
            <a:ext cx="6096240" cy="9601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6096240" cy="53352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5"/>
          <p:cNvSpPr/>
          <p:nvPr/>
        </p:nvSpPr>
        <p:spPr>
          <a:xfrm>
            <a:off x="609480" y="8305920"/>
            <a:ext cx="6096240" cy="914400"/>
          </a:xfrm>
          <a:custGeom>
            <a:avLst/>
            <a:gdLst>
              <a:gd name="textAreaLeft" fmla="*/ 761760 w 6096240"/>
              <a:gd name="textAreaRight" fmla="*/ 5334480 w 6096240"/>
              <a:gd name="textAreaTop" fmla="*/ 1141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4"/>
          <a:stretch/>
        </p:blipFill>
        <p:spPr>
          <a:xfrm>
            <a:off x="609480" y="9220320"/>
            <a:ext cx="6096240" cy="5540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/>
          <p:cNvSpPr/>
          <p:nvPr/>
        </p:nvSpPr>
        <p:spPr>
          <a:xfrm>
            <a:off x="609480" y="152280"/>
            <a:ext cx="6096240" cy="990720"/>
          </a:xfrm>
          <a:custGeom>
            <a:avLst/>
            <a:gdLst>
              <a:gd name="textAreaLeft" fmla="*/ 761760 w 6096240"/>
              <a:gd name="textAreaRight" fmla="*/ 5334480 w 6096240"/>
              <a:gd name="textAreaTop" fmla="*/ 12384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609480" y="152280"/>
            <a:ext cx="609624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1523880" y="380880"/>
            <a:ext cx="42674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it de scheurkalender v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2971800" y="762120"/>
            <a:ext cx="1371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Line 12"/>
          <p:cNvSpPr/>
          <p:nvPr/>
        </p:nvSpPr>
        <p:spPr>
          <a:xfrm flipV="1">
            <a:off x="609480" y="9448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1752480" y="8610480"/>
            <a:ext cx="388620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X = tra speciaal 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Tekstvak 14"/>
          <p:cNvSpPr/>
          <p:nvPr/>
        </p:nvSpPr>
        <p:spPr>
          <a:xfrm>
            <a:off x="5581440" y="802476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8:51:53Z</dcterms:created>
  <dc:creator>ERIK</dc:creator>
  <dc:description/>
  <dc:language>en-US</dc:language>
  <cp:lastModifiedBy>Erik de backer</cp:lastModifiedBy>
  <cp:lastPrinted>2008-04-30T19:23:52Z</cp:lastPrinted>
  <dcterms:modified xsi:type="dcterms:W3CDTF">2015-11-08T10:53:07Z</dcterms:modified>
  <cp:revision>3</cp:revision>
  <dc:subject/>
  <dc:title>Geen diatitel</dc:title>
</cp:coreProperties>
</file>