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52-140C-489C-A69D-932BF19B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BA6-4514-49E4-8B85-AA96192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BC-CE50-4962-8DD6-8E4E1C50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8A7-BA7B-4B4B-BC12-93F70BDD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43B-7FFD-4220-ABC9-5005CBA5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121-2447-4D94-B646-BDABD0F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E34-5508-48C4-9D72-9948C588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E04-8160-4448-BD10-4D24E63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FB1-BA1D-49CB-95A0-0837480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A5C-6256-42DF-A575-D925DFE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AA3-A0F8-45C4-90D2-FCA34ECC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549-B15F-4E1C-B3AB-3EFBAC2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944-C65B-409A-AF8E-9FA50FB389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609480" y="9524880"/>
            <a:ext cx="609624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12518" t="6690" r="12518" b="311"/>
          <a:stretch/>
        </p:blipFill>
        <p:spPr>
          <a:xfrm>
            <a:off x="609480" y="152280"/>
            <a:ext cx="6096240" cy="9601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09624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609480" y="8305920"/>
            <a:ext cx="6096240" cy="914400"/>
          </a:xfrm>
          <a:custGeom>
            <a:avLst/>
            <a:gdLst>
              <a:gd name="textAreaLeft" fmla="*/ 761760 w 6096240"/>
              <a:gd name="textAreaRight" fmla="*/ 5334480 w 609624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609480" y="9220320"/>
            <a:ext cx="6096240" cy="554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609480" y="152280"/>
            <a:ext cx="6096240" cy="990720"/>
          </a:xfrm>
          <a:custGeom>
            <a:avLst/>
            <a:gdLst>
              <a:gd name="textAreaLeft" fmla="*/ 761760 w 6096240"/>
              <a:gd name="textAreaRight" fmla="*/ 5334480 w 609624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523880" y="380880"/>
            <a:ext cx="42674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de scheurkalender v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2971800" y="762120"/>
            <a:ext cx="1371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609480" y="9448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752480" y="8610480"/>
            <a:ext cx="38862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X = tra speciaal 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Tekstvak 14"/>
          <p:cNvSpPr/>
          <p:nvPr/>
        </p:nvSpPr>
        <p:spPr>
          <a:xfrm>
            <a:off x="5581440" y="80247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8:51:53Z</dcterms:created>
  <dc:creator>ERIK</dc:creator>
  <dc:description/>
  <dc:language>en-US</dc:language>
  <cp:lastModifiedBy>Erik de backer</cp:lastModifiedBy>
  <cp:lastPrinted>2008-04-30T19:23:52Z</cp:lastPrinted>
  <dcterms:modified xsi:type="dcterms:W3CDTF">2015-11-08T10:53:07Z</dcterms:modified>
  <cp:revision>3</cp:revision>
  <dc:subject/>
  <dc:title>Geen diatitel</dc:title>
</cp:coreProperties>
</file>