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EB1-F826-44A1-AFA5-D578BB03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AF4-0512-4CD1-9C45-3E279411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2AE-FFCD-4114-8F55-7FC80858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599-A349-4082-8951-84E15D42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4D6-BA08-4A21-BD16-37A8A57C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82C-C71D-4682-95F1-DE93DAD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DE9-19C2-4E98-AC93-4891AC71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3B7-C832-4A14-9ED5-A7A8CB25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BE3-0BB0-4787-994B-956030EC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17A-1511-4452-89CA-586723A6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5CA-DAB8-49B3-B550-7AFC783E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606-C0E8-472A-A23F-2ADA1487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86D8-21C2-4DC7-B0CD-8CEC3DB83AA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228600" y="152280"/>
            <a:ext cx="2362320" cy="83844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80880" y="380880"/>
            <a:ext cx="2133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st u d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774600" y="212760"/>
            <a:ext cx="1911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Uit de gids vo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Vitaminen en Mineral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en Krui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Uitgegeven door Reader’s Dige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3886200" y="914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352680" y="990720"/>
            <a:ext cx="274320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3505320" y="1066680"/>
            <a:ext cx="2514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arschuwing!!!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3962520" y="1371600"/>
            <a:ext cx="1638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bt u bepaald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3429000" y="1600200"/>
            <a:ext cx="2571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andoeningen,overleg dan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3505320" y="1828800"/>
            <a:ext cx="2504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erst met uw dokter,voo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581280" y="2057400"/>
            <a:ext cx="2400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 supplementen neemt!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457200" y="106668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mb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793080" y="1560600"/>
            <a:ext cx="132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ingiber offici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45720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43640" y="1752480"/>
            <a:ext cx="618372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 het oude India en China t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klassieke Griekenland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Rome werd gember gerespecteerd als een culinair en medicina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ruid,en middeleeuwse Europeanen stelden vast dat het kruid t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rugging tot de Hof van Eden.Ook nu nog wordt             g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 grote schaal toegepast om reisziekte te voo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omen en als remedie bij spijsvert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ringsproblemen.Het is een soort wo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el,met soms héél grillige vor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plant is verwant aan de kurk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n kardamom,de wortels worden v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ulinaire medicinale doeleinden gebruik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ls specerij geeft gember een heet en c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roenachtig smaakje aan gerechten uite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lopend van koekjes tot gebraden varkensvl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ige positieve effecten: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at doen we met een zeezie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eeman?Het antwoord luidt:probeer gember!!Gember werkt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eerste instantie in het spijsverteringskanaal,waar het de spij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teringssappen stimuleert en de zuren neutralise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mber is ontstekingsremmend en verlicht pijn en helpt dan 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spierpijn en de chronische pijn waarmee arttritis gepaard ga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Feiten: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de Oude Grieken stond g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 hoog in het vaandel,dat zij het zelf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het brood verwerkten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klassieke gemberkoe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el volksgenezers advizeren g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griepsymptonen als pijn en benauwdheid.:verse gember kau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20"/>
          <p:cNvSpPr/>
          <p:nvPr/>
        </p:nvSpPr>
        <p:spPr>
          <a:xfrm>
            <a:off x="4876920" y="3048120"/>
            <a:ext cx="698400" cy="3445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21"/>
          <p:cNvSpPr/>
          <p:nvPr/>
        </p:nvSpPr>
        <p:spPr>
          <a:xfrm>
            <a:off x="3733920" y="3124080"/>
            <a:ext cx="2168280" cy="2616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22"/>
          <p:cNvSpPr/>
          <p:nvPr/>
        </p:nvSpPr>
        <p:spPr>
          <a:xfrm>
            <a:off x="5207040" y="3513240"/>
            <a:ext cx="255600" cy="106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23"/>
          <p:cNvSpPr/>
          <p:nvPr/>
        </p:nvSpPr>
        <p:spPr>
          <a:xfrm>
            <a:off x="4800600" y="3530520"/>
            <a:ext cx="5684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24"/>
          <p:cNvSpPr/>
          <p:nvPr/>
        </p:nvSpPr>
        <p:spPr>
          <a:xfrm>
            <a:off x="5181480" y="3429000"/>
            <a:ext cx="139680" cy="368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25"/>
          <p:cNvSpPr/>
          <p:nvPr/>
        </p:nvSpPr>
        <p:spPr>
          <a:xfrm>
            <a:off x="4724280" y="3733920"/>
            <a:ext cx="444600" cy="30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6"/>
          <p:cNvSpPr/>
          <p:nvPr/>
        </p:nvSpPr>
        <p:spPr>
          <a:xfrm>
            <a:off x="3886200" y="3809880"/>
            <a:ext cx="241200" cy="330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27"/>
          <p:cNvSpPr/>
          <p:nvPr/>
        </p:nvSpPr>
        <p:spPr>
          <a:xfrm>
            <a:off x="4343400" y="3733920"/>
            <a:ext cx="120600" cy="347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28"/>
          <p:cNvSpPr/>
          <p:nvPr/>
        </p:nvSpPr>
        <p:spPr>
          <a:xfrm>
            <a:off x="5181480" y="4267080"/>
            <a:ext cx="2541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0"/>
          <p:cNvSpPr/>
          <p:nvPr/>
        </p:nvSpPr>
        <p:spPr>
          <a:xfrm>
            <a:off x="5194440" y="4863960"/>
            <a:ext cx="304560" cy="8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1"/>
          <p:cNvSpPr/>
          <p:nvPr/>
        </p:nvSpPr>
        <p:spPr>
          <a:xfrm>
            <a:off x="4952880" y="3683160"/>
            <a:ext cx="371520" cy="39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32"/>
          <p:cNvSpPr/>
          <p:nvPr/>
        </p:nvSpPr>
        <p:spPr>
          <a:xfrm>
            <a:off x="4572000" y="4419720"/>
            <a:ext cx="330120" cy="133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33"/>
          <p:cNvSpPr/>
          <p:nvPr/>
        </p:nvSpPr>
        <p:spPr>
          <a:xfrm>
            <a:off x="4724280" y="4191120"/>
            <a:ext cx="355680" cy="13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34"/>
          <p:cNvSpPr/>
          <p:nvPr/>
        </p:nvSpPr>
        <p:spPr>
          <a:xfrm>
            <a:off x="4648320" y="3657600"/>
            <a:ext cx="75960" cy="495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35"/>
          <p:cNvSpPr/>
          <p:nvPr/>
        </p:nvSpPr>
        <p:spPr>
          <a:xfrm>
            <a:off x="4114800" y="4724280"/>
            <a:ext cx="58428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36"/>
          <p:cNvSpPr/>
          <p:nvPr/>
        </p:nvSpPr>
        <p:spPr>
          <a:xfrm>
            <a:off x="4191120" y="5334120"/>
            <a:ext cx="412560" cy="164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37"/>
          <p:cNvSpPr/>
          <p:nvPr/>
        </p:nvSpPr>
        <p:spPr>
          <a:xfrm>
            <a:off x="4648320" y="5029200"/>
            <a:ext cx="342720" cy="114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38"/>
          <p:cNvSpPr/>
          <p:nvPr/>
        </p:nvSpPr>
        <p:spPr>
          <a:xfrm>
            <a:off x="4724280" y="5334120"/>
            <a:ext cx="241560" cy="82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9" descr=""/>
          <p:cNvPicPr/>
          <p:nvPr/>
        </p:nvPicPr>
        <p:blipFill>
          <a:blip r:embed="rId1"/>
          <a:stretch/>
        </p:blipFill>
        <p:spPr>
          <a:xfrm>
            <a:off x="5257800" y="8001000"/>
            <a:ext cx="89208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"/>
          <p:cNvPicPr/>
          <p:nvPr/>
        </p:nvPicPr>
        <p:blipFill>
          <a:blip r:embed="rId2"/>
          <a:stretch/>
        </p:blipFill>
        <p:spPr>
          <a:xfrm>
            <a:off x="3505320" y="8099280"/>
            <a:ext cx="1904760" cy="1081080"/>
          </a:xfrm>
          <a:prstGeom prst="rect">
            <a:avLst/>
          </a:prstGeom>
          <a:ln w="0">
            <a:noFill/>
          </a:ln>
        </p:spPr>
      </p:pic>
      <p:sp>
        <p:nvSpPr>
          <p:cNvPr id="77" name="Tekstvak 39"/>
          <p:cNvSpPr/>
          <p:nvPr/>
        </p:nvSpPr>
        <p:spPr>
          <a:xfrm>
            <a:off x="5010120" y="945360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4:31:38Z</dcterms:created>
  <dc:creator>ERIK</dc:creator>
  <dc:description/>
  <dc:language>en-US</dc:language>
  <cp:lastModifiedBy>Erik de backer</cp:lastModifiedBy>
  <dcterms:modified xsi:type="dcterms:W3CDTF">2015-11-08T10:48:17Z</dcterms:modified>
  <cp:revision>3</cp:revision>
  <dc:subject/>
  <dc:title>Geen diatitel</dc:title>
</cp:coreProperties>
</file>