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41F-F47E-4660-AA50-03309F28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BC8-C54E-4A0C-AF9B-AE4A2E60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64C-BA65-4BF6-A231-E0C248FD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A07-429B-429F-BE59-6CB0CB34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5C3-25A1-41BB-B833-200EEA7E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452-992D-4C87-9B9F-E11D87A8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F73-72FE-429E-82BF-06F73E79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2C6-DA3B-4AE8-A60B-A4870997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AD3-FC1B-4019-B625-4E1F8A28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5E1-5DE1-4154-988C-3250174B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C65-561B-4290-A8B5-89CA9CED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054C-4DE5-4AE8-AE93-D540349C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97E6-EDAF-4742-88AF-EDE06C5C08E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152280"/>
            <a:ext cx="601992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228600" y="152280"/>
            <a:ext cx="2362320" cy="83844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380880" y="380880"/>
            <a:ext cx="21337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st u d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774600" y="212760"/>
            <a:ext cx="1911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Uit de gids vo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Vitaminen en Mineral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en Krui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Uitgegeven door Reader’s Dige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3886200" y="914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352680" y="990720"/>
            <a:ext cx="274320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3505320" y="1066680"/>
            <a:ext cx="2514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arschuwing!!!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3962520" y="1371600"/>
            <a:ext cx="1638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ebt u bepaald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3429000" y="1600200"/>
            <a:ext cx="2571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andoeningen,overleg dan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3505320" y="1828800"/>
            <a:ext cx="2504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erst met uw dokter,voo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3581280" y="2057400"/>
            <a:ext cx="2400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 supplementen neemt!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457200" y="1066680"/>
            <a:ext cx="1981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embe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793080" y="1560600"/>
            <a:ext cx="132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ingiber offici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457200" y="1828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143640" y="1752480"/>
            <a:ext cx="618372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n het oude India en China t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klassieke Griekenland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Rome werd gember gerespecteerd als een culinair en medicina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ruid,en middeleeuwse Europeanen stelden vast dat het kruid t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rugging tot de Hof van Eden.Ook nu nog wordt             g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p grote schaal toegepast om reisziekte te voo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omen en als remedie bij spijsvert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ringsproblemen.Het is een soort wo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el,met soms héél grillige vor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plant is verwant aan de kurku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n kardamom,de wortels worden v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ulinaire medicinale doeleinden gebruik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ls specerij geeft gember een heet en c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roenachtig smaakje aan gerechten uite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lopend van koekjes tot gebraden varkensvle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verige positieve effecten: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at doen we met een zeezie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eeman?Het antwoord luidt:probeer gember!!Gember werkt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eerste instantie in het spijsverteringskanaal,waar het de spij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teringssappen stimuleert en de zuren neutralise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mber is ontstekingsremmend en verlicht pijn en helpt dan 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j spierpijn en de chronische pijn waarmee arttritis gepaard ga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Feiten: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j de Oude Grieken stond g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o hoog in het vaandel,dat zij het zelf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het brood verwerkten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klassieke gemberkoe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el volksgenezers advizeren g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j griepsymptonen als pijn en benauwdheid.:verse gember kau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20"/>
          <p:cNvSpPr/>
          <p:nvPr/>
        </p:nvSpPr>
        <p:spPr>
          <a:xfrm>
            <a:off x="4876920" y="3048120"/>
            <a:ext cx="698400" cy="3445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21"/>
          <p:cNvSpPr/>
          <p:nvPr/>
        </p:nvSpPr>
        <p:spPr>
          <a:xfrm>
            <a:off x="3733920" y="3124080"/>
            <a:ext cx="2168280" cy="2616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22"/>
          <p:cNvSpPr/>
          <p:nvPr/>
        </p:nvSpPr>
        <p:spPr>
          <a:xfrm>
            <a:off x="5207040" y="3513240"/>
            <a:ext cx="255600" cy="106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23"/>
          <p:cNvSpPr/>
          <p:nvPr/>
        </p:nvSpPr>
        <p:spPr>
          <a:xfrm>
            <a:off x="4800600" y="3530520"/>
            <a:ext cx="56844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24"/>
          <p:cNvSpPr/>
          <p:nvPr/>
        </p:nvSpPr>
        <p:spPr>
          <a:xfrm>
            <a:off x="5181480" y="3429000"/>
            <a:ext cx="139680" cy="368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25"/>
          <p:cNvSpPr/>
          <p:nvPr/>
        </p:nvSpPr>
        <p:spPr>
          <a:xfrm>
            <a:off x="4724280" y="3733920"/>
            <a:ext cx="444600" cy="309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6"/>
          <p:cNvSpPr/>
          <p:nvPr/>
        </p:nvSpPr>
        <p:spPr>
          <a:xfrm>
            <a:off x="3886200" y="3809880"/>
            <a:ext cx="241200" cy="330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27"/>
          <p:cNvSpPr/>
          <p:nvPr/>
        </p:nvSpPr>
        <p:spPr>
          <a:xfrm>
            <a:off x="4343400" y="3733920"/>
            <a:ext cx="120600" cy="347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28"/>
          <p:cNvSpPr/>
          <p:nvPr/>
        </p:nvSpPr>
        <p:spPr>
          <a:xfrm>
            <a:off x="5181480" y="4267080"/>
            <a:ext cx="2541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30"/>
          <p:cNvSpPr/>
          <p:nvPr/>
        </p:nvSpPr>
        <p:spPr>
          <a:xfrm>
            <a:off x="5194440" y="4863960"/>
            <a:ext cx="304560" cy="88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31"/>
          <p:cNvSpPr/>
          <p:nvPr/>
        </p:nvSpPr>
        <p:spPr>
          <a:xfrm>
            <a:off x="4952880" y="3683160"/>
            <a:ext cx="371520" cy="39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32"/>
          <p:cNvSpPr/>
          <p:nvPr/>
        </p:nvSpPr>
        <p:spPr>
          <a:xfrm>
            <a:off x="4572000" y="4419720"/>
            <a:ext cx="330120" cy="133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33"/>
          <p:cNvSpPr/>
          <p:nvPr/>
        </p:nvSpPr>
        <p:spPr>
          <a:xfrm>
            <a:off x="4724280" y="4191120"/>
            <a:ext cx="355680" cy="13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34"/>
          <p:cNvSpPr/>
          <p:nvPr/>
        </p:nvSpPr>
        <p:spPr>
          <a:xfrm>
            <a:off x="4648320" y="3657600"/>
            <a:ext cx="75960" cy="495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35"/>
          <p:cNvSpPr/>
          <p:nvPr/>
        </p:nvSpPr>
        <p:spPr>
          <a:xfrm>
            <a:off x="4114800" y="4724280"/>
            <a:ext cx="584280" cy="38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36"/>
          <p:cNvSpPr/>
          <p:nvPr/>
        </p:nvSpPr>
        <p:spPr>
          <a:xfrm>
            <a:off x="4191120" y="5334120"/>
            <a:ext cx="412560" cy="164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37"/>
          <p:cNvSpPr/>
          <p:nvPr/>
        </p:nvSpPr>
        <p:spPr>
          <a:xfrm>
            <a:off x="4648320" y="5029200"/>
            <a:ext cx="342720" cy="114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38"/>
          <p:cNvSpPr/>
          <p:nvPr/>
        </p:nvSpPr>
        <p:spPr>
          <a:xfrm>
            <a:off x="4724280" y="5334120"/>
            <a:ext cx="241560" cy="82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9" descr=""/>
          <p:cNvPicPr/>
          <p:nvPr/>
        </p:nvPicPr>
        <p:blipFill>
          <a:blip r:embed="rId1"/>
          <a:stretch/>
        </p:blipFill>
        <p:spPr>
          <a:xfrm>
            <a:off x="5257800" y="8001000"/>
            <a:ext cx="89208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"/>
          <p:cNvPicPr/>
          <p:nvPr/>
        </p:nvPicPr>
        <p:blipFill>
          <a:blip r:embed="rId2"/>
          <a:stretch/>
        </p:blipFill>
        <p:spPr>
          <a:xfrm>
            <a:off x="3505320" y="8099280"/>
            <a:ext cx="1904760" cy="1081080"/>
          </a:xfrm>
          <a:prstGeom prst="rect">
            <a:avLst/>
          </a:prstGeom>
          <a:ln w="0">
            <a:noFill/>
          </a:ln>
        </p:spPr>
      </p:pic>
      <p:sp>
        <p:nvSpPr>
          <p:cNvPr id="77" name="Tekstvak 39"/>
          <p:cNvSpPr/>
          <p:nvPr/>
        </p:nvSpPr>
        <p:spPr>
          <a:xfrm>
            <a:off x="5010120" y="945360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4:31:38Z</dcterms:created>
  <dc:creator>ERIK</dc:creator>
  <dc:description/>
  <dc:language>en-US</dc:language>
  <cp:lastModifiedBy>Erik de backer</cp:lastModifiedBy>
  <dcterms:modified xsi:type="dcterms:W3CDTF">2015-11-08T10:48:17Z</dcterms:modified>
  <cp:revision>3</cp:revision>
  <dc:subject/>
  <dc:title>Geen diatitel</dc:title>
</cp:coreProperties>
</file>