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DBF3-2912-4B35-845C-AA5EB4AB1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3811-6DF9-4EDB-AD48-13DBBDD97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9A37-ABF4-4254-83D6-D0E9BE047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292E-D108-4581-AC0F-7ADA297D1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B778-CB1D-48BE-9EC7-F8C25DFAA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28F3-CC64-4930-91D0-581695F24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A472-BC8D-426F-8176-A5531F0BB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1EB7-20BB-4675-BDFE-C07541A84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84FA-923A-48AE-820C-36B3764E9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8947-882D-4DC1-8539-3C9262E2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A915-29CA-4D2E-AAEE-C6EB4D5C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3BC3-FEE8-4CC2-BAF4-3F0C77F8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0890C-5559-46A7-A166-36DDB7620E0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685800" y="152280"/>
            <a:ext cx="6019920" cy="960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6462720" y="-39600"/>
            <a:ext cx="44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1098720" y="457200"/>
            <a:ext cx="5759280" cy="8801280"/>
          </a:xfrm>
          <a:prstGeom prst="rect">
            <a:avLst/>
          </a:prstGeom>
          <a:ln w="0">
            <a:noFill/>
          </a:ln>
        </p:spPr>
      </p:pic>
      <p:sp>
        <p:nvSpPr>
          <p:cNvPr id="44" name="Text Box 6"/>
          <p:cNvSpPr/>
          <p:nvPr/>
        </p:nvSpPr>
        <p:spPr>
          <a:xfrm>
            <a:off x="2142000" y="90360"/>
            <a:ext cx="30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De slechte wereld van nu!!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7"/>
          <p:cNvSpPr/>
          <p:nvPr/>
        </p:nvSpPr>
        <p:spPr>
          <a:xfrm>
            <a:off x="2209680" y="457200"/>
            <a:ext cx="289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1799640" y="2286000"/>
            <a:ext cx="40334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De mensen maken alles zuu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Ze verpesten de natuu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Atoombommen en kernafva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Wie weet hoe het ooit eindigen zal?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Raketten staan overal gerich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Erger nog dan een bliksemschich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Rivieren vergaan van het vui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Huisvuil,pfff!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Begraven in een kuil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Oorlog kan men overal vinde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met doden,gekwetsten en blinden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Tja…’t komt erva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als men niet luisteren ka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naar honderdduizenden die smeke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dat men de oorlog zou verbreken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Dat doen de meesten van ons allemaal!!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5398920" y="9485280"/>
            <a:ext cx="112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rik De Backer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1" descr="http://www.gratisanimaties.com/dier91.gif"/>
          <p:cNvPicPr/>
          <p:nvPr/>
        </p:nvPicPr>
        <p:blipFill>
          <a:blip r:embed="rId2"/>
          <a:stretch/>
        </p:blipFill>
        <p:spPr>
          <a:xfrm>
            <a:off x="2438280" y="8686800"/>
            <a:ext cx="2895840" cy="1012680"/>
          </a:xfrm>
          <a:prstGeom prst="rect">
            <a:avLst/>
          </a:prstGeom>
          <a:ln w="0">
            <a:noFill/>
          </a:ln>
        </p:spPr>
      </p:pic>
      <p:sp>
        <p:nvSpPr>
          <p:cNvPr id="49" name="Line 12"/>
          <p:cNvSpPr/>
          <p:nvPr/>
        </p:nvSpPr>
        <p:spPr>
          <a:xfrm>
            <a:off x="2895480" y="8077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13"/>
          <p:cNvSpPr/>
          <p:nvPr/>
        </p:nvSpPr>
        <p:spPr>
          <a:xfrm>
            <a:off x="3886200" y="8077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4800600" y="8077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kstvak 14"/>
          <p:cNvSpPr/>
          <p:nvPr/>
        </p:nvSpPr>
        <p:spPr>
          <a:xfrm>
            <a:off x="5649120" y="0"/>
            <a:ext cx="102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000" spc="-1" strike="noStrike">
                <a:solidFill>
                  <a:srgbClr val="000000"/>
                </a:solidFill>
                <a:latin typeface="Times New Roman"/>
              </a:rPr>
              <a:t>Dokloef 112 blz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9T16:35:04Z</dcterms:created>
  <dc:creator>ERIK</dc:creator>
  <dc:description/>
  <dc:language>en-US</dc:language>
  <cp:lastModifiedBy>Erik de backer</cp:lastModifiedBy>
  <dcterms:modified xsi:type="dcterms:W3CDTF">2015-11-08T10:43:10Z</dcterms:modified>
  <cp:revision>2</cp:revision>
  <dc:subject/>
  <dc:title>Geen diatitel</dc:title>
</cp:coreProperties>
</file>