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154-E5F0-44A7-90D2-A67F9148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947-6E81-46A8-8DCD-320900F9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E17-A306-45E7-B5F7-E426D3D9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BE2-DEAA-4189-8168-43CE2076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401-F29E-40CE-9F3C-DD40A20C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5F9-3CB0-48D0-A80A-42B5D851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0F4-B9A9-4501-9D8B-4AA2730B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BA0-16F8-47C3-B9C0-1901460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DBD-9CCE-4BD7-B80C-47E07395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A11-962F-44A0-8136-5D47A031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377-9FDD-4CC5-92C9-B2E25550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C5E-2CFA-4659-9E7D-F32413F5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8D4F-FFDC-495B-BAE3-C54E8215E15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462720" y="-396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098720" y="457200"/>
            <a:ext cx="5759280" cy="8801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2142000" y="9036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De slechte wereld van nu!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2209680" y="4572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99640" y="2286000"/>
            <a:ext cx="403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De mensen maken alles zuu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e verpesten de natuu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toombommen en kernafv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ie weet hoe het ooit eindigen zal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aketten staan overal geric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Erger nog dan een bliksemschic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vieren vergaan van het vui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Huisvuil,pfff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graven in een kuil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log kan men overal vinde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et doden,gekwetsten en blinde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Tja…’t komt erva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ls men niet luisteren ka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naar honderdduizenden die smeke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dat men de oorlog zou verbreke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Dat doen de meesten van ons allemaal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39892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http://www.gratisanimaties.com/dier91.gif"/>
          <p:cNvPicPr/>
          <p:nvPr/>
        </p:nvPicPr>
        <p:blipFill>
          <a:blip r:embed="rId2"/>
          <a:stretch/>
        </p:blipFill>
        <p:spPr>
          <a:xfrm>
            <a:off x="2438280" y="8686800"/>
            <a:ext cx="2895840" cy="1012680"/>
          </a:xfrm>
          <a:prstGeom prst="rect">
            <a:avLst/>
          </a:prstGeom>
          <a:ln w="0">
            <a:noFill/>
          </a:ln>
        </p:spPr>
      </p:pic>
      <p:sp>
        <p:nvSpPr>
          <p:cNvPr id="49" name="Line 12"/>
          <p:cNvSpPr/>
          <p:nvPr/>
        </p:nvSpPr>
        <p:spPr>
          <a:xfrm>
            <a:off x="2895480" y="8077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3886200" y="8077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4800600" y="8077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kstvak 14"/>
          <p:cNvSpPr/>
          <p:nvPr/>
        </p:nvSpPr>
        <p:spPr>
          <a:xfrm>
            <a:off x="5649120" y="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Times New Roman"/>
              </a:rPr>
              <a:t>Dokloef 112 blz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6:35:04Z</dcterms:created>
  <dc:creator>ERIK</dc:creator>
  <dc:description/>
  <dc:language>en-US</dc:language>
  <cp:lastModifiedBy>Erik de backer</cp:lastModifiedBy>
  <dcterms:modified xsi:type="dcterms:W3CDTF">2015-11-08T10:43:10Z</dcterms:modified>
  <cp:revision>2</cp:revision>
  <dc:subject/>
  <dc:title>Geen diatitel</dc:title>
</cp:coreProperties>
</file>