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E82-3C37-4CD7-9EB7-2FE33D10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27F-CFEB-4F11-8DCD-965E9ADB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3DD-C520-46A0-BD51-7ED2F89B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FBF-4D98-4A45-A726-BC075D97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5E7-E248-4A18-A316-A605439C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D4E-062D-4A40-A0BD-D4292714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C62-FDAE-44D8-BB15-D79CB7CF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A74-CEAA-4329-9633-7C43763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7C6-BEE3-4FDE-96C6-60C0F1C1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E1B-BBE8-47FE-B6E1-7DD8CCE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3C8-96AA-428D-86C0-8AF107C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223-C2B9-402C-A407-813DE324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C7BF-3AC5-43F8-8A4D-7CAA0B7A8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11448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bus-71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151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400" y="419040"/>
            <a:ext cx="54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childerijen moeten de beschouwer uitdagen…e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verraste kijker moet erin duiken,alsof hij een gespr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g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2952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1314360" cy="1905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920" y="308628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I  - L                         M = D         - W   + E                 H + M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160" y="323856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 -                      - - - - - -                - - - - - -       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2880" y="1574640"/>
            <a:ext cx="1281240" cy="1308240"/>
          </a:xfrm>
          <a:custGeom>
            <a:avLst/>
            <a:gdLst/>
            <a:ahLst/>
            <a:rect l="l" t="t" r="r" b="b"/>
            <a:pathLst>
              <a:path w="807" h="824">
                <a:moveTo>
                  <a:pt x="41" y="8"/>
                </a:moveTo>
                <a:cubicBezTo>
                  <a:pt x="2" y="47"/>
                  <a:pt x="13" y="52"/>
                  <a:pt x="49" y="88"/>
                </a:cubicBezTo>
                <a:cubicBezTo>
                  <a:pt x="61" y="125"/>
                  <a:pt x="92" y="147"/>
                  <a:pt x="129" y="160"/>
                </a:cubicBezTo>
                <a:cubicBezTo>
                  <a:pt x="150" y="168"/>
                  <a:pt x="193" y="176"/>
                  <a:pt x="193" y="176"/>
                </a:cubicBezTo>
                <a:cubicBezTo>
                  <a:pt x="242" y="209"/>
                  <a:pt x="239" y="251"/>
                  <a:pt x="257" y="304"/>
                </a:cubicBezTo>
                <a:cubicBezTo>
                  <a:pt x="270" y="397"/>
                  <a:pt x="266" y="489"/>
                  <a:pt x="361" y="536"/>
                </a:cubicBezTo>
                <a:cubicBezTo>
                  <a:pt x="381" y="546"/>
                  <a:pt x="415" y="549"/>
                  <a:pt x="433" y="552"/>
                </a:cubicBezTo>
                <a:cubicBezTo>
                  <a:pt x="470" y="607"/>
                  <a:pt x="459" y="582"/>
                  <a:pt x="473" y="624"/>
                </a:cubicBezTo>
                <a:cubicBezTo>
                  <a:pt x="478" y="728"/>
                  <a:pt x="450" y="792"/>
                  <a:pt x="545" y="824"/>
                </a:cubicBezTo>
                <a:cubicBezTo>
                  <a:pt x="624" y="804"/>
                  <a:pt x="708" y="818"/>
                  <a:pt x="785" y="792"/>
                </a:cubicBezTo>
                <a:cubicBezTo>
                  <a:pt x="807" y="758"/>
                  <a:pt x="802" y="750"/>
                  <a:pt x="769" y="728"/>
                </a:cubicBezTo>
                <a:cubicBezTo>
                  <a:pt x="691" y="744"/>
                  <a:pt x="648" y="742"/>
                  <a:pt x="561" y="736"/>
                </a:cubicBezTo>
                <a:cubicBezTo>
                  <a:pt x="546" y="692"/>
                  <a:pt x="539" y="645"/>
                  <a:pt x="529" y="600"/>
                </a:cubicBezTo>
                <a:cubicBezTo>
                  <a:pt x="528" y="597"/>
                  <a:pt x="519" y="530"/>
                  <a:pt x="513" y="520"/>
                </a:cubicBezTo>
                <a:cubicBezTo>
                  <a:pt x="504" y="503"/>
                  <a:pt x="480" y="490"/>
                  <a:pt x="465" y="480"/>
                </a:cubicBezTo>
                <a:cubicBezTo>
                  <a:pt x="457" y="483"/>
                  <a:pt x="449" y="489"/>
                  <a:pt x="441" y="488"/>
                </a:cubicBezTo>
                <a:cubicBezTo>
                  <a:pt x="424" y="486"/>
                  <a:pt x="393" y="472"/>
                  <a:pt x="393" y="472"/>
                </a:cubicBezTo>
                <a:cubicBezTo>
                  <a:pt x="379" y="431"/>
                  <a:pt x="348" y="406"/>
                  <a:pt x="329" y="368"/>
                </a:cubicBezTo>
                <a:cubicBezTo>
                  <a:pt x="296" y="302"/>
                  <a:pt x="351" y="389"/>
                  <a:pt x="305" y="320"/>
                </a:cubicBezTo>
                <a:cubicBezTo>
                  <a:pt x="298" y="255"/>
                  <a:pt x="294" y="133"/>
                  <a:pt x="209" y="112"/>
                </a:cubicBezTo>
                <a:cubicBezTo>
                  <a:pt x="177" y="104"/>
                  <a:pt x="156" y="98"/>
                  <a:pt x="129" y="80"/>
                </a:cubicBezTo>
                <a:cubicBezTo>
                  <a:pt x="120" y="52"/>
                  <a:pt x="110" y="29"/>
                  <a:pt x="81" y="16"/>
                </a:cubicBezTo>
                <a:cubicBezTo>
                  <a:pt x="66" y="9"/>
                  <a:pt x="33" y="0"/>
                  <a:pt x="33" y="0"/>
                </a:cubicBezTo>
                <a:cubicBezTo>
                  <a:pt x="0" y="22"/>
                  <a:pt x="0" y="18"/>
                  <a:pt x="41" y="8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9120" y="1968480"/>
            <a:ext cx="457200" cy="216000"/>
          </a:xfrm>
          <a:custGeom>
            <a:avLst/>
            <a:gdLst/>
            <a:ahLst/>
            <a:rect l="l" t="t" r="r" b="b"/>
            <a:pathLst>
              <a:path w="288" h="136">
                <a:moveTo>
                  <a:pt x="64" y="104"/>
                </a:moveTo>
                <a:cubicBezTo>
                  <a:pt x="0" y="125"/>
                  <a:pt x="11" y="136"/>
                  <a:pt x="32" y="72"/>
                </a:cubicBezTo>
                <a:cubicBezTo>
                  <a:pt x="37" y="56"/>
                  <a:pt x="64" y="61"/>
                  <a:pt x="80" y="56"/>
                </a:cubicBezTo>
                <a:cubicBezTo>
                  <a:pt x="108" y="47"/>
                  <a:pt x="151" y="40"/>
                  <a:pt x="176" y="24"/>
                </a:cubicBezTo>
                <a:cubicBezTo>
                  <a:pt x="207" y="3"/>
                  <a:pt x="191" y="11"/>
                  <a:pt x="224" y="0"/>
                </a:cubicBezTo>
                <a:cubicBezTo>
                  <a:pt x="235" y="16"/>
                  <a:pt x="245" y="32"/>
                  <a:pt x="256" y="48"/>
                </a:cubicBezTo>
                <a:cubicBezTo>
                  <a:pt x="262" y="57"/>
                  <a:pt x="257" y="71"/>
                  <a:pt x="264" y="80"/>
                </a:cubicBezTo>
                <a:cubicBezTo>
                  <a:pt x="269" y="87"/>
                  <a:pt x="280" y="85"/>
                  <a:pt x="288" y="88"/>
                </a:cubicBezTo>
                <a:cubicBezTo>
                  <a:pt x="236" y="105"/>
                  <a:pt x="234" y="105"/>
                  <a:pt x="184" y="88"/>
                </a:cubicBezTo>
                <a:cubicBezTo>
                  <a:pt x="176" y="90"/>
                  <a:pt x="137" y="99"/>
                  <a:pt x="128" y="104"/>
                </a:cubicBezTo>
                <a:cubicBezTo>
                  <a:pt x="111" y="113"/>
                  <a:pt x="80" y="136"/>
                  <a:pt x="80" y="136"/>
                </a:cubicBezTo>
                <a:cubicBezTo>
                  <a:pt x="61" y="133"/>
                  <a:pt x="41" y="136"/>
                  <a:pt x="24" y="128"/>
                </a:cubicBezTo>
                <a:cubicBezTo>
                  <a:pt x="3" y="118"/>
                  <a:pt x="22" y="56"/>
                  <a:pt x="48" y="72"/>
                </a:cubicBezTo>
                <a:cubicBezTo>
                  <a:pt x="58" y="78"/>
                  <a:pt x="59" y="93"/>
                  <a:pt x="64" y="104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4480" y="1892160"/>
            <a:ext cx="901800" cy="838440"/>
          </a:xfrm>
          <a:custGeom>
            <a:avLst/>
            <a:gdLst/>
            <a:ahLst/>
            <a:rect l="l" t="t" r="r" b="b"/>
            <a:pathLst>
              <a:path w="568" h="528">
                <a:moveTo>
                  <a:pt x="0" y="48"/>
                </a:moveTo>
                <a:cubicBezTo>
                  <a:pt x="32" y="37"/>
                  <a:pt x="64" y="27"/>
                  <a:pt x="96" y="16"/>
                </a:cubicBezTo>
                <a:cubicBezTo>
                  <a:pt x="112" y="11"/>
                  <a:pt x="144" y="0"/>
                  <a:pt x="144" y="0"/>
                </a:cubicBezTo>
                <a:cubicBezTo>
                  <a:pt x="179" y="12"/>
                  <a:pt x="206" y="29"/>
                  <a:pt x="240" y="40"/>
                </a:cubicBezTo>
                <a:cubicBezTo>
                  <a:pt x="265" y="78"/>
                  <a:pt x="296" y="78"/>
                  <a:pt x="336" y="88"/>
                </a:cubicBezTo>
                <a:cubicBezTo>
                  <a:pt x="369" y="80"/>
                  <a:pt x="387" y="69"/>
                  <a:pt x="416" y="56"/>
                </a:cubicBezTo>
                <a:cubicBezTo>
                  <a:pt x="431" y="49"/>
                  <a:pt x="448" y="45"/>
                  <a:pt x="464" y="40"/>
                </a:cubicBezTo>
                <a:cubicBezTo>
                  <a:pt x="472" y="37"/>
                  <a:pt x="488" y="32"/>
                  <a:pt x="488" y="32"/>
                </a:cubicBezTo>
                <a:cubicBezTo>
                  <a:pt x="504" y="43"/>
                  <a:pt x="520" y="53"/>
                  <a:pt x="536" y="64"/>
                </a:cubicBezTo>
                <a:cubicBezTo>
                  <a:pt x="552" y="75"/>
                  <a:pt x="568" y="112"/>
                  <a:pt x="568" y="112"/>
                </a:cubicBezTo>
                <a:cubicBezTo>
                  <a:pt x="561" y="168"/>
                  <a:pt x="563" y="246"/>
                  <a:pt x="512" y="280"/>
                </a:cubicBezTo>
                <a:cubicBezTo>
                  <a:pt x="501" y="312"/>
                  <a:pt x="488" y="328"/>
                  <a:pt x="464" y="352"/>
                </a:cubicBezTo>
                <a:cubicBezTo>
                  <a:pt x="453" y="395"/>
                  <a:pt x="474" y="455"/>
                  <a:pt x="432" y="488"/>
                </a:cubicBezTo>
                <a:cubicBezTo>
                  <a:pt x="425" y="493"/>
                  <a:pt x="416" y="492"/>
                  <a:pt x="408" y="496"/>
                </a:cubicBezTo>
                <a:cubicBezTo>
                  <a:pt x="399" y="500"/>
                  <a:pt x="393" y="508"/>
                  <a:pt x="384" y="512"/>
                </a:cubicBezTo>
                <a:cubicBezTo>
                  <a:pt x="369" y="519"/>
                  <a:pt x="336" y="528"/>
                  <a:pt x="336" y="528"/>
                </a:cubicBezTo>
                <a:cubicBezTo>
                  <a:pt x="269" y="506"/>
                  <a:pt x="319" y="478"/>
                  <a:pt x="352" y="456"/>
                </a:cubicBezTo>
                <a:cubicBezTo>
                  <a:pt x="371" y="427"/>
                  <a:pt x="379" y="417"/>
                  <a:pt x="368" y="384"/>
                </a:cubicBezTo>
                <a:cubicBezTo>
                  <a:pt x="371" y="368"/>
                  <a:pt x="369" y="351"/>
                  <a:pt x="376" y="336"/>
                </a:cubicBezTo>
                <a:cubicBezTo>
                  <a:pt x="384" y="320"/>
                  <a:pt x="433" y="306"/>
                  <a:pt x="448" y="296"/>
                </a:cubicBezTo>
                <a:cubicBezTo>
                  <a:pt x="464" y="272"/>
                  <a:pt x="472" y="248"/>
                  <a:pt x="488" y="224"/>
                </a:cubicBezTo>
                <a:cubicBezTo>
                  <a:pt x="488" y="222"/>
                  <a:pt x="484" y="157"/>
                  <a:pt x="464" y="152"/>
                </a:cubicBezTo>
                <a:cubicBezTo>
                  <a:pt x="433" y="144"/>
                  <a:pt x="356" y="173"/>
                  <a:pt x="328" y="192"/>
                </a:cubicBezTo>
                <a:cubicBezTo>
                  <a:pt x="317" y="189"/>
                  <a:pt x="304" y="191"/>
                  <a:pt x="296" y="184"/>
                </a:cubicBezTo>
                <a:cubicBezTo>
                  <a:pt x="282" y="171"/>
                  <a:pt x="283" y="141"/>
                  <a:pt x="264" y="136"/>
                </a:cubicBezTo>
                <a:cubicBezTo>
                  <a:pt x="219" y="125"/>
                  <a:pt x="243" y="130"/>
                  <a:pt x="192" y="120"/>
                </a:cubicBezTo>
                <a:cubicBezTo>
                  <a:pt x="156" y="129"/>
                  <a:pt x="138" y="123"/>
                  <a:pt x="104" y="112"/>
                </a:cubicBezTo>
                <a:cubicBezTo>
                  <a:pt x="88" y="117"/>
                  <a:pt x="72" y="123"/>
                  <a:pt x="56" y="128"/>
                </a:cubicBezTo>
                <a:cubicBezTo>
                  <a:pt x="48" y="131"/>
                  <a:pt x="32" y="136"/>
                  <a:pt x="32" y="136"/>
                </a:cubicBezTo>
                <a:cubicBezTo>
                  <a:pt x="24" y="133"/>
                  <a:pt x="12" y="136"/>
                  <a:pt x="8" y="128"/>
                </a:cubicBezTo>
                <a:cubicBezTo>
                  <a:pt x="4" y="120"/>
                  <a:pt x="16" y="112"/>
                  <a:pt x="16" y="104"/>
                </a:cubicBezTo>
                <a:cubicBezTo>
                  <a:pt x="16" y="94"/>
                  <a:pt x="4" y="59"/>
                  <a:pt x="0" y="48"/>
                </a:cubicBezTo>
                <a:cubicBezTo>
                  <a:pt x="22" y="33"/>
                  <a:pt x="37" y="24"/>
                  <a:pt x="64" y="24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49320" y="1658880"/>
            <a:ext cx="971640" cy="1554120"/>
          </a:xfrm>
          <a:custGeom>
            <a:avLst/>
            <a:gdLst/>
            <a:ahLst/>
            <a:rect l="l" t="t" r="r" b="b"/>
            <a:pathLst>
              <a:path w="612" h="979">
                <a:moveTo>
                  <a:pt x="563" y="11"/>
                </a:moveTo>
                <a:cubicBezTo>
                  <a:pt x="530" y="0"/>
                  <a:pt x="520" y="8"/>
                  <a:pt x="491" y="27"/>
                </a:cubicBezTo>
                <a:cubicBezTo>
                  <a:pt x="476" y="71"/>
                  <a:pt x="474" y="89"/>
                  <a:pt x="435" y="115"/>
                </a:cubicBezTo>
                <a:cubicBezTo>
                  <a:pt x="416" y="172"/>
                  <a:pt x="443" y="103"/>
                  <a:pt x="403" y="163"/>
                </a:cubicBezTo>
                <a:cubicBezTo>
                  <a:pt x="369" y="214"/>
                  <a:pt x="402" y="249"/>
                  <a:pt x="339" y="291"/>
                </a:cubicBezTo>
                <a:cubicBezTo>
                  <a:pt x="330" y="317"/>
                  <a:pt x="335" y="318"/>
                  <a:pt x="307" y="331"/>
                </a:cubicBezTo>
                <a:cubicBezTo>
                  <a:pt x="292" y="338"/>
                  <a:pt x="259" y="347"/>
                  <a:pt x="259" y="347"/>
                </a:cubicBezTo>
                <a:cubicBezTo>
                  <a:pt x="248" y="363"/>
                  <a:pt x="241" y="381"/>
                  <a:pt x="227" y="395"/>
                </a:cubicBezTo>
                <a:cubicBezTo>
                  <a:pt x="219" y="403"/>
                  <a:pt x="210" y="410"/>
                  <a:pt x="203" y="419"/>
                </a:cubicBezTo>
                <a:cubicBezTo>
                  <a:pt x="153" y="484"/>
                  <a:pt x="193" y="452"/>
                  <a:pt x="147" y="483"/>
                </a:cubicBezTo>
                <a:cubicBezTo>
                  <a:pt x="120" y="524"/>
                  <a:pt x="92" y="568"/>
                  <a:pt x="51" y="595"/>
                </a:cubicBezTo>
                <a:cubicBezTo>
                  <a:pt x="30" y="627"/>
                  <a:pt x="0" y="639"/>
                  <a:pt x="35" y="667"/>
                </a:cubicBezTo>
                <a:cubicBezTo>
                  <a:pt x="42" y="672"/>
                  <a:pt x="51" y="672"/>
                  <a:pt x="59" y="675"/>
                </a:cubicBezTo>
                <a:cubicBezTo>
                  <a:pt x="69" y="690"/>
                  <a:pt x="73" y="708"/>
                  <a:pt x="83" y="723"/>
                </a:cubicBezTo>
                <a:cubicBezTo>
                  <a:pt x="89" y="732"/>
                  <a:pt x="100" y="738"/>
                  <a:pt x="107" y="747"/>
                </a:cubicBezTo>
                <a:cubicBezTo>
                  <a:pt x="123" y="767"/>
                  <a:pt x="136" y="796"/>
                  <a:pt x="147" y="819"/>
                </a:cubicBezTo>
                <a:cubicBezTo>
                  <a:pt x="178" y="881"/>
                  <a:pt x="158" y="939"/>
                  <a:pt x="219" y="979"/>
                </a:cubicBezTo>
                <a:cubicBezTo>
                  <a:pt x="229" y="949"/>
                  <a:pt x="249" y="942"/>
                  <a:pt x="267" y="915"/>
                </a:cubicBezTo>
                <a:cubicBezTo>
                  <a:pt x="256" y="883"/>
                  <a:pt x="242" y="877"/>
                  <a:pt x="211" y="867"/>
                </a:cubicBezTo>
                <a:cubicBezTo>
                  <a:pt x="218" y="821"/>
                  <a:pt x="234" y="749"/>
                  <a:pt x="179" y="731"/>
                </a:cubicBezTo>
                <a:cubicBezTo>
                  <a:pt x="153" y="705"/>
                  <a:pt x="135" y="671"/>
                  <a:pt x="123" y="635"/>
                </a:cubicBezTo>
                <a:cubicBezTo>
                  <a:pt x="139" y="624"/>
                  <a:pt x="155" y="614"/>
                  <a:pt x="171" y="603"/>
                </a:cubicBezTo>
                <a:cubicBezTo>
                  <a:pt x="178" y="598"/>
                  <a:pt x="175" y="587"/>
                  <a:pt x="179" y="579"/>
                </a:cubicBezTo>
                <a:cubicBezTo>
                  <a:pt x="196" y="545"/>
                  <a:pt x="194" y="563"/>
                  <a:pt x="219" y="531"/>
                </a:cubicBezTo>
                <a:cubicBezTo>
                  <a:pt x="264" y="473"/>
                  <a:pt x="229" y="490"/>
                  <a:pt x="275" y="475"/>
                </a:cubicBezTo>
                <a:cubicBezTo>
                  <a:pt x="292" y="449"/>
                  <a:pt x="326" y="413"/>
                  <a:pt x="355" y="403"/>
                </a:cubicBezTo>
                <a:cubicBezTo>
                  <a:pt x="363" y="395"/>
                  <a:pt x="370" y="385"/>
                  <a:pt x="379" y="379"/>
                </a:cubicBezTo>
                <a:cubicBezTo>
                  <a:pt x="386" y="374"/>
                  <a:pt x="396" y="376"/>
                  <a:pt x="403" y="371"/>
                </a:cubicBezTo>
                <a:cubicBezTo>
                  <a:pt x="410" y="366"/>
                  <a:pt x="422" y="327"/>
                  <a:pt x="427" y="323"/>
                </a:cubicBezTo>
                <a:cubicBezTo>
                  <a:pt x="436" y="316"/>
                  <a:pt x="448" y="318"/>
                  <a:pt x="459" y="315"/>
                </a:cubicBezTo>
                <a:cubicBezTo>
                  <a:pt x="493" y="281"/>
                  <a:pt x="500" y="255"/>
                  <a:pt x="515" y="211"/>
                </a:cubicBezTo>
                <a:cubicBezTo>
                  <a:pt x="512" y="198"/>
                  <a:pt x="500" y="183"/>
                  <a:pt x="507" y="171"/>
                </a:cubicBezTo>
                <a:cubicBezTo>
                  <a:pt x="516" y="154"/>
                  <a:pt x="555" y="139"/>
                  <a:pt x="555" y="139"/>
                </a:cubicBezTo>
                <a:cubicBezTo>
                  <a:pt x="573" y="112"/>
                  <a:pt x="593" y="86"/>
                  <a:pt x="611" y="59"/>
                </a:cubicBezTo>
                <a:cubicBezTo>
                  <a:pt x="608" y="48"/>
                  <a:pt x="612" y="34"/>
                  <a:pt x="603" y="27"/>
                </a:cubicBezTo>
                <a:cubicBezTo>
                  <a:pt x="596" y="22"/>
                  <a:pt x="587" y="38"/>
                  <a:pt x="579" y="35"/>
                </a:cubicBezTo>
                <a:cubicBezTo>
                  <a:pt x="570" y="31"/>
                  <a:pt x="563" y="11"/>
                  <a:pt x="563" y="11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66960" y="1739880"/>
            <a:ext cx="114120" cy="50760"/>
          </a:xfrm>
          <a:custGeom>
            <a:avLst/>
            <a:gdLst/>
            <a:ahLst/>
            <a:rect l="l" t="t" r="r" b="b"/>
            <a:pathLst>
              <a:path w="72" h="32">
                <a:moveTo>
                  <a:pt x="0" y="32"/>
                </a:moveTo>
                <a:cubicBezTo>
                  <a:pt x="8" y="27"/>
                  <a:pt x="15" y="20"/>
                  <a:pt x="24" y="16"/>
                </a:cubicBezTo>
                <a:cubicBezTo>
                  <a:pt x="39" y="9"/>
                  <a:pt x="72" y="0"/>
                  <a:pt x="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46320" y="20574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cubicBezTo>
                  <a:pt x="8" y="5"/>
                  <a:pt x="24" y="0"/>
                  <a:pt x="24" y="0"/>
                </a:cubicBezTo>
                <a:cubicBezTo>
                  <a:pt x="24" y="0"/>
                  <a:pt x="8" y="5"/>
                  <a:pt x="0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9040" y="1941480"/>
            <a:ext cx="152640" cy="115920"/>
          </a:xfrm>
          <a:custGeom>
            <a:avLst/>
            <a:gdLst/>
            <a:ahLst/>
            <a:rect l="l" t="t" r="r" b="b"/>
            <a:pathLst>
              <a:path w="96" h="73">
                <a:moveTo>
                  <a:pt x="0" y="1"/>
                </a:moveTo>
                <a:cubicBezTo>
                  <a:pt x="24" y="5"/>
                  <a:pt x="55" y="0"/>
                  <a:pt x="72" y="17"/>
                </a:cubicBezTo>
                <a:cubicBezTo>
                  <a:pt x="80" y="25"/>
                  <a:pt x="83" y="38"/>
                  <a:pt x="88" y="49"/>
                </a:cubicBezTo>
                <a:cubicBezTo>
                  <a:pt x="91" y="57"/>
                  <a:pt x="96" y="73"/>
                  <a:pt x="96" y="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71880" y="2325600"/>
            <a:ext cx="101520" cy="112680"/>
          </a:xfrm>
          <a:custGeom>
            <a:avLst/>
            <a:gdLst/>
            <a:ahLst/>
            <a:rect l="l" t="t" r="r" b="b"/>
            <a:pathLst>
              <a:path w="64" h="71">
                <a:moveTo>
                  <a:pt x="0" y="15"/>
                </a:moveTo>
                <a:cubicBezTo>
                  <a:pt x="44" y="0"/>
                  <a:pt x="64" y="28"/>
                  <a:pt x="64" y="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6640" y="2781360"/>
            <a:ext cx="127080" cy="25200"/>
          </a:xfrm>
          <a:custGeom>
            <a:avLst/>
            <a:gdLst/>
            <a:ahLst/>
            <a:rect l="l" t="t" r="r" b="b"/>
            <a:pathLst>
              <a:path w="80" h="16">
                <a:moveTo>
                  <a:pt x="0" y="16"/>
                </a:moveTo>
                <a:cubicBezTo>
                  <a:pt x="8" y="11"/>
                  <a:pt x="14" y="0"/>
                  <a:pt x="24" y="0"/>
                </a:cubicBezTo>
                <a:cubicBezTo>
                  <a:pt x="43" y="0"/>
                  <a:pt x="61" y="16"/>
                  <a:pt x="80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6120" y="2768760"/>
            <a:ext cx="19080" cy="101520"/>
          </a:xfrm>
          <a:custGeom>
            <a:avLst/>
            <a:gdLst/>
            <a:ahLst/>
            <a:rect l="l" t="t" r="r" b="b"/>
            <a:pathLst>
              <a:path w="12" h="64">
                <a:moveTo>
                  <a:pt x="0" y="64"/>
                </a:moveTo>
                <a:cubicBezTo>
                  <a:pt x="12" y="27"/>
                  <a:pt x="8" y="48"/>
                  <a:pt x="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374920"/>
            <a:ext cx="50760" cy="114120"/>
          </a:xfrm>
          <a:custGeom>
            <a:avLst/>
            <a:gdLst/>
            <a:ahLst/>
            <a:rect l="l" t="t" r="r" b="b"/>
            <a:pathLst>
              <a:path w="32" h="72">
                <a:moveTo>
                  <a:pt x="0" y="72"/>
                </a:moveTo>
                <a:cubicBezTo>
                  <a:pt x="27" y="63"/>
                  <a:pt x="32" y="69"/>
                  <a:pt x="32" y="32"/>
                </a:cubicBezTo>
                <a:cubicBezTo>
                  <a:pt x="32" y="24"/>
                  <a:pt x="30" y="14"/>
                  <a:pt x="24" y="8"/>
                </a:cubicBezTo>
                <a:cubicBezTo>
                  <a:pt x="18" y="2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21040" y="1955880"/>
            <a:ext cx="50760" cy="177840"/>
          </a:xfrm>
          <a:custGeom>
            <a:avLst/>
            <a:gdLst/>
            <a:ahLst/>
            <a:rect l="l" t="t" r="r" b="b"/>
            <a:pathLst>
              <a:path w="32" h="112">
                <a:moveTo>
                  <a:pt x="0" y="112"/>
                </a:moveTo>
                <a:cubicBezTo>
                  <a:pt x="3" y="93"/>
                  <a:pt x="3" y="74"/>
                  <a:pt x="8" y="56"/>
                </a:cubicBezTo>
                <a:cubicBezTo>
                  <a:pt x="15" y="34"/>
                  <a:pt x="32" y="26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8760" y="2451240"/>
            <a:ext cx="152280" cy="95040"/>
          </a:xfrm>
          <a:custGeom>
            <a:avLst/>
            <a:gdLst/>
            <a:ahLst/>
            <a:rect l="l" t="t" r="r" b="b"/>
            <a:pathLst>
              <a:path w="96" h="60">
                <a:moveTo>
                  <a:pt x="0" y="0"/>
                </a:moveTo>
                <a:cubicBezTo>
                  <a:pt x="18" y="6"/>
                  <a:pt x="96" y="60"/>
                  <a:pt x="96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4280" y="2019240"/>
            <a:ext cx="50760" cy="177840"/>
          </a:xfrm>
          <a:custGeom>
            <a:avLst/>
            <a:gdLst/>
            <a:ahLst/>
            <a:rect l="l" t="t" r="r" b="b"/>
            <a:pathLst>
              <a:path w="32" h="112">
                <a:moveTo>
                  <a:pt x="32" y="0"/>
                </a:moveTo>
                <a:cubicBezTo>
                  <a:pt x="13" y="57"/>
                  <a:pt x="25" y="34"/>
                  <a:pt x="0" y="72"/>
                </a:cubicBezTo>
                <a:cubicBezTo>
                  <a:pt x="9" y="107"/>
                  <a:pt x="8" y="93"/>
                  <a:pt x="8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1930320"/>
            <a:ext cx="38160" cy="165240"/>
          </a:xfrm>
          <a:custGeom>
            <a:avLst/>
            <a:gdLst/>
            <a:ahLst/>
            <a:rect l="l" t="t" r="r" b="b"/>
            <a:pathLst>
              <a:path w="24" h="104">
                <a:moveTo>
                  <a:pt x="0" y="0"/>
                </a:moveTo>
                <a:cubicBezTo>
                  <a:pt x="14" y="41"/>
                  <a:pt x="24" y="63"/>
                  <a:pt x="24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27280" y="1714680"/>
            <a:ext cx="88920" cy="88560"/>
          </a:xfrm>
          <a:custGeom>
            <a:avLst/>
            <a:gdLst/>
            <a:ahLst/>
            <a:rect l="l" t="t" r="r" b="b"/>
            <a:pathLst>
              <a:path w="56" h="56">
                <a:moveTo>
                  <a:pt x="0" y="0"/>
                </a:moveTo>
                <a:cubicBezTo>
                  <a:pt x="5" y="8"/>
                  <a:pt x="8" y="18"/>
                  <a:pt x="16" y="24"/>
                </a:cubicBezTo>
                <a:cubicBezTo>
                  <a:pt x="23" y="29"/>
                  <a:pt x="33" y="27"/>
                  <a:pt x="40" y="32"/>
                </a:cubicBezTo>
                <a:cubicBezTo>
                  <a:pt x="48" y="38"/>
                  <a:pt x="56" y="56"/>
                  <a:pt x="5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2160" y="15620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0" y="0"/>
                </a:moveTo>
                <a:cubicBezTo>
                  <a:pt x="19" y="19"/>
                  <a:pt x="44" y="32"/>
                  <a:pt x="5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90560" y="16002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179064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56" y="0"/>
                </a:moveTo>
                <a:cubicBezTo>
                  <a:pt x="40" y="5"/>
                  <a:pt x="19" y="10"/>
                  <a:pt x="8" y="24"/>
                </a:cubicBezTo>
                <a:cubicBezTo>
                  <a:pt x="3" y="31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1994040"/>
            <a:ext cx="22320" cy="203040"/>
          </a:xfrm>
          <a:custGeom>
            <a:avLst/>
            <a:gdLst/>
            <a:ahLst/>
            <a:rect l="l" t="t" r="r" b="b"/>
            <a:pathLst>
              <a:path w="14" h="128">
                <a:moveTo>
                  <a:pt x="0" y="0"/>
                </a:moveTo>
                <a:cubicBezTo>
                  <a:pt x="14" y="43"/>
                  <a:pt x="0" y="82"/>
                  <a:pt x="0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44720" y="2165400"/>
            <a:ext cx="76320" cy="1332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12"/>
                </a:moveTo>
                <a:cubicBezTo>
                  <a:pt x="8" y="9"/>
                  <a:pt x="16" y="0"/>
                  <a:pt x="24" y="4"/>
                </a:cubicBezTo>
                <a:cubicBezTo>
                  <a:pt x="48" y="16"/>
                  <a:pt x="24" y="84"/>
                  <a:pt x="24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29080" y="2577960"/>
            <a:ext cx="8856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56" y="0"/>
                </a:moveTo>
                <a:cubicBezTo>
                  <a:pt x="40" y="5"/>
                  <a:pt x="19" y="10"/>
                  <a:pt x="8" y="24"/>
                </a:cubicBezTo>
                <a:cubicBezTo>
                  <a:pt x="3" y="31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82880" y="2716920"/>
            <a:ext cx="88920" cy="101880"/>
          </a:xfrm>
          <a:custGeom>
            <a:avLst/>
            <a:gdLst/>
            <a:ahLst/>
            <a:rect l="l" t="t" r="r" b="b"/>
            <a:pathLst>
              <a:path w="248" h="80">
                <a:moveTo>
                  <a:pt x="56" y="40"/>
                </a:moveTo>
                <a:cubicBezTo>
                  <a:pt x="30" y="49"/>
                  <a:pt x="13" y="55"/>
                  <a:pt x="0" y="80"/>
                </a:cubicBezTo>
                <a:lnTo>
                  <a:pt x="2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552760"/>
            <a:ext cx="114480" cy="152280"/>
          </a:xfrm>
          <a:custGeom>
            <a:avLst/>
            <a:gdLst/>
            <a:ahLst/>
            <a:rect l="l" t="t" r="r" b="b"/>
            <a:pathLst>
              <a:path w="72" h="96">
                <a:moveTo>
                  <a:pt x="72" y="0"/>
                </a:moveTo>
                <a:cubicBezTo>
                  <a:pt x="36" y="24"/>
                  <a:pt x="32" y="64"/>
                  <a:pt x="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5680" y="2857680"/>
            <a:ext cx="165240" cy="114120"/>
          </a:xfrm>
          <a:custGeom>
            <a:avLst/>
            <a:gdLst/>
            <a:ahLst/>
            <a:rect l="l" t="t" r="r" b="b"/>
            <a:pathLst>
              <a:path w="104" h="72">
                <a:moveTo>
                  <a:pt x="0" y="0"/>
                </a:moveTo>
                <a:cubicBezTo>
                  <a:pt x="11" y="16"/>
                  <a:pt x="14" y="42"/>
                  <a:pt x="32" y="48"/>
                </a:cubicBezTo>
                <a:cubicBezTo>
                  <a:pt x="48" y="53"/>
                  <a:pt x="64" y="59"/>
                  <a:pt x="80" y="64"/>
                </a:cubicBezTo>
                <a:cubicBezTo>
                  <a:pt x="88" y="67"/>
                  <a:pt x="104" y="72"/>
                  <a:pt x="104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895480"/>
            <a:ext cx="164880" cy="39960"/>
          </a:xfrm>
          <a:custGeom>
            <a:avLst/>
            <a:gdLst/>
            <a:ahLst/>
            <a:rect l="l" t="t" r="r" b="b"/>
            <a:pathLst>
              <a:path w="104" h="25">
                <a:moveTo>
                  <a:pt x="0" y="24"/>
                </a:moveTo>
                <a:cubicBezTo>
                  <a:pt x="28" y="21"/>
                  <a:pt x="79" y="25"/>
                  <a:pt x="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098880"/>
            <a:ext cx="101520" cy="177840"/>
          </a:xfrm>
          <a:custGeom>
            <a:avLst/>
            <a:gdLst/>
            <a:ahLst/>
            <a:rect l="l" t="t" r="r" b="b"/>
            <a:pathLst>
              <a:path w="64" h="112">
                <a:moveTo>
                  <a:pt x="0" y="0"/>
                </a:moveTo>
                <a:cubicBezTo>
                  <a:pt x="15" y="45"/>
                  <a:pt x="30" y="78"/>
                  <a:pt x="6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3400" y="290844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3" y="24"/>
                  <a:pt x="0" y="49"/>
                  <a:pt x="8" y="72"/>
                </a:cubicBezTo>
                <a:cubicBezTo>
                  <a:pt x="14" y="90"/>
                  <a:pt x="34" y="102"/>
                  <a:pt x="40" y="120"/>
                </a:cubicBezTo>
                <a:cubicBezTo>
                  <a:pt x="43" y="128"/>
                  <a:pt x="48" y="144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968480"/>
            <a:ext cx="177840" cy="88920"/>
          </a:xfrm>
          <a:custGeom>
            <a:avLst/>
            <a:gdLst/>
            <a:ahLst/>
            <a:rect l="l" t="t" r="r" b="b"/>
            <a:pathLst>
              <a:path w="112" h="56">
                <a:moveTo>
                  <a:pt x="112" y="0"/>
                </a:moveTo>
                <a:cubicBezTo>
                  <a:pt x="73" y="13"/>
                  <a:pt x="29" y="27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3240" y="2222640"/>
            <a:ext cx="101880" cy="3780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4"/>
                </a:moveTo>
                <a:cubicBezTo>
                  <a:pt x="54" y="6"/>
                  <a:pt x="33" y="16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0120" y="2565360"/>
            <a:ext cx="109440" cy="177840"/>
          </a:xfrm>
          <a:custGeom>
            <a:avLst/>
            <a:gdLst/>
            <a:ahLst/>
            <a:rect l="l" t="t" r="r" b="b"/>
            <a:pathLst>
              <a:path w="69" h="112">
                <a:moveTo>
                  <a:pt x="69" y="0"/>
                </a:moveTo>
                <a:cubicBezTo>
                  <a:pt x="53" y="5"/>
                  <a:pt x="37" y="11"/>
                  <a:pt x="21" y="16"/>
                </a:cubicBezTo>
                <a:cubicBezTo>
                  <a:pt x="0" y="23"/>
                  <a:pt x="5" y="100"/>
                  <a:pt x="5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58920" y="2641680"/>
            <a:ext cx="88920" cy="190440"/>
          </a:xfrm>
          <a:custGeom>
            <a:avLst/>
            <a:gdLst/>
            <a:ahLst/>
            <a:rect l="l" t="t" r="r" b="b"/>
            <a:pathLst>
              <a:path w="56" h="120">
                <a:moveTo>
                  <a:pt x="56" y="0"/>
                </a:moveTo>
                <a:cubicBezTo>
                  <a:pt x="19" y="12"/>
                  <a:pt x="10" y="17"/>
                  <a:pt x="0" y="56"/>
                </a:cubicBezTo>
                <a:cubicBezTo>
                  <a:pt x="10" y="85"/>
                  <a:pt x="27" y="99"/>
                  <a:pt x="48" y="1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1752480"/>
            <a:ext cx="6098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1752480"/>
            <a:ext cx="6094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65640" y="1838160"/>
            <a:ext cx="583920" cy="54000"/>
          </a:xfrm>
          <a:custGeom>
            <a:avLst/>
            <a:gdLst/>
            <a:ahLst/>
            <a:rect l="l" t="t" r="r" b="b"/>
            <a:pathLst>
              <a:path w="368" h="34">
                <a:moveTo>
                  <a:pt x="0" y="26"/>
                </a:moveTo>
                <a:cubicBezTo>
                  <a:pt x="58" y="7"/>
                  <a:pt x="32" y="6"/>
                  <a:pt x="80" y="18"/>
                </a:cubicBezTo>
                <a:cubicBezTo>
                  <a:pt x="146" y="1"/>
                  <a:pt x="300" y="0"/>
                  <a:pt x="368" y="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03720" y="1871640"/>
            <a:ext cx="596880" cy="46080"/>
          </a:xfrm>
          <a:custGeom>
            <a:avLst/>
            <a:gdLst/>
            <a:ahLst/>
            <a:rect l="l" t="t" r="r" b="b"/>
            <a:pathLst>
              <a:path w="376" h="29">
                <a:moveTo>
                  <a:pt x="0" y="29"/>
                </a:moveTo>
                <a:cubicBezTo>
                  <a:pt x="87" y="0"/>
                  <a:pt x="182" y="20"/>
                  <a:pt x="272" y="5"/>
                </a:cubicBezTo>
                <a:cubicBezTo>
                  <a:pt x="359" y="19"/>
                  <a:pt x="289" y="5"/>
                  <a:pt x="344" y="21"/>
                </a:cubicBezTo>
                <a:cubicBezTo>
                  <a:pt x="355" y="24"/>
                  <a:pt x="376" y="29"/>
                  <a:pt x="376" y="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9051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9051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20960" y="1917720"/>
            <a:ext cx="508320" cy="1162080"/>
          </a:xfrm>
          <a:custGeom>
            <a:avLst/>
            <a:gdLst/>
            <a:ahLst/>
            <a:rect l="l" t="t" r="r" b="b"/>
            <a:pathLst>
              <a:path w="320" h="732">
                <a:moveTo>
                  <a:pt x="152" y="0"/>
                </a:moveTo>
                <a:cubicBezTo>
                  <a:pt x="148" y="49"/>
                  <a:pt x="147" y="96"/>
                  <a:pt x="136" y="144"/>
                </a:cubicBezTo>
                <a:cubicBezTo>
                  <a:pt x="125" y="195"/>
                  <a:pt x="86" y="238"/>
                  <a:pt x="72" y="288"/>
                </a:cubicBezTo>
                <a:cubicBezTo>
                  <a:pt x="49" y="368"/>
                  <a:pt x="83" y="258"/>
                  <a:pt x="56" y="376"/>
                </a:cubicBezTo>
                <a:cubicBezTo>
                  <a:pt x="52" y="392"/>
                  <a:pt x="40" y="424"/>
                  <a:pt x="40" y="424"/>
                </a:cubicBezTo>
                <a:cubicBezTo>
                  <a:pt x="34" y="463"/>
                  <a:pt x="34" y="478"/>
                  <a:pt x="24" y="512"/>
                </a:cubicBezTo>
                <a:cubicBezTo>
                  <a:pt x="19" y="528"/>
                  <a:pt x="13" y="544"/>
                  <a:pt x="8" y="560"/>
                </a:cubicBezTo>
                <a:cubicBezTo>
                  <a:pt x="5" y="568"/>
                  <a:pt x="0" y="584"/>
                  <a:pt x="0" y="584"/>
                </a:cubicBezTo>
                <a:cubicBezTo>
                  <a:pt x="0" y="586"/>
                  <a:pt x="9" y="640"/>
                  <a:pt x="16" y="648"/>
                </a:cubicBezTo>
                <a:cubicBezTo>
                  <a:pt x="40" y="678"/>
                  <a:pt x="112" y="718"/>
                  <a:pt x="152" y="728"/>
                </a:cubicBezTo>
                <a:cubicBezTo>
                  <a:pt x="247" y="721"/>
                  <a:pt x="289" y="732"/>
                  <a:pt x="320" y="640"/>
                </a:cubicBezTo>
                <a:cubicBezTo>
                  <a:pt x="308" y="579"/>
                  <a:pt x="297" y="518"/>
                  <a:pt x="288" y="456"/>
                </a:cubicBezTo>
                <a:cubicBezTo>
                  <a:pt x="291" y="337"/>
                  <a:pt x="304" y="178"/>
                  <a:pt x="30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4560" y="1495440"/>
            <a:ext cx="1333440" cy="181080"/>
          </a:xfrm>
          <a:custGeom>
            <a:avLst/>
            <a:gdLst/>
            <a:ahLst/>
            <a:rect l="l" t="t" r="r" b="b"/>
            <a:pathLst>
              <a:path w="840" h="114">
                <a:moveTo>
                  <a:pt x="0" y="58"/>
                </a:moveTo>
                <a:cubicBezTo>
                  <a:pt x="174" y="0"/>
                  <a:pt x="353" y="8"/>
                  <a:pt x="536" y="2"/>
                </a:cubicBezTo>
                <a:cubicBezTo>
                  <a:pt x="581" y="6"/>
                  <a:pt x="658" y="3"/>
                  <a:pt x="704" y="26"/>
                </a:cubicBezTo>
                <a:cubicBezTo>
                  <a:pt x="745" y="46"/>
                  <a:pt x="780" y="75"/>
                  <a:pt x="824" y="90"/>
                </a:cubicBezTo>
                <a:cubicBezTo>
                  <a:pt x="829" y="98"/>
                  <a:pt x="840" y="114"/>
                  <a:pt x="840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05160" y="1981080"/>
            <a:ext cx="644400" cy="29232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22" y="0"/>
                </a:moveTo>
                <a:cubicBezTo>
                  <a:pt x="17" y="16"/>
                  <a:pt x="11" y="32"/>
                  <a:pt x="6" y="48"/>
                </a:cubicBezTo>
                <a:cubicBezTo>
                  <a:pt x="0" y="66"/>
                  <a:pt x="10" y="86"/>
                  <a:pt x="14" y="104"/>
                </a:cubicBezTo>
                <a:cubicBezTo>
                  <a:pt x="26" y="162"/>
                  <a:pt x="129" y="169"/>
                  <a:pt x="174" y="184"/>
                </a:cubicBezTo>
                <a:cubicBezTo>
                  <a:pt x="222" y="168"/>
                  <a:pt x="270" y="160"/>
                  <a:pt x="318" y="144"/>
                </a:cubicBezTo>
                <a:cubicBezTo>
                  <a:pt x="335" y="138"/>
                  <a:pt x="349" y="126"/>
                  <a:pt x="366" y="120"/>
                </a:cubicBezTo>
                <a:cubicBezTo>
                  <a:pt x="386" y="100"/>
                  <a:pt x="406" y="86"/>
                  <a:pt x="40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4680" y="2108160"/>
            <a:ext cx="642960" cy="330120"/>
          </a:xfrm>
          <a:custGeom>
            <a:avLst/>
            <a:gdLst/>
            <a:ahLst/>
            <a:rect l="l" t="t" r="r" b="b"/>
            <a:pathLst>
              <a:path w="405" h="208">
                <a:moveTo>
                  <a:pt x="44" y="0"/>
                </a:moveTo>
                <a:cubicBezTo>
                  <a:pt x="0" y="131"/>
                  <a:pt x="39" y="186"/>
                  <a:pt x="148" y="208"/>
                </a:cubicBezTo>
                <a:cubicBezTo>
                  <a:pt x="211" y="200"/>
                  <a:pt x="264" y="180"/>
                  <a:pt x="324" y="160"/>
                </a:cubicBezTo>
                <a:cubicBezTo>
                  <a:pt x="350" y="151"/>
                  <a:pt x="396" y="120"/>
                  <a:pt x="396" y="120"/>
                </a:cubicBezTo>
                <a:cubicBezTo>
                  <a:pt x="405" y="93"/>
                  <a:pt x="404" y="104"/>
                  <a:pt x="404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7240" y="1968480"/>
            <a:ext cx="615960" cy="380880"/>
          </a:xfrm>
          <a:custGeom>
            <a:avLst/>
            <a:gdLst/>
            <a:ahLst/>
            <a:rect l="l" t="t" r="r" b="b"/>
            <a:pathLst>
              <a:path w="388" h="240">
                <a:moveTo>
                  <a:pt x="388" y="0"/>
                </a:moveTo>
                <a:cubicBezTo>
                  <a:pt x="349" y="116"/>
                  <a:pt x="309" y="208"/>
                  <a:pt x="180" y="240"/>
                </a:cubicBezTo>
                <a:cubicBezTo>
                  <a:pt x="164" y="235"/>
                  <a:pt x="148" y="229"/>
                  <a:pt x="132" y="224"/>
                </a:cubicBezTo>
                <a:cubicBezTo>
                  <a:pt x="124" y="221"/>
                  <a:pt x="108" y="216"/>
                  <a:pt x="108" y="216"/>
                </a:cubicBezTo>
                <a:cubicBezTo>
                  <a:pt x="96" y="199"/>
                  <a:pt x="80" y="185"/>
                  <a:pt x="68" y="168"/>
                </a:cubicBezTo>
                <a:cubicBezTo>
                  <a:pt x="63" y="161"/>
                  <a:pt x="65" y="151"/>
                  <a:pt x="60" y="144"/>
                </a:cubicBezTo>
                <a:cubicBezTo>
                  <a:pt x="47" y="128"/>
                  <a:pt x="27" y="119"/>
                  <a:pt x="12" y="104"/>
                </a:cubicBezTo>
                <a:cubicBezTo>
                  <a:pt x="0" y="67"/>
                  <a:pt x="4" y="88"/>
                  <a:pt x="4" y="40"/>
                </a:cubicBezTo>
                <a:lnTo>
                  <a:pt x="44" y="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2040" y="2031840"/>
            <a:ext cx="615960" cy="455760"/>
          </a:xfrm>
          <a:custGeom>
            <a:avLst/>
            <a:gdLst/>
            <a:ahLst/>
            <a:rect l="l" t="t" r="r" b="b"/>
            <a:pathLst>
              <a:path w="388" h="287">
                <a:moveTo>
                  <a:pt x="388" y="0"/>
                </a:moveTo>
                <a:cubicBezTo>
                  <a:pt x="369" y="58"/>
                  <a:pt x="351" y="114"/>
                  <a:pt x="324" y="168"/>
                </a:cubicBezTo>
                <a:cubicBezTo>
                  <a:pt x="306" y="205"/>
                  <a:pt x="300" y="235"/>
                  <a:pt x="260" y="248"/>
                </a:cubicBezTo>
                <a:cubicBezTo>
                  <a:pt x="221" y="287"/>
                  <a:pt x="214" y="280"/>
                  <a:pt x="156" y="272"/>
                </a:cubicBezTo>
                <a:cubicBezTo>
                  <a:pt x="115" y="258"/>
                  <a:pt x="72" y="240"/>
                  <a:pt x="36" y="216"/>
                </a:cubicBezTo>
                <a:cubicBezTo>
                  <a:pt x="0" y="161"/>
                  <a:pt x="4" y="187"/>
                  <a:pt x="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05320" y="23623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19360" y="23623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65640" y="1600200"/>
            <a:ext cx="622080" cy="152280"/>
          </a:xfrm>
          <a:custGeom>
            <a:avLst/>
            <a:gdLst/>
            <a:ahLst/>
            <a:rect l="l" t="t" r="r" b="b"/>
            <a:pathLst>
              <a:path w="392" h="96">
                <a:moveTo>
                  <a:pt x="0" y="96"/>
                </a:moveTo>
                <a:cubicBezTo>
                  <a:pt x="3" y="85"/>
                  <a:pt x="1" y="73"/>
                  <a:pt x="8" y="64"/>
                </a:cubicBezTo>
                <a:cubicBezTo>
                  <a:pt x="13" y="57"/>
                  <a:pt x="24" y="60"/>
                  <a:pt x="32" y="56"/>
                </a:cubicBezTo>
                <a:cubicBezTo>
                  <a:pt x="41" y="52"/>
                  <a:pt x="47" y="44"/>
                  <a:pt x="56" y="40"/>
                </a:cubicBezTo>
                <a:cubicBezTo>
                  <a:pt x="71" y="33"/>
                  <a:pt x="88" y="29"/>
                  <a:pt x="104" y="24"/>
                </a:cubicBezTo>
                <a:cubicBezTo>
                  <a:pt x="120" y="19"/>
                  <a:pt x="136" y="13"/>
                  <a:pt x="152" y="8"/>
                </a:cubicBezTo>
                <a:cubicBezTo>
                  <a:pt x="160" y="5"/>
                  <a:pt x="176" y="0"/>
                  <a:pt x="176" y="0"/>
                </a:cubicBezTo>
                <a:cubicBezTo>
                  <a:pt x="222" y="15"/>
                  <a:pt x="276" y="10"/>
                  <a:pt x="320" y="32"/>
                </a:cubicBezTo>
                <a:cubicBezTo>
                  <a:pt x="329" y="36"/>
                  <a:pt x="335" y="44"/>
                  <a:pt x="344" y="48"/>
                </a:cubicBezTo>
                <a:cubicBezTo>
                  <a:pt x="359" y="55"/>
                  <a:pt x="392" y="64"/>
                  <a:pt x="392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1880" y="1638360"/>
            <a:ext cx="558720" cy="114120"/>
          </a:xfrm>
          <a:custGeom>
            <a:avLst/>
            <a:gdLst/>
            <a:ahLst/>
            <a:rect l="l" t="t" r="r" b="b"/>
            <a:pathLst>
              <a:path w="352" h="72">
                <a:moveTo>
                  <a:pt x="0" y="64"/>
                </a:moveTo>
                <a:cubicBezTo>
                  <a:pt x="25" y="27"/>
                  <a:pt x="48" y="29"/>
                  <a:pt x="88" y="16"/>
                </a:cubicBezTo>
                <a:cubicBezTo>
                  <a:pt x="104" y="11"/>
                  <a:pt x="136" y="0"/>
                  <a:pt x="136" y="0"/>
                </a:cubicBezTo>
                <a:cubicBezTo>
                  <a:pt x="215" y="20"/>
                  <a:pt x="162" y="27"/>
                  <a:pt x="272" y="16"/>
                </a:cubicBezTo>
                <a:cubicBezTo>
                  <a:pt x="291" y="19"/>
                  <a:pt x="311" y="16"/>
                  <a:pt x="328" y="24"/>
                </a:cubicBezTo>
                <a:cubicBezTo>
                  <a:pt x="344" y="31"/>
                  <a:pt x="352" y="72"/>
                  <a:pt x="35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21120" y="1371600"/>
            <a:ext cx="128268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5790960" y="1447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5812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106668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3680" y="605808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 = K - E      B = D               K = W                     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0880" y="621036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 - - - - - -        - - - -                 - - -                            - -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rcRect l="0" t="0" r="39136" b="0"/>
          <a:stretch/>
        </p:blipFill>
        <p:spPr>
          <a:xfrm>
            <a:off x="1371600" y="4114800"/>
            <a:ext cx="1066680" cy="174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514600" y="3809880"/>
            <a:ext cx="19080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95680" y="4114800"/>
            <a:ext cx="1600200" cy="172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929560" y="5372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553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228600" y="6705720"/>
            <a:ext cx="13381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6705720"/>
            <a:ext cx="53352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01028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7086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6934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219320" y="6629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160" y="7010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80880" y="6858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9480" y="6629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914400" y="6553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920" y="7086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840" y="910584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 = Z             SN = B                        A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1680" y="93344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9840" y="81914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7600" y="933444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+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1752480" y="67057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78160" y="7873920"/>
            <a:ext cx="593640" cy="1130400"/>
          </a:xfrm>
          <a:custGeom>
            <a:avLst/>
            <a:gdLst/>
            <a:ahLst/>
            <a:rect l="l" t="t" r="r" b="b"/>
            <a:pathLst>
              <a:path w="374" h="712">
                <a:moveTo>
                  <a:pt x="14" y="48"/>
                </a:moveTo>
                <a:cubicBezTo>
                  <a:pt x="87" y="0"/>
                  <a:pt x="43" y="14"/>
                  <a:pt x="150" y="24"/>
                </a:cubicBezTo>
                <a:cubicBezTo>
                  <a:pt x="166" y="29"/>
                  <a:pt x="182" y="35"/>
                  <a:pt x="198" y="40"/>
                </a:cubicBezTo>
                <a:cubicBezTo>
                  <a:pt x="206" y="43"/>
                  <a:pt x="222" y="48"/>
                  <a:pt x="222" y="48"/>
                </a:cubicBezTo>
                <a:cubicBezTo>
                  <a:pt x="237" y="63"/>
                  <a:pt x="257" y="72"/>
                  <a:pt x="270" y="88"/>
                </a:cubicBezTo>
                <a:cubicBezTo>
                  <a:pt x="275" y="95"/>
                  <a:pt x="273" y="105"/>
                  <a:pt x="278" y="112"/>
                </a:cubicBezTo>
                <a:cubicBezTo>
                  <a:pt x="284" y="121"/>
                  <a:pt x="294" y="128"/>
                  <a:pt x="302" y="136"/>
                </a:cubicBezTo>
                <a:cubicBezTo>
                  <a:pt x="316" y="177"/>
                  <a:pt x="315" y="208"/>
                  <a:pt x="278" y="232"/>
                </a:cubicBezTo>
                <a:cubicBezTo>
                  <a:pt x="273" y="240"/>
                  <a:pt x="271" y="253"/>
                  <a:pt x="262" y="256"/>
                </a:cubicBezTo>
                <a:cubicBezTo>
                  <a:pt x="252" y="259"/>
                  <a:pt x="219" y="248"/>
                  <a:pt x="230" y="248"/>
                </a:cubicBezTo>
                <a:cubicBezTo>
                  <a:pt x="254" y="248"/>
                  <a:pt x="278" y="253"/>
                  <a:pt x="302" y="256"/>
                </a:cubicBezTo>
                <a:cubicBezTo>
                  <a:pt x="315" y="260"/>
                  <a:pt x="342" y="267"/>
                  <a:pt x="350" y="280"/>
                </a:cubicBezTo>
                <a:cubicBezTo>
                  <a:pt x="359" y="294"/>
                  <a:pt x="361" y="312"/>
                  <a:pt x="366" y="328"/>
                </a:cubicBezTo>
                <a:cubicBezTo>
                  <a:pt x="369" y="336"/>
                  <a:pt x="374" y="352"/>
                  <a:pt x="374" y="352"/>
                </a:cubicBezTo>
                <a:cubicBezTo>
                  <a:pt x="365" y="397"/>
                  <a:pt x="365" y="430"/>
                  <a:pt x="326" y="456"/>
                </a:cubicBezTo>
                <a:cubicBezTo>
                  <a:pt x="314" y="493"/>
                  <a:pt x="302" y="483"/>
                  <a:pt x="270" y="504"/>
                </a:cubicBezTo>
                <a:cubicBezTo>
                  <a:pt x="249" y="473"/>
                  <a:pt x="249" y="460"/>
                  <a:pt x="286" y="448"/>
                </a:cubicBezTo>
                <a:cubicBezTo>
                  <a:pt x="367" y="460"/>
                  <a:pt x="372" y="465"/>
                  <a:pt x="350" y="560"/>
                </a:cubicBezTo>
                <a:cubicBezTo>
                  <a:pt x="345" y="584"/>
                  <a:pt x="300" y="611"/>
                  <a:pt x="286" y="616"/>
                </a:cubicBezTo>
                <a:cubicBezTo>
                  <a:pt x="270" y="621"/>
                  <a:pt x="238" y="632"/>
                  <a:pt x="238" y="632"/>
                </a:cubicBezTo>
                <a:cubicBezTo>
                  <a:pt x="204" y="621"/>
                  <a:pt x="178" y="634"/>
                  <a:pt x="142" y="640"/>
                </a:cubicBezTo>
                <a:cubicBezTo>
                  <a:pt x="148" y="662"/>
                  <a:pt x="160" y="680"/>
                  <a:pt x="134" y="696"/>
                </a:cubicBezTo>
                <a:cubicBezTo>
                  <a:pt x="120" y="705"/>
                  <a:pt x="86" y="712"/>
                  <a:pt x="86" y="712"/>
                </a:cubicBezTo>
                <a:cubicBezTo>
                  <a:pt x="73" y="709"/>
                  <a:pt x="58" y="711"/>
                  <a:pt x="46" y="704"/>
                </a:cubicBezTo>
                <a:cubicBezTo>
                  <a:pt x="0" y="678"/>
                  <a:pt x="47" y="680"/>
                  <a:pt x="2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43200" y="8915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3315200">
            <a:off x="4572000" y="7086600"/>
            <a:ext cx="99072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3315200">
            <a:off x="4419000" y="7259400"/>
            <a:ext cx="15228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315200">
            <a:off x="3581280" y="8153280"/>
            <a:ext cx="99072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7848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7620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371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dier%20muis" descr=""/>
          <p:cNvPicPr/>
          <p:nvPr/>
        </p:nvPicPr>
        <p:blipFill>
          <a:blip r:embed="rId9"/>
          <a:stretch/>
        </p:blipFill>
        <p:spPr>
          <a:xfrm>
            <a:off x="5162400" y="78487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3680" y="8597880"/>
            <a:ext cx="101520" cy="609480"/>
          </a:xfrm>
          <a:custGeom>
            <a:avLst/>
            <a:gdLst/>
            <a:ahLst/>
            <a:rect l="l" t="t" r="r" b="b"/>
            <a:pathLst>
              <a:path w="64" h="384">
                <a:moveTo>
                  <a:pt x="64" y="0"/>
                </a:moveTo>
                <a:cubicBezTo>
                  <a:pt x="33" y="10"/>
                  <a:pt x="19" y="16"/>
                  <a:pt x="8" y="48"/>
                </a:cubicBezTo>
                <a:cubicBezTo>
                  <a:pt x="18" y="121"/>
                  <a:pt x="10" y="86"/>
                  <a:pt x="32" y="152"/>
                </a:cubicBezTo>
                <a:cubicBezTo>
                  <a:pt x="38" y="170"/>
                  <a:pt x="64" y="200"/>
                  <a:pt x="64" y="200"/>
                </a:cubicBezTo>
                <a:cubicBezTo>
                  <a:pt x="61" y="224"/>
                  <a:pt x="63" y="249"/>
                  <a:pt x="56" y="272"/>
                </a:cubicBezTo>
                <a:cubicBezTo>
                  <a:pt x="42" y="316"/>
                  <a:pt x="0" y="324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8:04:23Z</dcterms:created>
  <dc:creator>ERIK</dc:creator>
  <dc:description/>
  <dc:language>en-US</dc:language>
  <cp:lastModifiedBy>ERIK</cp:lastModifiedBy>
  <cp:lastPrinted>2008-04-30T17:24:13Z</cp:lastPrinted>
  <dcterms:modified xsi:type="dcterms:W3CDTF">2008-04-30T17:25:37Z</dcterms:modified>
  <cp:revision>4</cp:revision>
  <dc:subject/>
  <dc:title>Geen diatitel</dc:title>
</cp:coreProperties>
</file>