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E750-E007-4B19-B215-49865C6A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6AC-0BE5-47EE-947C-B27BDDCF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BDC-0149-4E42-A940-3F9AA689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2F2-DB92-480E-91AA-6C86B501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9660-0E4D-4E4C-A756-2226702E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2CD8-4E6A-4F32-99A8-CE6C825A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814-85C4-4CDE-A986-179FC2A6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713-F120-4481-8318-93ADAAF7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813-5744-4735-B5B6-2F8C1D57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2A5-3546-4648-B0BA-A4CE3E26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177-45CD-4022-8F1F-A5ADA88A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796F-3C67-4508-8055-DE02258B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123C-29E4-4E7D-8B6C-045C984F3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01992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" y="1144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reekwoorden en gezeg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320" y="419040"/>
            <a:ext cx="52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en zegt wel eens”klappen en breie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men moet wel eens twee dingen tegelijk kunnen do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10666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8160" y="1028880"/>
            <a:ext cx="597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oorden wekken,voorbeelden trekk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het is niet voldoende met woorden tot het goede aan te porr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en moet ook handelen door het goede voorbee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1981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880" y="19432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reekwij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286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4280" y="224784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oter bij de v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kontant geld bij de wa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28954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7440" y="2933640"/>
            <a:ext cx="603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wil niet bot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ik kan maar niet opschieten,ik kan niet vooruitkomen met mij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e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380988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520" y="384804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lledaagse dingen,buitengewoon gebruik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191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600" y="4152960"/>
            <a:ext cx="60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charensliep:Wat kunt u doen met ongebruikte restjes alumin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um-folie?Gebruik ze om botte scharen te slijp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rijk de folie zo nodig glad,vouw dubbel,een paar keer,en b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in te knippen;in smalle stroken,die u ook nog eens kunt gebru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en,in uw moestuin,als vogelverschrikk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a 7 of 8 keer moet uw schaar weer scherp zij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impel,nietwaar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6019920"/>
            <a:ext cx="411480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pic25" descr=""/>
          <p:cNvPicPr/>
          <p:nvPr/>
        </p:nvPicPr>
        <p:blipFill>
          <a:blip r:embed="rId2"/>
          <a:stretch/>
        </p:blipFill>
        <p:spPr>
          <a:xfrm>
            <a:off x="304920" y="6553080"/>
            <a:ext cx="180972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81480" y="7162920"/>
            <a:ext cx="228600" cy="1522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6172200"/>
            <a:ext cx="1523880" cy="609480"/>
          </a:xfrm>
          <a:prstGeom prst="wedgeRoundRectCallout">
            <a:avLst>
              <a:gd name="adj1" fmla="val -25416"/>
              <a:gd name="adj2" fmla="val 8046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aarom doet zij d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s zij boos misschien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1804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3:23:21Z</dcterms:created>
  <dc:creator>ERIK</dc:creator>
  <dc:description/>
  <dc:language>en-US</dc:language>
  <cp:lastModifiedBy>ERIK</cp:lastModifiedBy>
  <cp:lastPrinted>2008-04-30T17:20:02Z</cp:lastPrinted>
  <dcterms:modified xsi:type="dcterms:W3CDTF">2008-04-30T17:21:24Z</dcterms:modified>
  <cp:revision>5</cp:revision>
  <dc:subject/>
  <dc:title>Geen diatitel</dc:title>
</cp:coreProperties>
</file>