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11E4-04EA-4685-97BF-FD0E623A6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6C31-5930-47F7-9690-66AEF73A4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8F76-EF3B-4E73-9DEC-8B84BF7C6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CA66-7DC8-4E69-9A3B-50BCE7304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2162-B571-4C7F-8FC0-9D436846F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2FB8-5327-4D72-A463-EA19DEC04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9E55-9F35-4880-A7B0-FBFB68D34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E5DF-50F1-41DD-AEA7-9BFCF22C1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37AF-A535-41C4-8BCE-38B938247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F0C6-4897-4407-8133-575C3C020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2C31-9A2E-4F4E-B4CD-6E76CE405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959E-21A2-4A02-8CD1-C5193956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39475-4EC2-4AD5-86DC-E4494DFCA7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152280"/>
            <a:ext cx="6019920" cy="960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90720" y="-396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7160" y="114480"/>
            <a:ext cx="29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Spreekwoorden en gezeg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4572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0320" y="419040"/>
            <a:ext cx="525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Men zegt wel eens”klappen en breie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(men moet wel eens twee dingen tegelijk kunnen do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19320" y="106668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8160" y="1028880"/>
            <a:ext cx="597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Woorden wekken,voorbeelden trekk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(het is niet voldoende met woorden tot het goede aan te porre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men moet ook handelen door het goede voorbeel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19320" y="19810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37880" y="194328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Spreekwijz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2286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4280" y="2247840"/>
            <a:ext cx="255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Boter bij de v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(kontant geld bij de wa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95280" y="289548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7440" y="2933640"/>
            <a:ext cx="603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Het wil niet boter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(ik kan maar niet opschieten,ik kan niet vooruitkomen met mij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wer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95280" y="3809880"/>
            <a:ext cx="3810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7520" y="3848040"/>
            <a:ext cx="434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Alledaagse dingen,buitengewoon gebruikt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41911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9600" y="4152960"/>
            <a:ext cx="6084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Scharensliep:Wat kunt u doen met ongebruikte restjes alumini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um-folie?Gebruik ze om botte scharen te slijp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Strijk de folie zo nodig glad,vouw dubbel,een paar keer,en be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gin te knippen;in smalle stroken,die u ook nog eens kunt gebrui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ken,in uw moestuin,als vogelverschrikke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Na 7 of 8 keer moet uw schaar weer scherp zij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Simpel,nietwaar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057400" y="6019920"/>
            <a:ext cx="4114800" cy="3200400"/>
          </a:xfrm>
          <a:prstGeom prst="rect">
            <a:avLst/>
          </a:prstGeom>
          <a:ln w="0">
            <a:noFill/>
          </a:ln>
        </p:spPr>
      </p:pic>
      <p:pic>
        <p:nvPicPr>
          <p:cNvPr id="59" name="pic25" descr=""/>
          <p:cNvPicPr/>
          <p:nvPr/>
        </p:nvPicPr>
        <p:blipFill>
          <a:blip r:embed="rId2"/>
          <a:stretch/>
        </p:blipFill>
        <p:spPr>
          <a:xfrm>
            <a:off x="304920" y="6553080"/>
            <a:ext cx="1809720" cy="3048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181480" y="7162920"/>
            <a:ext cx="228600" cy="15228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71600" y="6172200"/>
            <a:ext cx="1523880" cy="609480"/>
          </a:xfrm>
          <a:prstGeom prst="wedgeRoundRectCallout">
            <a:avLst>
              <a:gd name="adj1" fmla="val -25416"/>
              <a:gd name="adj2" fmla="val 80467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Waarom doet zij da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Is zij boos misschien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018040" y="9485280"/>
            <a:ext cx="112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rik De Bac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7T13:23:21Z</dcterms:created>
  <dc:creator>ERIK</dc:creator>
  <dc:description/>
  <dc:language>en-US</dc:language>
  <cp:lastModifiedBy>ERIK</cp:lastModifiedBy>
  <cp:lastPrinted>2008-04-30T17:20:02Z</cp:lastPrinted>
  <dcterms:modified xsi:type="dcterms:W3CDTF">2008-04-30T17:21:24Z</dcterms:modified>
  <cp:revision>5</cp:revision>
  <dc:subject/>
  <dc:title>Geen diatitel</dc:title>
</cp:coreProperties>
</file>