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391-44A0-449A-ABBF-E5477934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087-4F8E-4A1D-9528-6587D6D5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569-234A-42C1-89CF-F6016A24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FE8-DFAB-45F0-9C14-F0CA457A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77F-5BEB-4CFA-A58D-5B2314C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04B-F9F1-48D4-A21A-9902293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F65-41D8-44BC-8DBC-AA42A49B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529-2476-49BD-AF11-42AFD80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AC7-1FEA-4609-8947-021FF0F4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F0A-68A4-494F-8D6C-8EC4497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0D0-AD87-4D08-8E17-4418672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27E-421D-40AB-93B5-057DE27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3957-D931-4397-BFB9-8F90D8A07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" y="8113680"/>
            <a:ext cx="6004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Spreekwoorden en gezegden                  Inhoud:     7-Uit de scheurkalender van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ijzen                                                                         “Liefde i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Alledaagse dingen;buitengewoon gebruikt!             8-Leergierig?? - Bedelst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+ oplossing 111”Aprilse gril”            9-Er waren 6 prutsen(muizen)te vi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 - 71 + oplossing 70                                       10-Hoeveel ontdek je er nu in deze uitg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-Poézie - De slechte wereld van nu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7-Wist u dit? G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i-2008(112)Jaargang 10 nr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8672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5146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5146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SCN0171" descr=""/>
          <p:cNvPicPr/>
          <p:nvPr/>
        </p:nvPicPr>
        <p:blipFill>
          <a:blip r:embed="rId2"/>
          <a:srcRect l="39130" t="40581" r="36233" b="39132"/>
          <a:stretch/>
        </p:blipFill>
        <p:spPr>
          <a:xfrm>
            <a:off x="2590920" y="6934320"/>
            <a:ext cx="1752480" cy="108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69343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6781680"/>
            <a:ext cx="1218960" cy="457200"/>
          </a:xfrm>
          <a:prstGeom prst="wedgeRoundRectCallout">
            <a:avLst>
              <a:gd name="adj1" fmla="val -79689"/>
              <a:gd name="adj2" fmla="val 4618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nte i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toch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6858000"/>
            <a:ext cx="1066680" cy="457200"/>
          </a:xfrm>
          <a:prstGeom prst="wedgeRoundRectCallout">
            <a:avLst>
              <a:gd name="adj1" fmla="val 74402"/>
              <a:gd name="adj2" fmla="val 3784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pelijk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éél zo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94360" y="918036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3280" y="1314360"/>
            <a:ext cx="355320" cy="27648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40" y="124"/>
                </a:moveTo>
                <a:cubicBezTo>
                  <a:pt x="37" y="133"/>
                  <a:pt x="32" y="168"/>
                  <a:pt x="8" y="156"/>
                </a:cubicBezTo>
                <a:cubicBezTo>
                  <a:pt x="0" y="152"/>
                  <a:pt x="3" y="140"/>
                  <a:pt x="0" y="132"/>
                </a:cubicBezTo>
                <a:cubicBezTo>
                  <a:pt x="19" y="76"/>
                  <a:pt x="21" y="100"/>
                  <a:pt x="8" y="60"/>
                </a:cubicBezTo>
                <a:cubicBezTo>
                  <a:pt x="28" y="0"/>
                  <a:pt x="1" y="60"/>
                  <a:pt x="32" y="60"/>
                </a:cubicBezTo>
                <a:cubicBezTo>
                  <a:pt x="40" y="60"/>
                  <a:pt x="33" y="41"/>
                  <a:pt x="40" y="36"/>
                </a:cubicBezTo>
                <a:cubicBezTo>
                  <a:pt x="54" y="26"/>
                  <a:pt x="88" y="20"/>
                  <a:pt x="88" y="20"/>
                </a:cubicBezTo>
                <a:cubicBezTo>
                  <a:pt x="99" y="23"/>
                  <a:pt x="110" y="23"/>
                  <a:pt x="120" y="28"/>
                </a:cubicBezTo>
                <a:cubicBezTo>
                  <a:pt x="137" y="37"/>
                  <a:pt x="168" y="60"/>
                  <a:pt x="168" y="60"/>
                </a:cubicBezTo>
                <a:cubicBezTo>
                  <a:pt x="190" y="93"/>
                  <a:pt x="203" y="124"/>
                  <a:pt x="224" y="156"/>
                </a:cubicBezTo>
                <a:cubicBezTo>
                  <a:pt x="216" y="161"/>
                  <a:pt x="209" y="174"/>
                  <a:pt x="200" y="172"/>
                </a:cubicBezTo>
                <a:cubicBezTo>
                  <a:pt x="192" y="170"/>
                  <a:pt x="196" y="155"/>
                  <a:pt x="192" y="148"/>
                </a:cubicBezTo>
                <a:cubicBezTo>
                  <a:pt x="163" y="95"/>
                  <a:pt x="175" y="105"/>
                  <a:pt x="136" y="92"/>
                </a:cubicBezTo>
                <a:cubicBezTo>
                  <a:pt x="85" y="98"/>
                  <a:pt x="64" y="97"/>
                  <a:pt x="24" y="124"/>
                </a:cubicBezTo>
                <a:cubicBezTo>
                  <a:pt x="35" y="156"/>
                  <a:pt x="29" y="156"/>
                  <a:pt x="40" y="124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0840" y="1587600"/>
            <a:ext cx="154080" cy="509400"/>
          </a:xfrm>
          <a:custGeom>
            <a:avLst/>
            <a:gdLst/>
            <a:ahLst/>
            <a:rect l="l" t="t" r="r" b="b"/>
            <a:pathLst>
              <a:path w="97" h="321">
                <a:moveTo>
                  <a:pt x="41" y="0"/>
                </a:moveTo>
                <a:cubicBezTo>
                  <a:pt x="89" y="48"/>
                  <a:pt x="59" y="102"/>
                  <a:pt x="97" y="160"/>
                </a:cubicBezTo>
                <a:cubicBezTo>
                  <a:pt x="76" y="192"/>
                  <a:pt x="86" y="204"/>
                  <a:pt x="49" y="216"/>
                </a:cubicBezTo>
                <a:cubicBezTo>
                  <a:pt x="33" y="240"/>
                  <a:pt x="0" y="264"/>
                  <a:pt x="25" y="296"/>
                </a:cubicBezTo>
                <a:cubicBezTo>
                  <a:pt x="30" y="303"/>
                  <a:pt x="41" y="300"/>
                  <a:pt x="49" y="304"/>
                </a:cubicBezTo>
                <a:cubicBezTo>
                  <a:pt x="84" y="321"/>
                  <a:pt x="61" y="320"/>
                  <a:pt x="81" y="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6640" y="14479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8" y="0"/>
                </a:moveTo>
                <a:cubicBezTo>
                  <a:pt x="5" y="8"/>
                  <a:pt x="0" y="24"/>
                  <a:pt x="0" y="24"/>
                </a:cubicBezTo>
                <a:cubicBezTo>
                  <a:pt x="0" y="24"/>
                  <a:pt x="5" y="8"/>
                  <a:pt x="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dcterms:modified xsi:type="dcterms:W3CDTF">2008-04-30T20:00:48Z</dcterms:modified>
  <cp:revision>7</cp:revision>
  <dc:subject/>
  <dc:title>Geen diatitel</dc:title>
</cp:coreProperties>
</file>