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6CE-F593-413B-87C9-E8C6C2BB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D64-B06C-45FB-ACC5-07203110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69B-6555-4DAC-A4D9-011F652F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C9F-DE13-49F0-A921-EB06895B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DFF-C1EC-48B7-9CF3-A46F4275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611-790F-4832-AC71-9762042C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DA7-D50D-44BE-8FC0-1F036888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B10-DBAF-4BBC-A218-1548BCA0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6CC-78C4-4D05-B0D5-DFFBF163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752-7027-4EB2-B81A-8441152E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BB0-6049-4B32-815D-33475B24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A6A3-2649-4DBA-9A57-E3E9DA88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AD58-6177-44C2-9940-DB3EA0A6B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5867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5867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14600"/>
            <a:ext cx="5867280" cy="693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44792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E DONKSE KLOEFFE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81532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" y="8113680"/>
            <a:ext cx="6004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-Spreekwoorden en gezegden                  Inhoud:     7-Uit de scheurkalender v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-Spreekwijzen                                                                         “Liefde is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-Alledaagse dingen;buitengewoon gebruikt!             8-Leergierig?? - Bedelst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4-Woordpuzzel + oplossing 111”Aprilse gril”            9-Er waren 6 prutsen(muizen)te vi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5-Rebus - 71 + oplossing 70                                       10-Hoeveel ontdek je er nu in deze uitg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6-Poézie - De slechte wereld van nu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7-Wist u dit? G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45720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i-2008(112)Jaargang 10 nr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5867280" cy="5638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25146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5146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DSCN0171" descr=""/>
          <p:cNvPicPr/>
          <p:nvPr/>
        </p:nvPicPr>
        <p:blipFill>
          <a:blip r:embed="rId2"/>
          <a:srcRect l="39130" t="40581" r="36233" b="39132"/>
          <a:stretch/>
        </p:blipFill>
        <p:spPr>
          <a:xfrm>
            <a:off x="2590920" y="6934320"/>
            <a:ext cx="1752480" cy="1082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90920" y="69343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6781680"/>
            <a:ext cx="1218960" cy="457200"/>
          </a:xfrm>
          <a:prstGeom prst="wedgeRoundRectCallout">
            <a:avLst>
              <a:gd name="adj1" fmla="val -79689"/>
              <a:gd name="adj2" fmla="val 4618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Lente i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antocht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6858000"/>
            <a:ext cx="1066680" cy="457200"/>
          </a:xfrm>
          <a:prstGeom prst="wedgeRoundRectCallout">
            <a:avLst>
              <a:gd name="adj1" fmla="val 74402"/>
              <a:gd name="adj2" fmla="val 3784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pelijk m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éél zo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94360" y="918036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43280" y="1314360"/>
            <a:ext cx="355320" cy="27648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40" y="124"/>
                </a:moveTo>
                <a:cubicBezTo>
                  <a:pt x="37" y="133"/>
                  <a:pt x="32" y="168"/>
                  <a:pt x="8" y="156"/>
                </a:cubicBezTo>
                <a:cubicBezTo>
                  <a:pt x="0" y="152"/>
                  <a:pt x="3" y="140"/>
                  <a:pt x="0" y="132"/>
                </a:cubicBezTo>
                <a:cubicBezTo>
                  <a:pt x="19" y="76"/>
                  <a:pt x="21" y="100"/>
                  <a:pt x="8" y="60"/>
                </a:cubicBezTo>
                <a:cubicBezTo>
                  <a:pt x="28" y="0"/>
                  <a:pt x="1" y="60"/>
                  <a:pt x="32" y="60"/>
                </a:cubicBezTo>
                <a:cubicBezTo>
                  <a:pt x="40" y="60"/>
                  <a:pt x="33" y="41"/>
                  <a:pt x="40" y="36"/>
                </a:cubicBezTo>
                <a:cubicBezTo>
                  <a:pt x="54" y="26"/>
                  <a:pt x="88" y="20"/>
                  <a:pt x="88" y="20"/>
                </a:cubicBezTo>
                <a:cubicBezTo>
                  <a:pt x="99" y="23"/>
                  <a:pt x="110" y="23"/>
                  <a:pt x="120" y="28"/>
                </a:cubicBezTo>
                <a:cubicBezTo>
                  <a:pt x="137" y="37"/>
                  <a:pt x="168" y="60"/>
                  <a:pt x="168" y="60"/>
                </a:cubicBezTo>
                <a:cubicBezTo>
                  <a:pt x="190" y="93"/>
                  <a:pt x="203" y="124"/>
                  <a:pt x="224" y="156"/>
                </a:cubicBezTo>
                <a:cubicBezTo>
                  <a:pt x="216" y="161"/>
                  <a:pt x="209" y="174"/>
                  <a:pt x="200" y="172"/>
                </a:cubicBezTo>
                <a:cubicBezTo>
                  <a:pt x="192" y="170"/>
                  <a:pt x="196" y="155"/>
                  <a:pt x="192" y="148"/>
                </a:cubicBezTo>
                <a:cubicBezTo>
                  <a:pt x="163" y="95"/>
                  <a:pt x="175" y="105"/>
                  <a:pt x="136" y="92"/>
                </a:cubicBezTo>
                <a:cubicBezTo>
                  <a:pt x="85" y="98"/>
                  <a:pt x="64" y="97"/>
                  <a:pt x="24" y="124"/>
                </a:cubicBezTo>
                <a:cubicBezTo>
                  <a:pt x="35" y="156"/>
                  <a:pt x="29" y="156"/>
                  <a:pt x="40" y="124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20840" y="1587600"/>
            <a:ext cx="154080" cy="509400"/>
          </a:xfrm>
          <a:custGeom>
            <a:avLst/>
            <a:gdLst/>
            <a:ahLst/>
            <a:rect l="l" t="t" r="r" b="b"/>
            <a:pathLst>
              <a:path w="97" h="321">
                <a:moveTo>
                  <a:pt x="41" y="0"/>
                </a:moveTo>
                <a:cubicBezTo>
                  <a:pt x="89" y="48"/>
                  <a:pt x="59" y="102"/>
                  <a:pt x="97" y="160"/>
                </a:cubicBezTo>
                <a:cubicBezTo>
                  <a:pt x="76" y="192"/>
                  <a:pt x="86" y="204"/>
                  <a:pt x="49" y="216"/>
                </a:cubicBezTo>
                <a:cubicBezTo>
                  <a:pt x="33" y="240"/>
                  <a:pt x="0" y="264"/>
                  <a:pt x="25" y="296"/>
                </a:cubicBezTo>
                <a:cubicBezTo>
                  <a:pt x="30" y="303"/>
                  <a:pt x="41" y="300"/>
                  <a:pt x="49" y="304"/>
                </a:cubicBezTo>
                <a:cubicBezTo>
                  <a:pt x="84" y="321"/>
                  <a:pt x="61" y="320"/>
                  <a:pt x="81" y="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6640" y="144792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8" y="0"/>
                </a:moveTo>
                <a:cubicBezTo>
                  <a:pt x="5" y="8"/>
                  <a:pt x="0" y="24"/>
                  <a:pt x="0" y="24"/>
                </a:cubicBezTo>
                <a:cubicBezTo>
                  <a:pt x="0" y="24"/>
                  <a:pt x="5" y="8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1T16:17:20Z</dcterms:created>
  <dc:creator>Win</dc:creator>
  <dc:description/>
  <dc:language>en-US</dc:language>
  <cp:lastModifiedBy>ERIK</cp:lastModifiedBy>
  <dcterms:modified xsi:type="dcterms:W3CDTF">2008-04-30T20:00:48Z</dcterms:modified>
  <cp:revision>7</cp:revision>
  <dc:subject/>
  <dc:title>Geen diatitel</dc:title>
</cp:coreProperties>
</file>