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C82-A91A-441F-A05F-09B94E52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9FE-EA8C-4458-933F-FC236940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4C9-67FF-4F7C-83EA-6E0EBB9E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2FB-EC9C-4862-8CEE-C3E61F38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901-1485-491D-B81A-0E7143B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AF7-E5EE-48CC-8D69-5E6483A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55E-4F4E-440B-A9F6-ABE61AF6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D86-C48D-46AF-9BC8-27A421C0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4D1-627A-4F68-87B7-875D8EE7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4BB-6FC2-447B-84D9-68DF07F5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B0E-591A-4ABB-9A93-DF3A942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293-CBE9-44F7-ABD6-7CAC79E5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B636-CF5B-492E-AE6A-2542A2FD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1872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8600"/>
            <a:ext cx="4876560" cy="10666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685800"/>
            <a:ext cx="19814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gierig??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295280"/>
            <a:ext cx="56390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het van-Dale:idiodoom-woordenboek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1600200"/>
            <a:ext cx="38088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38088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600200"/>
            <a:ext cx="38088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920" y="1943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440" y="2247840"/>
            <a:ext cx="613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mok maken,opschudding veroorzaken,herrie schoppen.Syn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iem is:stennis schoppen of ma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mok is in 1622 door het nederlands aan het Maleis ontle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die taal betekende het”verblind door razernij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tijn vreest dat Nederland z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ternationaal isoleert en dat Gri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enland amok gaat ma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k denk niet dat Griekenland met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een boycot overgaat,maar ik m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maar ev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De man had’s nachts amok gemaakt in de trein.Hij zat die n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ort in “Den Haag”in de cel en nam daarna de trein naar Do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recht.Daar veroorzaakte hij opnieuw overla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1423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963360" cy="182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2900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7315200"/>
            <a:ext cx="187308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7315200"/>
            <a:ext cx="15228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296280"/>
            <a:ext cx="1600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7315200"/>
            <a:ext cx="15264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7315200"/>
            <a:ext cx="1600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7696080"/>
            <a:ext cx="763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7696080"/>
            <a:ext cx="7596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7696080"/>
            <a:ext cx="763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7696080"/>
            <a:ext cx="763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2209680" y="6477120"/>
            <a:ext cx="3962520" cy="3041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209680" y="7086600"/>
            <a:ext cx="3962520" cy="241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09680" y="6477120"/>
            <a:ext cx="3962520" cy="304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657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8:55:58Z</dcterms:created>
  <dc:creator>ERIK</dc:creator>
  <dc:description/>
  <dc:language>en-US</dc:language>
  <cp:lastModifiedBy>ERIK</cp:lastModifiedBy>
  <dcterms:modified xsi:type="dcterms:W3CDTF">2008-03-30T12:47:59Z</dcterms:modified>
  <cp:revision>3</cp:revision>
  <dc:subject/>
  <dc:title>Geen diatitel</dc:title>
</cp:coreProperties>
</file>