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9E3-1024-45EA-904F-0C9AC0B7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9A4-169E-4C0C-91B6-73C09303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473-3B43-4995-929C-F074C995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CAB-3AA6-4569-8FC0-BB643BC4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F64-FCE7-4D01-8741-940F4614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780-2C42-4BE8-8D48-467BFD4A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4F7-6691-4C7A-87B0-FAA3FEC0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261-B00D-4CE6-B64C-1B2E4098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5C4-589A-47FB-8080-D1C78AF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D72-DD05-4071-97A6-957DC714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D7B-DFBD-45A8-999A-D171D96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90D-1D28-49BC-89AA-9EB9305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0BB6-9B78-4CF5-AFD4-14ED37FD6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18720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28600"/>
            <a:ext cx="4876560" cy="10666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685800"/>
            <a:ext cx="19814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gierig??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295280"/>
            <a:ext cx="56390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it het van-Dale:idiodoom-woordenboek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600200"/>
            <a:ext cx="38124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600200"/>
            <a:ext cx="38124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00200"/>
            <a:ext cx="38124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1600200"/>
            <a:ext cx="38088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00200"/>
            <a:ext cx="38088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1600200"/>
            <a:ext cx="38088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600200"/>
            <a:ext cx="381240" cy="38088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920" y="1943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440" y="2247840"/>
            <a:ext cx="613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mok maken,opschudding veroorzaken,herrie schoppen.Syn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iem is:stennis schoppen of ma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mok is in 1622 door het nederlands aan het Maleis ontle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die taal betekende het”verblind door razernij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tijn vreest dat Nederland z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ternationaal isoleert en dat Gri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enland amok gaat ma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k denk niet dat Griekenland met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een boycot overgaat,maar ik m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maar ev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De man had’s nachts amok gemaakt in de trein.Hij zat die n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ort in “Den Haag”in de cel en nam daarna de trein naar Do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recht.Daar veroorzaakte hij opnieuw overlas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14238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963360" cy="182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29000" y="5334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8600" y="7315200"/>
            <a:ext cx="1873080" cy="236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7315200"/>
            <a:ext cx="15228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9296280"/>
            <a:ext cx="1600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7315200"/>
            <a:ext cx="15264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7315200"/>
            <a:ext cx="1600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7696080"/>
            <a:ext cx="7632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7696080"/>
            <a:ext cx="7596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7696080"/>
            <a:ext cx="7632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7696080"/>
            <a:ext cx="7632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2209680" y="6477120"/>
            <a:ext cx="3962520" cy="3041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209680" y="7086600"/>
            <a:ext cx="3962520" cy="241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09680" y="6477120"/>
            <a:ext cx="3962520" cy="3047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6576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8:55:58Z</dcterms:created>
  <dc:creator>ERIK</dc:creator>
  <dc:description/>
  <dc:language>en-US</dc:language>
  <cp:lastModifiedBy>ERIK</cp:lastModifiedBy>
  <dcterms:modified xsi:type="dcterms:W3CDTF">2008-03-30T12:47:59Z</dcterms:modified>
  <cp:revision>3</cp:revision>
  <dc:subject/>
  <dc:title>Geen diatitel</dc:title>
</cp:coreProperties>
</file>