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77E-BCF5-4BFB-B315-EE018267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C81-6547-4A16-8ACD-0B0070E5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199-FAEF-4D6C-A3D5-A6209D69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C3C-68B7-4ED9-A925-CCF5B0CD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1B4-7FF8-4A36-9CF3-E9D52A0E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EDD-B81F-49D5-AD21-6A8120C4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CC1-C61C-4B38-8C7C-10A995AC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25B-0541-490F-BF2B-2D8F1307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C81-D7C6-4075-AD9A-69B87B7B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A6A-3A67-4931-865B-3181FD1B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8D4-D84E-4F75-BADE-246B2CA0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875-5703-4617-B228-67D8AD12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56D4-961C-4628-A79F-8A859E4110E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jpe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152280"/>
            <a:ext cx="601992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61500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727200" y="152280"/>
            <a:ext cx="5965560" cy="960120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685800" y="1522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685800" y="152280"/>
            <a:ext cx="6019920" cy="1067040"/>
          </a:xfrm>
          <a:custGeom>
            <a:avLst/>
            <a:gdLst>
              <a:gd name="textAreaLeft" fmla="*/ 752400 w 6019920"/>
              <a:gd name="textAreaRight" fmla="*/ 5267520 w 6019920"/>
              <a:gd name="textAreaTop" fmla="*/ 13320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685800" y="1219320"/>
            <a:ext cx="6019920" cy="53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85800" y="9220320"/>
            <a:ext cx="601992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9"/>
          <p:cNvSpPr/>
          <p:nvPr/>
        </p:nvSpPr>
        <p:spPr>
          <a:xfrm>
            <a:off x="685800" y="8305920"/>
            <a:ext cx="6019920" cy="914400"/>
          </a:xfrm>
          <a:custGeom>
            <a:avLst/>
            <a:gdLst>
              <a:gd name="textAreaLeft" fmla="*/ 752400 w 6019920"/>
              <a:gd name="textAreaRight" fmla="*/ 5267520 w 6019920"/>
              <a:gd name="textAreaTop" fmla="*/ 1141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1523880" y="861048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...haar opvrolijken!!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1600200" y="380880"/>
            <a:ext cx="41911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it de scheurkalender van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WordArt 12"/>
          <p:cNvSpPr txBox="1"/>
          <p:nvPr/>
        </p:nvSpPr>
        <p:spPr>
          <a:xfrm>
            <a:off x="3200400" y="83808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000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" name="Picture 13" descr="http://plaatjessite.mine.nu/nanda/aardbeien/aardbei11.gif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5181480" y="7238880"/>
            <a:ext cx="1486080" cy="9907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4"/>
          <p:cNvSpPr/>
          <p:nvPr/>
        </p:nvSpPr>
        <p:spPr>
          <a:xfrm>
            <a:off x="5334120" y="6400800"/>
            <a:ext cx="1066680" cy="609480"/>
          </a:xfrm>
          <a:prstGeom prst="wedgeRoundRectCallout">
            <a:avLst>
              <a:gd name="adj1" fmla="val 16069"/>
              <a:gd name="adj2" fmla="val 9296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sst…geef ha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 aardbei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kstvak 16"/>
          <p:cNvSpPr/>
          <p:nvPr/>
        </p:nvSpPr>
        <p:spPr>
          <a:xfrm>
            <a:off x="5577120" y="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kloef  111  b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6:12:48Z</dcterms:created>
  <dc:creator>ERIK</dc:creator>
  <dc:description/>
  <dc:language>en-US</dc:language>
  <cp:lastModifiedBy>Erik de backer</cp:lastModifiedBy>
  <cp:lastPrinted>2008-03-30T13:06:34Z</cp:lastPrinted>
  <dcterms:modified xsi:type="dcterms:W3CDTF">2015-11-08T07:54:43Z</dcterms:modified>
  <cp:revision>7</cp:revision>
  <dc:subject/>
  <dc:title>Geen diatitel</dc:title>
</cp:coreProperties>
</file>