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27F-8976-4A50-A4CA-6B11C580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F05-C64C-4C00-8854-E4E577F2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04B-7D7F-4CB4-9288-803EA3F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8A5-B8D3-4C8A-BFA6-85CC12EC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70F-269E-41FD-BCB7-51A36A8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4BE-8CAB-4E7B-A8FC-47A0E52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568-0673-441D-9892-932B5D4C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90B-D2AD-4753-B197-52050CF6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16A-2EE3-4F20-92EE-CE9BE47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CD1-0F25-4818-98BC-7C77F69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E69-F547-452D-9471-2B9CA88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6D9-F81A-4D19-B6F1-281EF93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54E8-DD0C-4AEE-868D-4E9D404045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61500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27200" y="152280"/>
            <a:ext cx="5965560" cy="96012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685800" y="1522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85800" y="152280"/>
            <a:ext cx="6019920" cy="106704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685800" y="1219320"/>
            <a:ext cx="6019920" cy="53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85800" y="9220320"/>
            <a:ext cx="601992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685800" y="8305920"/>
            <a:ext cx="6019920" cy="91440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523880" y="86104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haar opvrolijken!!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1600200" y="380880"/>
            <a:ext cx="419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it de scheurkalender van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200400" y="83808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0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13" descr="http://plaatjessite.mine.nu/nanda/aardbeien/aardbei11.gif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81480" y="7238880"/>
            <a:ext cx="148608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4"/>
          <p:cNvSpPr/>
          <p:nvPr/>
        </p:nvSpPr>
        <p:spPr>
          <a:xfrm>
            <a:off x="5334120" y="6400800"/>
            <a:ext cx="1066680" cy="609480"/>
          </a:xfrm>
          <a:prstGeom prst="wedgeRoundRectCallout">
            <a:avLst>
              <a:gd name="adj1" fmla="val 16069"/>
              <a:gd name="adj2" fmla="val 929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sst…geef ha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 aardbei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kstvak 16"/>
          <p:cNvSpPr/>
          <p:nvPr/>
        </p:nvSpPr>
        <p:spPr>
          <a:xfrm>
            <a:off x="5577120" y="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 111  b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6:12:48Z</dcterms:created>
  <dc:creator>ERIK</dc:creator>
  <dc:description/>
  <dc:language>en-US</dc:language>
  <cp:lastModifiedBy>Erik de backer</cp:lastModifiedBy>
  <cp:lastPrinted>2008-03-30T13:06:34Z</cp:lastPrinted>
  <dcterms:modified xsi:type="dcterms:W3CDTF">2015-11-08T07:54:43Z</dcterms:modified>
  <cp:revision>7</cp:revision>
  <dc:subject/>
  <dc:title>Geen diatitel</dc:title>
</cp:coreProperties>
</file>