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F4C-5281-4572-B185-C6F34184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556-34A1-4E3C-9629-6EDEDDCD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743-0F22-4020-9BC2-3417E01E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593-5152-4F87-8CF2-10E7E9D2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36E-5E97-4D12-8AC9-D2130E15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C58-135F-4DD6-9B66-B5391A8A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3AE-751A-4A69-8D7F-5FCB3743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296-223E-480F-80B4-5DD30453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5C6-7965-4040-9884-FF97DD58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B57-CEEA-4FE2-9C03-A70F29C5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DDF-5435-4438-9D27-CBEDAF1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103-6CF0-4368-AF55-AFFF8BD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1735-B86C-463E-9AF4-546B09D48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2800" y="8113680"/>
            <a:ext cx="581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Weerspreuken - Augustus                        Inhoud     6-Poézie - Waar zit die heldere zang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oorden en gezegden                                    7_Wist u dit ?  Artisjok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Spreekwijzen                                                            8-Er waren 6 prutsen te vinden in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-oplossing 102 : Te natte zomer        9-Hoeveel in deze uitgave vind u er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 - 62 + oplossing 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een ambacht heeft geleer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ijgt de kost waar hij verke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gustus-2007(103)Jaargang 9 nr.8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05240" y="3505320"/>
            <a:ext cx="251136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8077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38280" y="2666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09480" y="25142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666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095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33920" y="5622840"/>
            <a:ext cx="2590560" cy="247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600200" cy="104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685800" y="358128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33360" y="365760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58128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5720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514600"/>
            <a:ext cx="205740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28954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105520"/>
            <a:ext cx="6858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048120"/>
            <a:ext cx="38088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048120"/>
            <a:ext cx="228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48006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2874960" cy="312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32000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6160" y="78487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743200"/>
            <a:ext cx="4572000" cy="5335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133720" y="5257800"/>
            <a:ext cx="2336760" cy="2868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066680" y="2895480"/>
            <a:ext cx="434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 leraren bereiden zich voor...!!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3520" y="6858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8915400"/>
            <a:ext cx="1905120" cy="4572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cc99"/>
                </a:solidFill>
                <a:latin typeface="Times New Roman"/>
              </a:rPr>
              <a:t>Veel leesge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cp:lastPrinted>2007-08-18T22:06:19Z</cp:lastPrinted>
  <dcterms:modified xsi:type="dcterms:W3CDTF">2014-06-01T18:34:30Z</dcterms:modified>
  <cp:revision>8</cp:revision>
  <dc:subject/>
  <dc:title>Geen diatitel</dc:title>
</cp:coreProperties>
</file>