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388-48B7-483A-9705-E798441E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DD4-767E-40F1-914A-1402454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354-C2F8-43B1-81D0-B3EDED4E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890-4A91-44B9-870B-45056CFD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45C-DF85-4A02-A0B4-A45EE4C3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215-B417-44AA-B4A4-5255802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7F0-E4E6-49BA-99BB-6A1D6125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E9C-BB74-458B-AD5E-A124181E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9A3-FB88-4C69-9307-A14E364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160-A19E-48DD-A33F-3AD3313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C61-718F-4D9F-B639-FF78BD4F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928-D19C-4261-B7D8-F97D52E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7F3-F051-4E3F-B57F-0633F0E7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2800" y="8113680"/>
            <a:ext cx="581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- Augustus                        Inhoud     6-Poézie - Waar zit die heldere zang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7_Wist u dit ?  Artisjok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 8-Er waren 6 prutsen te vinden i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-oplossing 102 : Te natte zomer        9-Hoeveel in deze uitgave vind u 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 - 62 + oplossing 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een ambacht heeft geleer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ijgt de kost waar hij verke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gustus-2007(103)Jaargang 9 nr.8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05240" y="3505320"/>
            <a:ext cx="251136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807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266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09480" y="25142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666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33920" y="5622840"/>
            <a:ext cx="2590560" cy="247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600200" cy="104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685800" y="35812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33360" y="365760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5812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5720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205740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8954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105520"/>
            <a:ext cx="6858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048120"/>
            <a:ext cx="38088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048120"/>
            <a:ext cx="228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8006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287496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32000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6160" y="78487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743200"/>
            <a:ext cx="4572000" cy="5335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133720" y="5257800"/>
            <a:ext cx="2336760" cy="286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66680" y="2895480"/>
            <a:ext cx="434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leraren bereiden zich voor...!!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520" y="6858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8915400"/>
            <a:ext cx="1905120" cy="4572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cc99"/>
                </a:solidFill>
                <a:latin typeface="Times New Roman"/>
              </a:rPr>
              <a:t>Veel leesge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cp:lastPrinted>2007-08-18T22:06:19Z</cp:lastPrinted>
  <dcterms:modified xsi:type="dcterms:W3CDTF">2014-06-01T18:34:30Z</dcterms:modified>
  <cp:revision>8</cp:revision>
  <dc:subject/>
  <dc:title>Geen diatitel</dc:title>
</cp:coreProperties>
</file>