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232-5FC3-46E5-B54C-751F65C0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C02-CAF8-4F8A-9BE8-9CCD669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D8A-D583-4B47-B33F-E4FE1AC2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5D1-6040-43DB-A422-EA4661CC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A65-DABA-49BD-8028-D2D6147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34A-9869-40BB-8B42-8167A1C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790-6B29-4A9C-911D-04462D4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3EB-D143-4B8E-91E4-608D74E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0EE-86FB-4FF8-BF7A-2D52D8BE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4EC-C7BD-4221-B769-74E905F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5AA-6726-4AAB-92D1-290BB54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C8A-454D-409E-B6A0-A6219D6E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9BAB-045B-442D-B1A3-AA4F6718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2800" y="8113680"/>
            <a:ext cx="581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- Augustus                        Inhoud     6-Poézie - Waar zit die heldere zang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7_Wist u dit ?  Artisjok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 8-Er waren 6 prutsen te vinden i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-oplossing 102 : Te natte zomer        9-Hoeveel in deze uitgave vind u 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 - 62 + oplossing 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een ambacht heeft geleer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ijgt de kost waar hij verke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gustus-2007(103)Jaargang 9 nr.8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05240" y="3505320"/>
            <a:ext cx="251136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807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266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09480" y="25142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666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33920" y="5622840"/>
            <a:ext cx="2590560" cy="247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600200" cy="104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685800" y="35812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33360" y="365760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5812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5720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205740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8954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105520"/>
            <a:ext cx="6858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048120"/>
            <a:ext cx="38088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048120"/>
            <a:ext cx="228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8006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287496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32000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6160" y="78487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743200"/>
            <a:ext cx="4572000" cy="5335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133720" y="5257800"/>
            <a:ext cx="2336760" cy="286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66680" y="2895480"/>
            <a:ext cx="434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leraren bereiden zich voor...!!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520" y="6858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8915400"/>
            <a:ext cx="1905120" cy="4572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cc99"/>
                </a:solidFill>
                <a:latin typeface="Times New Roman"/>
              </a:rPr>
              <a:t>Veel leesge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cp:lastPrinted>2007-08-18T22:06:19Z</cp:lastPrinted>
  <dcterms:modified xsi:type="dcterms:W3CDTF">2014-06-01T18:34:30Z</dcterms:modified>
  <cp:revision>8</cp:revision>
  <dc:subject/>
  <dc:title>Geen diatitel</dc:title>
</cp:coreProperties>
</file>