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4B936-A06D-46F0-A81E-5DBE5B2EE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B7EB9-1EEC-48A9-B9D0-A6A6E9BC5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8F28D-7C4B-4990-8BF8-F6CB778C3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BFE1A-66A6-4693-8614-C8731704D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D86C0-7879-4DF4-B5A0-D38CC89BC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528E5-702C-4195-92C7-9C9CF960D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95E4F-A267-4404-AF41-DA9B2D9DF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97513-63F1-4685-AAAE-63179F7BD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083BB-8640-4779-80D3-242330CA5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C02E1-8819-45D7-B429-431E81061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0790D-4CB5-4834-B002-AA3035719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681DB-D76F-4A51-83D1-5CBC83956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B717F-F086-485C-B1A6-AC53D0AFEE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3520" y="380880"/>
            <a:ext cx="58672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33520" y="1295280"/>
            <a:ext cx="586728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33520" y="2514600"/>
            <a:ext cx="5867280" cy="6934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447920"/>
            <a:ext cx="54864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DE DONKSE KLOEFFE</a:t>
            </a:r>
            <a:endParaRPr b="0" lang="en-US" sz="32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520" y="8153280"/>
            <a:ext cx="586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32800" y="8113680"/>
            <a:ext cx="58165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1-Weerspreuken - Augustus                        Inhoud     6-Poézie - Waar zit die heldere zang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2-Spreekwoorden en gezegden                                    7_Wist u dit ?  Artisjok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3-Spreekwijzen                                                            8-Er waren 6 prutsen te vinden in 1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4-Woordpuzzel -oplossing 102 : Te natte zomer        9-Hoeveel in deze uitgave vind u er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5-Rebus - 62 + oplossing 61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Wie een ambacht heeft geleerd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krijgt de kost waar hij verkeer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609480" y="457200"/>
            <a:ext cx="5715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Augustus-2007(103)Jaargang 9 nr.8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405240" y="3505320"/>
            <a:ext cx="2511360" cy="29718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33520" y="80773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438280" y="2666520"/>
            <a:ext cx="0" cy="342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609480" y="2514240"/>
            <a:ext cx="18288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438280" y="266688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438280" y="6095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648320" y="60958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791320" y="60958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429000" y="60958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200400" y="342900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124080" y="533412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00400" y="342900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952880" y="3429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952880" y="48006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3733920" y="5622840"/>
            <a:ext cx="2590560" cy="24796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685800" y="3581280"/>
            <a:ext cx="1600200" cy="10414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 flipH="1">
            <a:off x="685800" y="3581280"/>
            <a:ext cx="7632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2133360" y="3657600"/>
            <a:ext cx="7596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3581280"/>
            <a:ext cx="144756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85800" y="4572000"/>
            <a:ext cx="14479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19520" y="2514600"/>
            <a:ext cx="2057400" cy="152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15000" y="2895480"/>
            <a:ext cx="68580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715000" y="5105520"/>
            <a:ext cx="68580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019920" y="3048120"/>
            <a:ext cx="380880" cy="20574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791320" y="3048120"/>
            <a:ext cx="228600" cy="10666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791320" y="4800600"/>
            <a:ext cx="22860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4"/>
          <a:stretch/>
        </p:blipFill>
        <p:spPr>
          <a:xfrm>
            <a:off x="609480" y="4876920"/>
            <a:ext cx="2874960" cy="312408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 flipH="1">
            <a:off x="3200040" y="53341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4876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438280" y="48006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186160" y="7848720"/>
            <a:ext cx="1125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Erik De Bac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914400" y="2743200"/>
            <a:ext cx="4572000" cy="533520"/>
          </a:xfrm>
          <a:prstGeom prst="horizontalScrol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5"/>
          <a:stretch/>
        </p:blipFill>
        <p:spPr>
          <a:xfrm>
            <a:off x="2133720" y="5257800"/>
            <a:ext cx="2336760" cy="28684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 txBox="1"/>
          <p:nvPr/>
        </p:nvSpPr>
        <p:spPr>
          <a:xfrm>
            <a:off x="1066680" y="2895480"/>
            <a:ext cx="43434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De leraren bereiden zich voor...!!</a:t>
            </a:r>
            <a:endParaRPr b="0" lang="en-US" sz="12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533520" y="6858000"/>
            <a:ext cx="22860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114800" y="8915400"/>
            <a:ext cx="1905120" cy="457200"/>
          </a:xfrm>
          <a:prstGeom prst="horizontalScroll">
            <a:avLst>
              <a:gd name="adj" fmla="val 125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400" spc="-1" strike="noStrike">
                <a:solidFill>
                  <a:srgbClr val="00cc99"/>
                </a:solidFill>
                <a:latin typeface="Times New Roman"/>
              </a:rPr>
              <a:t>Veel leesgeno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11T16:17:20Z</dcterms:created>
  <dc:creator>Win</dc:creator>
  <dc:description/>
  <dc:language>en-US</dc:language>
  <cp:lastModifiedBy>ERIK</cp:lastModifiedBy>
  <cp:lastPrinted>2007-08-18T22:06:19Z</cp:lastPrinted>
  <dcterms:modified xsi:type="dcterms:W3CDTF">2014-06-01T18:34:30Z</dcterms:modified>
  <cp:revision>8</cp:revision>
  <dc:subject/>
  <dc:title>Geen diatitel</dc:title>
</cp:coreProperties>
</file>