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C550-0738-49CC-BBB4-24115E82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3453-B216-4D06-8908-3A33F18A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D2EB-4F48-4A86-8C8E-85458FF4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2EBA-DFC9-4A52-B387-A8C0BDDA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51C9-E361-45FB-A0A2-6F7842CF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D09E-5FE0-4408-BE65-E51F2CE3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939-41CE-409B-9790-D668487D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89E3-1E58-475E-996B-98BEAAE2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EA7-DB66-44FE-8C06-B34776BA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E59B-7B2B-494C-856E-47C6BD79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5EF6-F5C7-4CAC-A41A-FCD2D56C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E8F8-6384-43FE-BD47-29944F0F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3802-1709-4B6B-9034-8740384D7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17220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0720" y="-3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28600"/>
            <a:ext cx="2666880" cy="91440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533520"/>
            <a:ext cx="21337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st u dit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2650320" y="228600"/>
            <a:ext cx="36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Pythagoras"/>
              </a:rPr>
              <a:t>Uit de gids voor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Pythagoras"/>
              </a:rPr>
              <a:t>Vitaminen en Minera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Pythagoras"/>
              </a:rPr>
              <a:t>en krui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Pythagoras"/>
              </a:rPr>
              <a:t>Uitgegeven door Readers Dig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14479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295280"/>
            <a:ext cx="18288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loé ver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75248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8680" y="1905120"/>
            <a:ext cx="4760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De Egyptenaren kenden de kracht v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Aloé vera al voordat Cleopatra aa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macht kwam.De verkoelende en verzach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tende gelei uit het blad wordt van oud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gebruikt bij brandwonden en kleine huid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beschadigingen.Er  wordt ook sap van g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maakt dat helpt bij spijsverteringsprobl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Aloé vera is een vetplant uit de leliefamil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waarvan de vlezige bladeren een gelei b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vatten die veel wordt gebruikt voor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plaatselijke behandeling van huidprobl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men,een therapie die op zijn minst terug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gaat tot 1500 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In de VS,Japan en het Caraibisch en h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Middelandse zeegebied kweekt men Alo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vera voor handelsdoelei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66294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6629400"/>
            <a:ext cx="2438280" cy="21337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Aloé v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verzacht het badwater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vooral prettig als u la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hebt van zonnebr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Voeg twee kopjes Alo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sap toe aan het lau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we bad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7696080"/>
            <a:ext cx="2895480" cy="2009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9880" y="6629400"/>
            <a:ext cx="2438640" cy="21337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Aloé v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wordt nu ook gebrui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om de ontstoken huid bi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soriasis te behandele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bij een behand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driemaal daags boe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men moo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resulta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0200" y="944892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89000" y="8305920"/>
            <a:ext cx="763560" cy="144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14400" y="9144000"/>
            <a:ext cx="1447920" cy="380880"/>
          </a:xfrm>
          <a:prstGeom prst="wedgeRoundRectCallout">
            <a:avLst>
              <a:gd name="adj1" fmla="val -46930"/>
              <a:gd name="adj2" fmla="val -13125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Mag ik erbij kom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20:30:41Z</dcterms:created>
  <dc:creator>ERIK</dc:creator>
  <dc:description/>
  <dc:language>en-US</dc:language>
  <cp:lastModifiedBy>ERIK</cp:lastModifiedBy>
  <dcterms:modified xsi:type="dcterms:W3CDTF">2014-06-01T18:31:18Z</dcterms:modified>
  <cp:revision>1</cp:revision>
  <dc:subject/>
  <dc:title>Geen diatitel</dc:title>
</cp:coreProperties>
</file>