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E5A-0067-4E1F-B604-7868152A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1A9-B36C-46A2-B147-A1EC6C1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FDB-D035-4F67-A540-469B5021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434-A454-4F05-A2E3-52144CF0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359-CE0D-4FCC-A0D2-BF00E9A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0F9-4EE3-4E71-85E8-10053694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D602-0680-4500-9BC9-E285BE53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7E8-A359-401B-9960-0A9A0A6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456-4A88-4402-AEB1-60382FD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B12-71F9-4197-89AA-88B6EEB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E1C-576E-4CB5-B7C1-5884608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9E4-C3B1-4DB3-B976-6F93F50B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9AB-F00E-48B7-90E1-23484A036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17220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"/>
            <a:ext cx="2666880" cy="9144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53352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st u dit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650320" y="228600"/>
            <a:ext cx="36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Uit de gids voo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Vitaminen en Miner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en kru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Pythagoras"/>
              </a:rPr>
              <a:t>Uitgegeven door Readers Di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4479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295280"/>
            <a:ext cx="1828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oé ve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752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" y="1905120"/>
            <a:ext cx="476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De Egyptenaren kenden de kracht v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Aloé vera al voordat Cleopatra aa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acht kwam.De verkoelende en verzach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tende gelei uit het blad wordt van oud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gebruikt bij brandwonden en kleine hui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beschadigingen.Er  wordt ook sap van 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aakt dat helpt bij spijsverteringsprob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Aloé vera is een vetplant uit de leliefamil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waarvan de vlezige bladeren een gelei b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vatten die veel wordt gebruikt voor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plaatselijke behandeling van huidprobl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en,een therapie die op zijn minst terug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gaat tot 1500 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In de VS,Japan en het Caraibisch en h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Middelandse zeegebied kweekt men Alo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Script-S800"/>
              </a:rPr>
              <a:t>vera voor handelsdoelei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6629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629400"/>
            <a:ext cx="2438280" cy="2133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Aloé 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verzacht het badwat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vooral prettig als u l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hebt van zonnebr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Voeg twee kopjes Alo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sap toe aan het lau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we bad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7696080"/>
            <a:ext cx="2895480" cy="200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9880" y="6629400"/>
            <a:ext cx="2438640" cy="2133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Aloé 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wordt nu ook gebru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om de ontstoken huid b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psoriasis te behandel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bij een behan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driemaal daags bo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men mo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resulta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8305920"/>
            <a:ext cx="763560" cy="144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9144000"/>
            <a:ext cx="1447920" cy="380880"/>
          </a:xfrm>
          <a:prstGeom prst="wedgeRoundRectCallout">
            <a:avLst>
              <a:gd name="adj1" fmla="val -46930"/>
              <a:gd name="adj2" fmla="val -13125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Mag ik erbij kom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30:41Z</dcterms:created>
  <dc:creator>ERIK</dc:creator>
  <dc:description/>
  <dc:language>en-US</dc:language>
  <cp:lastModifiedBy>ERIK</cp:lastModifiedBy>
  <dcterms:modified xsi:type="dcterms:W3CDTF">2014-06-01T18:31:18Z</dcterms:modified>
  <cp:revision>1</cp:revision>
  <dc:subject/>
  <dc:title>Geen diatitel</dc:title>
</cp:coreProperties>
</file>