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01B-3D06-4E88-BA33-AACC0A33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85D-15F7-454C-9BA7-1ED4BF26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54B-9FFF-4045-9097-B436454B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529-B742-4730-AED7-E5759034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60A-9242-4654-ABC9-F6875F93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441-F5E3-44DC-9345-FF63CF1D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19C-6EBE-45C9-9E14-BD0E97C6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50B-9536-48C6-BCEC-B7B1BE97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7B8-EDFD-4F1F-8C36-EDC6612E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A4F-0EB9-4A3F-89C4-CDAE98C4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F82-A7B9-4754-8304-AD9B5B2D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951-6E55-4BAE-A94C-F748E843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035D-254F-4EDA-ACEC-0B645E8E9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38680" y="-18720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30492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ézi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860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71800" y="228600"/>
            <a:ext cx="23623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 Orkiedor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838080"/>
            <a:ext cx="6096240" cy="8771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>
            <a:lum contrast="-42000"/>
          </a:blip>
          <a:stretch/>
        </p:blipFill>
        <p:spPr>
          <a:xfrm>
            <a:off x="1600200" y="6248520"/>
            <a:ext cx="4952880" cy="3504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62120" y="838080"/>
            <a:ext cx="34671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n het land der Orkiedorren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95480" y="1219320"/>
            <a:ext cx="36576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aar zijn ze allemaal gek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2120" y="1600200"/>
            <a:ext cx="3990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aar hebben ze groene snorren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971800" y="1981080"/>
            <a:ext cx="3591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n vlaggetjes in hun nek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2666880"/>
            <a:ext cx="4267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aar hebben ze koperen tenen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352680" y="3048120"/>
            <a:ext cx="3229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n veren op hun hoofd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2120" y="3429000"/>
            <a:ext cx="2771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Ze eten kiezelstenen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90920" y="3809880"/>
            <a:ext cx="40194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et boter en suiker gestoofd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4495680"/>
            <a:ext cx="3809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ls je iemand ziet flaneren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8120" y="4876920"/>
            <a:ext cx="3562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et een grote groene snor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5257800"/>
            <a:ext cx="41907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n een hoofd vol wuivende veren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24080" y="5638680"/>
            <a:ext cx="339120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an is het een Orkiedor 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>
            <a:lum contrast="-18000"/>
          </a:blip>
          <a:srcRect l="11538" t="0" r="0" b="0"/>
          <a:stretch/>
        </p:blipFill>
        <p:spPr>
          <a:xfrm>
            <a:off x="609480" y="5943600"/>
            <a:ext cx="1752840" cy="1749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5867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5638680"/>
            <a:ext cx="1143000" cy="457200"/>
          </a:xfrm>
          <a:prstGeom prst="wedgeRoundRectCallout">
            <a:avLst>
              <a:gd name="adj1" fmla="val 16111"/>
              <a:gd name="adj2" fmla="val 8229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Rare snuiters hé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Die Orkiedor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91080" y="944892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0740800">
            <a:off x="2057400" y="6400440"/>
            <a:ext cx="685800" cy="762120"/>
          </a:xfrm>
          <a:custGeom>
            <a:avLst/>
            <a:gdLst>
              <a:gd name="textAreaLeft" fmla="*/ 0 w 685800"/>
              <a:gd name="textAreaRight" fmla="*/ 686160 w 68580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3333cc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7086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920400">
            <a:off x="4648320" y="5943240"/>
            <a:ext cx="685800" cy="914400"/>
          </a:xfrm>
          <a:custGeom>
            <a:avLst/>
            <a:gdLst>
              <a:gd name="textAreaLeft" fmla="*/ 0 w 685800"/>
              <a:gd name="textAreaRight" fmla="*/ 686160 w 6858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50000">
                <a:srgbClr val="ccccff"/>
              </a:gs>
              <a:gs pos="100000">
                <a:srgbClr val="ff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920400">
            <a:off x="5943600" y="6019560"/>
            <a:ext cx="685800" cy="914400"/>
          </a:xfrm>
          <a:custGeom>
            <a:avLst/>
            <a:gdLst>
              <a:gd name="textAreaLeft" fmla="*/ 0 w 685800"/>
              <a:gd name="textAreaRight" fmla="*/ 686160 w 6858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495320" y="6019920"/>
            <a:ext cx="2286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6095880"/>
            <a:ext cx="152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6629400"/>
            <a:ext cx="228600" cy="228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6172200"/>
            <a:ext cx="380880" cy="380880"/>
          </a:xfrm>
          <a:custGeom>
            <a:avLst/>
            <a:gdLst>
              <a:gd name="textAreaLeft" fmla="*/ 0 w 380880"/>
              <a:gd name="textAreaRight" fmla="*/ 381240 w 380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6248520"/>
            <a:ext cx="381240" cy="38088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rcRect l="0" t="0" r="57888" b="0"/>
          <a:stretch/>
        </p:blipFill>
        <p:spPr>
          <a:xfrm>
            <a:off x="3429000" y="5943600"/>
            <a:ext cx="96048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rcRect l="0" t="0" r="0" b="66108"/>
          <a:stretch/>
        </p:blipFill>
        <p:spPr>
          <a:xfrm>
            <a:off x="4724280" y="6019920"/>
            <a:ext cx="1600200" cy="1014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rcRect l="0" t="0" r="0" b="65765"/>
          <a:stretch/>
        </p:blipFill>
        <p:spPr>
          <a:xfrm>
            <a:off x="1905120" y="6629400"/>
            <a:ext cx="1189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18:36:16Z</dcterms:created>
  <dc:creator>ERIK</dc:creator>
  <dc:description/>
  <dc:language>en-US</dc:language>
  <cp:lastModifiedBy>ERIK</cp:lastModifiedBy>
  <dcterms:modified xsi:type="dcterms:W3CDTF">2014-06-01T18:29:17Z</dcterms:modified>
  <cp:revision>2</cp:revision>
  <dc:subject/>
  <dc:title>Geen diatitel</dc:title>
</cp:coreProperties>
</file>