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6DAB-E403-4BFE-A0ED-39F9F389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2D2D-2B3A-401B-B5F2-7DB014FB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5D69-D4BA-4193-8279-FAE0B2D5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54D-7647-43EF-9154-6234659E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18E4-06B3-4C04-AA58-D4AAF828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6A1B-3E5D-4EEC-8D12-DD44D9D2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34F-7EA3-4D0D-8E1C-23B36E09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BCE-C60C-4F8B-8E8F-E9AF0C3A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610-F046-4B10-A811-3FC95024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DD3-F5FF-45D6-B08D-70685AAD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621-C21E-457F-8BF7-92A07558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71C-73BF-465B-90E8-227C2733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67C8-8D74-4BA5-80AA-FED33F2F1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52280"/>
            <a:ext cx="609624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38680" y="-18720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304920"/>
            <a:ext cx="1371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ézi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860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71800" y="228600"/>
            <a:ext cx="23623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 Orkiedor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838080"/>
            <a:ext cx="6096240" cy="8771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>
            <a:lum contrast="-42000"/>
          </a:blip>
          <a:stretch/>
        </p:blipFill>
        <p:spPr>
          <a:xfrm>
            <a:off x="1600200" y="6248520"/>
            <a:ext cx="4952880" cy="3504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762120" y="838080"/>
            <a:ext cx="34671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n het land der Orkiedorren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95480" y="1219320"/>
            <a:ext cx="36576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aar zijn ze allemaal gek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62120" y="1600200"/>
            <a:ext cx="39909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aar hebben ze groene snorren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971800" y="1981080"/>
            <a:ext cx="3591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en vlaggetjes in hun nek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2120" y="2666880"/>
            <a:ext cx="42670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aar hebben ze koperen tenen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352680" y="3048120"/>
            <a:ext cx="3229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en veren op hun hoofd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62120" y="3429000"/>
            <a:ext cx="2771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Ze eten kiezelstenen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90920" y="3809880"/>
            <a:ext cx="40194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et boter en suiker gestoofd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2120" y="4495680"/>
            <a:ext cx="3809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ls je iemand ziet flaneren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8120" y="4876920"/>
            <a:ext cx="3562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et een grote groene snor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2120" y="5257800"/>
            <a:ext cx="41907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en een hoofd vol wuivende veren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124080" y="5638680"/>
            <a:ext cx="339120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an is het een Orkiedor 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>
            <a:lum contrast="-18000"/>
          </a:blip>
          <a:srcRect l="11538" t="0" r="0" b="0"/>
          <a:stretch/>
        </p:blipFill>
        <p:spPr>
          <a:xfrm>
            <a:off x="609480" y="5943600"/>
            <a:ext cx="1752840" cy="1749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5867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5638680"/>
            <a:ext cx="1143000" cy="457200"/>
          </a:xfrm>
          <a:prstGeom prst="wedgeRoundRectCallout">
            <a:avLst>
              <a:gd name="adj1" fmla="val 16111"/>
              <a:gd name="adj2" fmla="val 8229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Rare snuiters hé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Die Orkiedor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91080" y="944892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20740800">
            <a:off x="2057400" y="6400440"/>
            <a:ext cx="685800" cy="762120"/>
          </a:xfrm>
          <a:custGeom>
            <a:avLst/>
            <a:gdLst>
              <a:gd name="textAreaLeft" fmla="*/ 0 w 685800"/>
              <a:gd name="textAreaRight" fmla="*/ 686160 w 68580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3333cc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7086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920400">
            <a:off x="4648320" y="5943240"/>
            <a:ext cx="685800" cy="914400"/>
          </a:xfrm>
          <a:custGeom>
            <a:avLst/>
            <a:gdLst>
              <a:gd name="textAreaLeft" fmla="*/ 0 w 685800"/>
              <a:gd name="textAreaRight" fmla="*/ 686160 w 6858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50000">
                <a:srgbClr val="ccccff"/>
              </a:gs>
              <a:gs pos="100000">
                <a:srgbClr val="ff00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920400">
            <a:off x="5943600" y="6019560"/>
            <a:ext cx="685800" cy="914400"/>
          </a:xfrm>
          <a:custGeom>
            <a:avLst/>
            <a:gdLst>
              <a:gd name="textAreaLeft" fmla="*/ 0 w 685800"/>
              <a:gd name="textAreaRight" fmla="*/ 686160 w 6858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495320" y="6019920"/>
            <a:ext cx="2286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867280" y="6095880"/>
            <a:ext cx="1526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6629400"/>
            <a:ext cx="228600" cy="228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6172200"/>
            <a:ext cx="380880" cy="380880"/>
          </a:xfrm>
          <a:custGeom>
            <a:avLst/>
            <a:gdLst>
              <a:gd name="textAreaLeft" fmla="*/ 0 w 380880"/>
              <a:gd name="textAreaRight" fmla="*/ 381240 w 3808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5880" y="6248520"/>
            <a:ext cx="381240" cy="38088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rcRect l="0" t="0" r="57888" b="0"/>
          <a:stretch/>
        </p:blipFill>
        <p:spPr>
          <a:xfrm>
            <a:off x="3429000" y="5943600"/>
            <a:ext cx="96048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rcRect l="0" t="0" r="0" b="66108"/>
          <a:stretch/>
        </p:blipFill>
        <p:spPr>
          <a:xfrm>
            <a:off x="4724280" y="6019920"/>
            <a:ext cx="1600200" cy="1014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rcRect l="0" t="0" r="0" b="65765"/>
          <a:stretch/>
        </p:blipFill>
        <p:spPr>
          <a:xfrm>
            <a:off x="1905120" y="6629400"/>
            <a:ext cx="1189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18:36:16Z</dcterms:created>
  <dc:creator>ERIK</dc:creator>
  <dc:description/>
  <dc:language>en-US</dc:language>
  <cp:lastModifiedBy>ERIK</cp:lastModifiedBy>
  <dcterms:modified xsi:type="dcterms:W3CDTF">2014-06-01T18:29:17Z</dcterms:modified>
  <cp:revision>2</cp:revision>
  <dc:subject/>
  <dc:title>Geen diatitel</dc:title>
</cp:coreProperties>
</file>