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24B-B882-436F-A129-5C290F4B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8C2-1C60-474D-B390-8542BF9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869-86D1-43F4-B4A7-554D481D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FC8-A5CB-41DF-BFCD-134A8F93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AF5-8D6E-48D6-9087-C85190D1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238-A348-45E1-94BA-99C449F8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C93-087C-45CB-BEC2-FB249C32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4B7-3729-418A-A67B-1256727A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F2D-1F95-4C26-9701-B1E7F3E4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999-D3E3-4A33-BF34-2606476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BC1-91CD-4823-9AE4-D42994A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4F1-B420-43F8-A8D6-94FEFCFD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5949-2496-42EB-8ABC-D6236C4A3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3400" y="114480"/>
            <a:ext cx="41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bus-61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5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95280" y="151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457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8400" y="41904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angzaamaan,dan breekt het lijntje ni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62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152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62720" y="152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95600" cy="1676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457200" y="106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914040" y="1143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040" y="217188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K              - D           S = M    +  O = A          +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440" y="232416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       - - -               - -           - - - - -         -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132876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838080"/>
            <a:ext cx="6094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7251000">
            <a:off x="2480760" y="1312200"/>
            <a:ext cx="914400" cy="228600"/>
          </a:xfrm>
          <a:prstGeom prst="flowChartMagneticDrum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371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143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047760" y="1294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5640" y="1562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914400"/>
            <a:ext cx="559080" cy="1333440"/>
          </a:xfrm>
          <a:custGeom>
            <a:avLst/>
            <a:gdLst/>
            <a:ahLst/>
            <a:rect l="l" t="t" r="r" b="b"/>
            <a:pathLst>
              <a:path w="352" h="840">
                <a:moveTo>
                  <a:pt x="352" y="0"/>
                </a:moveTo>
                <a:cubicBezTo>
                  <a:pt x="304" y="12"/>
                  <a:pt x="330" y="5"/>
                  <a:pt x="272" y="24"/>
                </a:cubicBezTo>
                <a:cubicBezTo>
                  <a:pt x="264" y="27"/>
                  <a:pt x="248" y="32"/>
                  <a:pt x="248" y="32"/>
                </a:cubicBezTo>
                <a:cubicBezTo>
                  <a:pt x="215" y="65"/>
                  <a:pt x="207" y="82"/>
                  <a:pt x="192" y="128"/>
                </a:cubicBezTo>
                <a:cubicBezTo>
                  <a:pt x="189" y="136"/>
                  <a:pt x="184" y="152"/>
                  <a:pt x="184" y="152"/>
                </a:cubicBezTo>
                <a:cubicBezTo>
                  <a:pt x="194" y="249"/>
                  <a:pt x="184" y="207"/>
                  <a:pt x="208" y="280"/>
                </a:cubicBezTo>
                <a:cubicBezTo>
                  <a:pt x="213" y="296"/>
                  <a:pt x="219" y="312"/>
                  <a:pt x="224" y="328"/>
                </a:cubicBezTo>
                <a:cubicBezTo>
                  <a:pt x="227" y="336"/>
                  <a:pt x="232" y="352"/>
                  <a:pt x="232" y="352"/>
                </a:cubicBezTo>
                <a:cubicBezTo>
                  <a:pt x="229" y="389"/>
                  <a:pt x="228" y="427"/>
                  <a:pt x="224" y="464"/>
                </a:cubicBezTo>
                <a:cubicBezTo>
                  <a:pt x="224" y="464"/>
                  <a:pt x="212" y="516"/>
                  <a:pt x="208" y="520"/>
                </a:cubicBezTo>
                <a:cubicBezTo>
                  <a:pt x="194" y="534"/>
                  <a:pt x="176" y="541"/>
                  <a:pt x="160" y="552"/>
                </a:cubicBezTo>
                <a:cubicBezTo>
                  <a:pt x="152" y="557"/>
                  <a:pt x="136" y="568"/>
                  <a:pt x="136" y="568"/>
                </a:cubicBezTo>
                <a:cubicBezTo>
                  <a:pt x="90" y="637"/>
                  <a:pt x="151" y="556"/>
                  <a:pt x="96" y="600"/>
                </a:cubicBezTo>
                <a:cubicBezTo>
                  <a:pt x="44" y="641"/>
                  <a:pt x="116" y="612"/>
                  <a:pt x="56" y="632"/>
                </a:cubicBezTo>
                <a:cubicBezTo>
                  <a:pt x="43" y="672"/>
                  <a:pt x="16" y="673"/>
                  <a:pt x="0" y="720"/>
                </a:cubicBezTo>
                <a:cubicBezTo>
                  <a:pt x="10" y="760"/>
                  <a:pt x="16" y="799"/>
                  <a:pt x="1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36960" y="1079640"/>
            <a:ext cx="419040" cy="1143000"/>
          </a:xfrm>
          <a:custGeom>
            <a:avLst/>
            <a:gdLst/>
            <a:ahLst/>
            <a:rect l="l" t="t" r="r" b="b"/>
            <a:pathLst>
              <a:path w="264" h="720">
                <a:moveTo>
                  <a:pt x="264" y="0"/>
                </a:moveTo>
                <a:cubicBezTo>
                  <a:pt x="215" y="16"/>
                  <a:pt x="181" y="35"/>
                  <a:pt x="144" y="72"/>
                </a:cubicBezTo>
                <a:cubicBezTo>
                  <a:pt x="147" y="128"/>
                  <a:pt x="148" y="184"/>
                  <a:pt x="152" y="240"/>
                </a:cubicBezTo>
                <a:cubicBezTo>
                  <a:pt x="153" y="256"/>
                  <a:pt x="156" y="272"/>
                  <a:pt x="160" y="288"/>
                </a:cubicBezTo>
                <a:cubicBezTo>
                  <a:pt x="164" y="304"/>
                  <a:pt x="176" y="336"/>
                  <a:pt x="176" y="336"/>
                </a:cubicBezTo>
                <a:cubicBezTo>
                  <a:pt x="167" y="400"/>
                  <a:pt x="160" y="467"/>
                  <a:pt x="104" y="504"/>
                </a:cubicBezTo>
                <a:cubicBezTo>
                  <a:pt x="86" y="532"/>
                  <a:pt x="68" y="550"/>
                  <a:pt x="40" y="568"/>
                </a:cubicBezTo>
                <a:cubicBezTo>
                  <a:pt x="24" y="592"/>
                  <a:pt x="16" y="616"/>
                  <a:pt x="0" y="640"/>
                </a:cubicBezTo>
                <a:cubicBezTo>
                  <a:pt x="3" y="659"/>
                  <a:pt x="16" y="698"/>
                  <a:pt x="16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2200" y="10159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0"/>
                </a:moveTo>
                <a:cubicBezTo>
                  <a:pt x="16" y="3"/>
                  <a:pt x="0" y="8"/>
                  <a:pt x="0" y="8"/>
                </a:cubicBezTo>
                <a:cubicBezTo>
                  <a:pt x="0" y="8"/>
                  <a:pt x="16" y="3"/>
                  <a:pt x="2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13280" y="10922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8" y="0"/>
                </a:moveTo>
                <a:cubicBezTo>
                  <a:pt x="5" y="8"/>
                  <a:pt x="0" y="24"/>
                  <a:pt x="0" y="24"/>
                </a:cubicBezTo>
                <a:cubicBezTo>
                  <a:pt x="0" y="24"/>
                  <a:pt x="5" y="8"/>
                  <a:pt x="8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87720" y="1219320"/>
            <a:ext cx="17640" cy="75960"/>
          </a:xfrm>
          <a:custGeom>
            <a:avLst/>
            <a:gdLst/>
            <a:ahLst/>
            <a:rect l="l" t="t" r="r" b="b"/>
            <a:pathLst>
              <a:path w="11" h="48">
                <a:moveTo>
                  <a:pt x="0" y="0"/>
                </a:moveTo>
                <a:cubicBezTo>
                  <a:pt x="11" y="32"/>
                  <a:pt x="8" y="16"/>
                  <a:pt x="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13280" y="142236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5880" y="1574640"/>
            <a:ext cx="12600" cy="63720"/>
          </a:xfrm>
          <a:custGeom>
            <a:avLst/>
            <a:gdLst/>
            <a:ahLst/>
            <a:rect l="l" t="t" r="r" b="b"/>
            <a:pathLst>
              <a:path w="8" h="40">
                <a:moveTo>
                  <a:pt x="8" y="0"/>
                </a:moveTo>
                <a:cubicBezTo>
                  <a:pt x="5" y="13"/>
                  <a:pt x="0" y="40"/>
                  <a:pt x="0" y="40"/>
                </a:cubicBezTo>
                <a:cubicBezTo>
                  <a:pt x="0" y="40"/>
                  <a:pt x="5" y="13"/>
                  <a:pt x="8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79064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0"/>
                </a:moveTo>
                <a:cubicBezTo>
                  <a:pt x="24" y="8"/>
                  <a:pt x="14" y="15"/>
                  <a:pt x="8" y="24"/>
                </a:cubicBezTo>
                <a:cubicBezTo>
                  <a:pt x="3" y="31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72080" y="1994040"/>
            <a:ext cx="3780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4" y="0"/>
                </a:moveTo>
                <a:cubicBezTo>
                  <a:pt x="19" y="8"/>
                  <a:pt x="12" y="15"/>
                  <a:pt x="8" y="24"/>
                </a:cubicBezTo>
                <a:cubicBezTo>
                  <a:pt x="4" y="32"/>
                  <a:pt x="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59120" y="220968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1600" y="1397160"/>
            <a:ext cx="177840" cy="431640"/>
          </a:xfrm>
          <a:custGeom>
            <a:avLst/>
            <a:gdLst/>
            <a:ahLst/>
            <a:rect l="l" t="t" r="r" b="b"/>
            <a:pathLst>
              <a:path w="112" h="272">
                <a:moveTo>
                  <a:pt x="112" y="272"/>
                </a:moveTo>
                <a:cubicBezTo>
                  <a:pt x="97" y="211"/>
                  <a:pt x="92" y="157"/>
                  <a:pt x="112" y="96"/>
                </a:cubicBezTo>
                <a:cubicBezTo>
                  <a:pt x="103" y="70"/>
                  <a:pt x="108" y="69"/>
                  <a:pt x="80" y="56"/>
                </a:cubicBezTo>
                <a:cubicBezTo>
                  <a:pt x="65" y="49"/>
                  <a:pt x="32" y="40"/>
                  <a:pt x="32" y="40"/>
                </a:cubicBezTo>
                <a:cubicBezTo>
                  <a:pt x="29" y="32"/>
                  <a:pt x="29" y="23"/>
                  <a:pt x="24" y="16"/>
                </a:cubicBezTo>
                <a:cubicBezTo>
                  <a:pt x="18" y="8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19440" y="1295280"/>
            <a:ext cx="88920" cy="317520"/>
          </a:xfrm>
          <a:custGeom>
            <a:avLst/>
            <a:gdLst/>
            <a:ahLst/>
            <a:rect l="l" t="t" r="r" b="b"/>
            <a:pathLst>
              <a:path w="56" h="200">
                <a:moveTo>
                  <a:pt x="0" y="200"/>
                </a:moveTo>
                <a:cubicBezTo>
                  <a:pt x="16" y="176"/>
                  <a:pt x="24" y="152"/>
                  <a:pt x="40" y="128"/>
                </a:cubicBezTo>
                <a:cubicBezTo>
                  <a:pt x="43" y="104"/>
                  <a:pt x="44" y="80"/>
                  <a:pt x="48" y="56"/>
                </a:cubicBezTo>
                <a:cubicBezTo>
                  <a:pt x="49" y="48"/>
                  <a:pt x="56" y="40"/>
                  <a:pt x="56" y="32"/>
                </a:cubicBezTo>
                <a:cubicBezTo>
                  <a:pt x="56" y="1"/>
                  <a:pt x="48" y="18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45000" y="153684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34" y="37"/>
                  <a:pt x="48" y="40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2040" y="1384200"/>
            <a:ext cx="51120" cy="88920"/>
          </a:xfrm>
          <a:custGeom>
            <a:avLst/>
            <a:gdLst/>
            <a:ahLst/>
            <a:rect l="l" t="t" r="r" b="b"/>
            <a:pathLst>
              <a:path w="32" h="56">
                <a:moveTo>
                  <a:pt x="32" y="56"/>
                </a:moveTo>
                <a:cubicBezTo>
                  <a:pt x="25" y="34"/>
                  <a:pt x="17" y="17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473120"/>
            <a:ext cx="101520" cy="19080"/>
          </a:xfrm>
          <a:custGeom>
            <a:avLst/>
            <a:gdLst/>
            <a:ahLst/>
            <a:rect l="l" t="t" r="r" b="b"/>
            <a:pathLst>
              <a:path w="64" h="12">
                <a:moveTo>
                  <a:pt x="64" y="0"/>
                </a:moveTo>
                <a:cubicBezTo>
                  <a:pt x="27" y="12"/>
                  <a:pt x="48" y="8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7920" y="1384200"/>
            <a:ext cx="38160" cy="88920"/>
          </a:xfrm>
          <a:custGeom>
            <a:avLst/>
            <a:gdLst/>
            <a:ahLst/>
            <a:rect l="l" t="t" r="r" b="b"/>
            <a:pathLst>
              <a:path w="24" h="56">
                <a:moveTo>
                  <a:pt x="24" y="56"/>
                </a:moveTo>
                <a:cubicBezTo>
                  <a:pt x="7" y="4"/>
                  <a:pt x="20" y="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560" y="1092240"/>
            <a:ext cx="182520" cy="482400"/>
          </a:xfrm>
          <a:custGeom>
            <a:avLst/>
            <a:gdLst/>
            <a:ahLst/>
            <a:rect l="l" t="t" r="r" b="b"/>
            <a:pathLst>
              <a:path w="115" h="304">
                <a:moveTo>
                  <a:pt x="90" y="304"/>
                </a:moveTo>
                <a:cubicBezTo>
                  <a:pt x="115" y="267"/>
                  <a:pt x="106" y="236"/>
                  <a:pt x="82" y="200"/>
                </a:cubicBezTo>
                <a:cubicBezTo>
                  <a:pt x="76" y="141"/>
                  <a:pt x="88" y="110"/>
                  <a:pt x="42" y="80"/>
                </a:cubicBezTo>
                <a:cubicBezTo>
                  <a:pt x="39" y="69"/>
                  <a:pt x="40" y="57"/>
                  <a:pt x="34" y="48"/>
                </a:cubicBezTo>
                <a:cubicBezTo>
                  <a:pt x="0" y="0"/>
                  <a:pt x="2" y="42"/>
                  <a:pt x="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1104840"/>
            <a:ext cx="203400" cy="304920"/>
          </a:xfrm>
          <a:custGeom>
            <a:avLst/>
            <a:gdLst/>
            <a:ahLst/>
            <a:rect l="l" t="t" r="r" b="b"/>
            <a:pathLst>
              <a:path w="128" h="192">
                <a:moveTo>
                  <a:pt x="0" y="192"/>
                </a:moveTo>
                <a:cubicBezTo>
                  <a:pt x="4" y="167"/>
                  <a:pt x="15" y="118"/>
                  <a:pt x="32" y="96"/>
                </a:cubicBezTo>
                <a:cubicBezTo>
                  <a:pt x="45" y="80"/>
                  <a:pt x="65" y="71"/>
                  <a:pt x="80" y="56"/>
                </a:cubicBezTo>
                <a:cubicBezTo>
                  <a:pt x="85" y="40"/>
                  <a:pt x="90" y="19"/>
                  <a:pt x="104" y="8"/>
                </a:cubicBezTo>
                <a:cubicBezTo>
                  <a:pt x="111" y="3"/>
                  <a:pt x="128" y="0"/>
                  <a:pt x="1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65560" y="1054080"/>
            <a:ext cx="114480" cy="254160"/>
          </a:xfrm>
          <a:custGeom>
            <a:avLst/>
            <a:gdLst/>
            <a:ahLst/>
            <a:rect l="l" t="t" r="r" b="b"/>
            <a:pathLst>
              <a:path w="72" h="160">
                <a:moveTo>
                  <a:pt x="72" y="160"/>
                </a:moveTo>
                <a:cubicBezTo>
                  <a:pt x="61" y="144"/>
                  <a:pt x="51" y="128"/>
                  <a:pt x="40" y="112"/>
                </a:cubicBezTo>
                <a:cubicBezTo>
                  <a:pt x="35" y="104"/>
                  <a:pt x="24" y="88"/>
                  <a:pt x="24" y="88"/>
                </a:cubicBezTo>
                <a:cubicBezTo>
                  <a:pt x="27" y="80"/>
                  <a:pt x="26" y="70"/>
                  <a:pt x="32" y="64"/>
                </a:cubicBezTo>
                <a:cubicBezTo>
                  <a:pt x="38" y="58"/>
                  <a:pt x="54" y="64"/>
                  <a:pt x="56" y="56"/>
                </a:cubicBezTo>
                <a:cubicBezTo>
                  <a:pt x="60" y="42"/>
                  <a:pt x="12" y="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94160" y="1155600"/>
            <a:ext cx="101520" cy="5076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32"/>
                </a:moveTo>
                <a:cubicBezTo>
                  <a:pt x="24" y="24"/>
                  <a:pt x="42" y="11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130400"/>
            <a:ext cx="1440" cy="101520"/>
          </a:xfrm>
          <a:custGeom>
            <a:avLst/>
            <a:gdLst/>
            <a:ahLst/>
            <a:rect l="l" t="t" r="r" b="b"/>
            <a:pathLst>
              <a:path w="1" h="64">
                <a:moveTo>
                  <a:pt x="0" y="64"/>
                </a:moveTo>
                <a:cubicBezTo>
                  <a:pt x="0" y="43"/>
                  <a:pt x="0" y="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03720" y="1015920"/>
            <a:ext cx="68400" cy="203400"/>
          </a:xfrm>
          <a:custGeom>
            <a:avLst/>
            <a:gdLst/>
            <a:ahLst/>
            <a:rect l="l" t="t" r="r" b="b"/>
            <a:pathLst>
              <a:path w="43" h="128">
                <a:moveTo>
                  <a:pt x="0" y="128"/>
                </a:moveTo>
                <a:cubicBezTo>
                  <a:pt x="37" y="72"/>
                  <a:pt x="43" y="96"/>
                  <a:pt x="16" y="56"/>
                </a:cubicBezTo>
                <a:cubicBezTo>
                  <a:pt x="8" y="5"/>
                  <a:pt x="8" y="24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89240" y="1828800"/>
            <a:ext cx="10188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64" y="80"/>
                </a:moveTo>
                <a:cubicBezTo>
                  <a:pt x="46" y="53"/>
                  <a:pt x="23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8280" y="1752480"/>
            <a:ext cx="55440" cy="190800"/>
          </a:xfrm>
          <a:custGeom>
            <a:avLst/>
            <a:gdLst/>
            <a:ahLst/>
            <a:rect l="l" t="t" r="r" b="b"/>
            <a:pathLst>
              <a:path w="35" h="120">
                <a:moveTo>
                  <a:pt x="11" y="120"/>
                </a:moveTo>
                <a:cubicBezTo>
                  <a:pt x="28" y="4"/>
                  <a:pt x="0" y="35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52960" y="1816200"/>
            <a:ext cx="101520" cy="8892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56"/>
                </a:moveTo>
                <a:cubicBezTo>
                  <a:pt x="30" y="46"/>
                  <a:pt x="25" y="52"/>
                  <a:pt x="48" y="24"/>
                </a:cubicBezTo>
                <a:cubicBezTo>
                  <a:pt x="54" y="17"/>
                  <a:pt x="64" y="0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5880" y="2070000"/>
            <a:ext cx="88920" cy="6372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40"/>
                </a:moveTo>
                <a:cubicBezTo>
                  <a:pt x="38" y="13"/>
                  <a:pt x="28" y="1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7400" y="204480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0" y="72"/>
                </a:moveTo>
                <a:cubicBezTo>
                  <a:pt x="11" y="16"/>
                  <a:pt x="13" y="35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89240" y="1968480"/>
            <a:ext cx="57240" cy="165240"/>
          </a:xfrm>
          <a:custGeom>
            <a:avLst/>
            <a:gdLst/>
            <a:ahLst/>
            <a:rect l="l" t="t" r="r" b="b"/>
            <a:pathLst>
              <a:path w="36" h="104">
                <a:moveTo>
                  <a:pt x="24" y="104"/>
                </a:moveTo>
                <a:cubicBezTo>
                  <a:pt x="36" y="67"/>
                  <a:pt x="24" y="56"/>
                  <a:pt x="8" y="24"/>
                </a:cubicBezTo>
                <a:cubicBezTo>
                  <a:pt x="4" y="16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809520" y="1676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90760" y="144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838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0560" y="898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1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15238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4724280" y="1523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666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4920" y="2743200"/>
            <a:ext cx="83484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6920" y="4305240"/>
            <a:ext cx="51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 = G    + -B + D ,   AA=IJ +T       - N                -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080" y="445788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    +  - - - -          - - - - - -            - -                - - -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>
            <a:lum contrast="-18000"/>
          </a:blip>
          <a:stretch/>
        </p:blipFill>
        <p:spPr>
          <a:xfrm>
            <a:off x="1143000" y="2743200"/>
            <a:ext cx="111924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286000" y="2743200"/>
            <a:ext cx="115416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2743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77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124080" y="2666880"/>
            <a:ext cx="14814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2666880"/>
            <a:ext cx="45720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572000" y="2743200"/>
            <a:ext cx="153504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0060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6360" y="2879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bro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8006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04920" y="4876920"/>
            <a:ext cx="1279440" cy="1676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9492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9000" y="6515280"/>
            <a:ext cx="54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 = W              B = H                 - I              I = E     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680" y="6667560"/>
            <a:ext cx="58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- - - -                    - - -                    - - -            - - - - -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1523880" y="5410080"/>
            <a:ext cx="1524240" cy="90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352680" y="4952880"/>
            <a:ext cx="685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4648320" y="4876920"/>
            <a:ext cx="107316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48769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52320" y="5981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0040" y="6515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010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4038480" y="7162920"/>
            <a:ext cx="202752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>
            <a:lum contrast="-36000"/>
          </a:blip>
          <a:stretch/>
        </p:blipFill>
        <p:spPr>
          <a:xfrm>
            <a:off x="304920" y="7238880"/>
            <a:ext cx="3581280" cy="2343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7162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10680" y="7070760"/>
            <a:ext cx="36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Garagist                                                                            Timm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38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5:34:02Z</dcterms:created>
  <dc:creator>ERIK</dc:creator>
  <dc:description/>
  <dc:language>en-US</dc:language>
  <cp:lastModifiedBy>ERIK</cp:lastModifiedBy>
  <cp:lastPrinted>2007-07-30T17:58:46Z</cp:lastPrinted>
  <dcterms:modified xsi:type="dcterms:W3CDTF">2014-06-01T18:27:29Z</dcterms:modified>
  <cp:revision>4</cp:revision>
  <dc:subject/>
  <dc:title>Geen diatitel</dc:title>
</cp:coreProperties>
</file>