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FD3-35D4-4914-BC3C-2D03498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87D-A9F8-4104-B363-8CBBEF8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E08-73FF-42FA-9949-90287A0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D6F-2B5B-4876-B2FA-72D3B176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B40-B24F-4419-9070-92011F7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5E8-72BB-4D8C-8D5F-5692166A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5CC-8D51-4FC8-B0C2-E9404C0C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3FA-B52E-41D6-ADCE-F135927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956-C63E-4FBE-8286-218B7B6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907-DE90-43E4-AEB8-A8C48D6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281-91DC-4EDC-9DBB-CD7D62A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F57-89B3-46F9-8C08-D99901F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EAE-19BB-442B-82A0-8745DAE0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522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15000" y="-3960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7360" y="1904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33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5600" y="1144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101 “Begrotingsbudg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457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5560" y="5716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de-ner-sti-gie-e-ren-mu-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4343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219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6320" y="950760"/>
            <a:ext cx="44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 11 12  13  14  15  16  17  18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600" y="1790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ner-e-park-wind-gi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133720"/>
            <a:ext cx="3429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438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6320" y="217008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0 21  22  23  24  25  26  27  28  29  30  31  32  33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3086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da-houd-heids-tum-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429000"/>
            <a:ext cx="4114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733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495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8280" y="44578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800600"/>
            <a:ext cx="3200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105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7040" y="4836960"/>
            <a:ext cx="34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9   16   -    25  32  50   9   30   -          36  m   44  4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6320" y="3465360"/>
            <a:ext cx="41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5 36  37  38  39  40  41  42  43  44  45  46  47  48  49  50  51 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7240" y="51418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867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197080" cy="174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2904840" cy="373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21160" y="5943600"/>
            <a:ext cx="314316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275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4:15:17Z</dcterms:created>
  <dc:creator>ERIK</dc:creator>
  <dc:description/>
  <dc:language>en-US</dc:language>
  <cp:lastModifiedBy>ERIK</cp:lastModifiedBy>
  <dcterms:modified xsi:type="dcterms:W3CDTF">2014-06-01T18:26:19Z</dcterms:modified>
  <cp:revision>2</cp:revision>
  <dc:subject/>
  <dc:title>Geen diatitel</dc:title>
</cp:coreProperties>
</file>