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362-6681-4E7D-9C53-9D88147B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B45-F63C-41BE-B467-54284B8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AD0-EE7B-4FF3-A1D2-54384C1B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673-FE81-48E3-B5B1-FAF3198B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538-6CDC-42BC-AE1B-404B3386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262-39C9-493C-86FF-05E7592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9C7-9E30-4AFA-A415-82457606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F93-B0F0-4856-89E2-AB81FB9E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A88-B04A-42F1-8816-02079205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9AA-26A0-47AD-8B2F-DD1BE9A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83F-18D7-43D3-BBC5-109CDE9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1D5-76B5-4298-A5A8-5D74498A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AD1-F55B-484C-BC0F-3BA69EFE0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52280"/>
            <a:ext cx="59436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15000" y="-39600"/>
            <a:ext cx="3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7360" y="19044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oordpuzz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33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5600" y="11448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lossing 101 “Begrotingsbudge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457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5560" y="57168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-de-ner-sti-gie-e-ren-mu-l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914400"/>
            <a:ext cx="4343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219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6320" y="950760"/>
            <a:ext cx="44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    2    3    4    5    6    7    8    9   10   11 12  13  14  15  16  17  18 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2600" y="17906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-ner-e-park-wind-gi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133720"/>
            <a:ext cx="3429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438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6320" y="217008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0 21  22  23  24  25  26  27  28  29  30  31  32  33 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240" y="30862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-da-houd-heids-tum-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429000"/>
            <a:ext cx="4114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733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495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8280" y="44578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lieve hieronder uw oplossing in te vul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4800600"/>
            <a:ext cx="3200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105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7040" y="4836960"/>
            <a:ext cx="344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9   16   -    25  32  50   9   30   -          36  m   44  42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6320" y="3465360"/>
            <a:ext cx="41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5 36  37  38  39  40  41  42  43  44  45  46  47  48  49  50  51 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77240" y="514188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867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2197080" cy="174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2904840" cy="3733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521160" y="5943600"/>
            <a:ext cx="3143160" cy="327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62752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14:15:17Z</dcterms:created>
  <dc:creator>ERIK</dc:creator>
  <dc:description/>
  <dc:language>en-US</dc:language>
  <cp:lastModifiedBy>ERIK</cp:lastModifiedBy>
  <dcterms:modified xsi:type="dcterms:W3CDTF">2014-06-01T18:26:19Z</dcterms:modified>
  <cp:revision>2</cp:revision>
  <dc:subject/>
  <dc:title>Geen diatitel</dc:title>
</cp:coreProperties>
</file>