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C8D-AF8F-460E-9559-14CD4240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67A-E987-4575-88C8-CD8628A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CB2-8683-4072-B5D8-F16B1E6C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CFB-55E1-491B-BB31-FA8ED218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953-2A34-496B-8DA3-C804E4B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5DF-CE18-406D-BA1A-F72E3455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365-7FA7-44D7-B2FB-53DC956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17B-185B-4480-8C26-5F1287D9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B85-6641-4358-85BC-B962664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6F5-68CB-4918-96EA-4AB4CD7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79B-E9C8-4DB3-A8B8-218FACE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F31-1B6F-4319-9ABE-F1628CD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7B23-7CF0-451E-95C3-262B5A0C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1040" y="11448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                  J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457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680" y="41904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s de eerste Juli regenachti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de maand zal wezen twijfelach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066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2480" y="102888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egen op Sinte-Godeliev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al u drie weken van water gerie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76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" y="1638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960" y="194328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ussen den beker en de lippen is nog plaats voor een ongelu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zelfs de naaste toekomst is onzek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880" y="255276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lemans neus is geen kapst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ertel niet te veel,want niet iedereen kan zwij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00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880" y="31622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960" y="3467160"/>
            <a:ext cx="48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rijf het maar op uwen bui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eze schuld wordt u niet betaald,geef het maar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114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560" y="407664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zit hem(dwars) in de ma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aar is hij boos o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7242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3197520" cy="474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5410080"/>
            <a:ext cx="226404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5562720"/>
            <a:ext cx="1488960" cy="803160"/>
          </a:xfrm>
          <a:custGeom>
            <a:avLst/>
            <a:gdLst/>
            <a:ahLst/>
            <a:rect l="l" t="t" r="r" b="b"/>
            <a:pathLst>
              <a:path w="938" h="506">
                <a:moveTo>
                  <a:pt x="744" y="482"/>
                </a:moveTo>
                <a:cubicBezTo>
                  <a:pt x="862" y="443"/>
                  <a:pt x="695" y="506"/>
                  <a:pt x="804" y="434"/>
                </a:cubicBezTo>
                <a:cubicBezTo>
                  <a:pt x="818" y="425"/>
                  <a:pt x="836" y="426"/>
                  <a:pt x="852" y="422"/>
                </a:cubicBezTo>
                <a:cubicBezTo>
                  <a:pt x="860" y="410"/>
                  <a:pt x="864" y="394"/>
                  <a:pt x="876" y="386"/>
                </a:cubicBezTo>
                <a:cubicBezTo>
                  <a:pt x="890" y="377"/>
                  <a:pt x="916" y="388"/>
                  <a:pt x="924" y="374"/>
                </a:cubicBezTo>
                <a:cubicBezTo>
                  <a:pt x="938" y="351"/>
                  <a:pt x="896" y="305"/>
                  <a:pt x="888" y="290"/>
                </a:cubicBezTo>
                <a:cubicBezTo>
                  <a:pt x="840" y="195"/>
                  <a:pt x="825" y="157"/>
                  <a:pt x="720" y="122"/>
                </a:cubicBezTo>
                <a:cubicBezTo>
                  <a:pt x="716" y="110"/>
                  <a:pt x="717" y="95"/>
                  <a:pt x="708" y="86"/>
                </a:cubicBezTo>
                <a:cubicBezTo>
                  <a:pt x="699" y="77"/>
                  <a:pt x="683" y="80"/>
                  <a:pt x="672" y="74"/>
                </a:cubicBezTo>
                <a:cubicBezTo>
                  <a:pt x="571" y="23"/>
                  <a:pt x="616" y="39"/>
                  <a:pt x="456" y="26"/>
                </a:cubicBezTo>
                <a:cubicBezTo>
                  <a:pt x="440" y="22"/>
                  <a:pt x="424" y="19"/>
                  <a:pt x="408" y="14"/>
                </a:cubicBezTo>
                <a:cubicBezTo>
                  <a:pt x="396" y="11"/>
                  <a:pt x="384" y="0"/>
                  <a:pt x="372" y="2"/>
                </a:cubicBezTo>
                <a:cubicBezTo>
                  <a:pt x="358" y="4"/>
                  <a:pt x="349" y="20"/>
                  <a:pt x="336" y="26"/>
                </a:cubicBezTo>
                <a:cubicBezTo>
                  <a:pt x="325" y="32"/>
                  <a:pt x="312" y="34"/>
                  <a:pt x="300" y="38"/>
                </a:cubicBezTo>
                <a:cubicBezTo>
                  <a:pt x="256" y="105"/>
                  <a:pt x="301" y="52"/>
                  <a:pt x="240" y="86"/>
                </a:cubicBezTo>
                <a:cubicBezTo>
                  <a:pt x="116" y="155"/>
                  <a:pt x="213" y="119"/>
                  <a:pt x="132" y="146"/>
                </a:cubicBezTo>
                <a:cubicBezTo>
                  <a:pt x="120" y="158"/>
                  <a:pt x="110" y="173"/>
                  <a:pt x="96" y="182"/>
                </a:cubicBezTo>
                <a:cubicBezTo>
                  <a:pt x="85" y="189"/>
                  <a:pt x="69" y="185"/>
                  <a:pt x="60" y="194"/>
                </a:cubicBezTo>
                <a:cubicBezTo>
                  <a:pt x="51" y="203"/>
                  <a:pt x="54" y="219"/>
                  <a:pt x="48" y="230"/>
                </a:cubicBezTo>
                <a:cubicBezTo>
                  <a:pt x="42" y="243"/>
                  <a:pt x="30" y="253"/>
                  <a:pt x="24" y="266"/>
                </a:cubicBezTo>
                <a:cubicBezTo>
                  <a:pt x="14" y="289"/>
                  <a:pt x="0" y="338"/>
                  <a:pt x="0" y="338"/>
                </a:cubicBezTo>
                <a:cubicBezTo>
                  <a:pt x="4" y="370"/>
                  <a:pt x="6" y="402"/>
                  <a:pt x="12" y="434"/>
                </a:cubicBezTo>
                <a:cubicBezTo>
                  <a:pt x="14" y="446"/>
                  <a:pt x="12" y="467"/>
                  <a:pt x="24" y="470"/>
                </a:cubicBezTo>
                <a:cubicBezTo>
                  <a:pt x="38" y="473"/>
                  <a:pt x="48" y="454"/>
                  <a:pt x="60" y="446"/>
                </a:cubicBezTo>
                <a:cubicBezTo>
                  <a:pt x="113" y="366"/>
                  <a:pt x="44" y="447"/>
                  <a:pt x="180" y="422"/>
                </a:cubicBezTo>
                <a:cubicBezTo>
                  <a:pt x="197" y="419"/>
                  <a:pt x="203" y="397"/>
                  <a:pt x="216" y="386"/>
                </a:cubicBezTo>
                <a:cubicBezTo>
                  <a:pt x="227" y="377"/>
                  <a:pt x="240" y="370"/>
                  <a:pt x="252" y="362"/>
                </a:cubicBezTo>
                <a:cubicBezTo>
                  <a:pt x="276" y="366"/>
                  <a:pt x="300" y="370"/>
                  <a:pt x="324" y="374"/>
                </a:cubicBezTo>
                <a:cubicBezTo>
                  <a:pt x="336" y="376"/>
                  <a:pt x="360" y="386"/>
                  <a:pt x="360" y="386"/>
                </a:cubicBezTo>
                <a:cubicBezTo>
                  <a:pt x="407" y="354"/>
                  <a:pt x="423" y="345"/>
                  <a:pt x="480" y="362"/>
                </a:cubicBezTo>
                <a:cubicBezTo>
                  <a:pt x="504" y="369"/>
                  <a:pt x="552" y="386"/>
                  <a:pt x="552" y="386"/>
                </a:cubicBezTo>
                <a:cubicBezTo>
                  <a:pt x="639" y="357"/>
                  <a:pt x="539" y="378"/>
                  <a:pt x="612" y="410"/>
                </a:cubicBezTo>
                <a:cubicBezTo>
                  <a:pt x="638" y="421"/>
                  <a:pt x="668" y="418"/>
                  <a:pt x="696" y="422"/>
                </a:cubicBezTo>
                <a:cubicBezTo>
                  <a:pt x="734" y="435"/>
                  <a:pt x="744" y="439"/>
                  <a:pt x="744" y="48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400800"/>
            <a:ext cx="577800" cy="380880"/>
          </a:xfrm>
          <a:custGeom>
            <a:avLst/>
            <a:gdLst/>
            <a:ahLst/>
            <a:rect l="l" t="t" r="r" b="b"/>
            <a:pathLst>
              <a:path w="364" h="240">
                <a:moveTo>
                  <a:pt x="64" y="216"/>
                </a:moveTo>
                <a:cubicBezTo>
                  <a:pt x="0" y="120"/>
                  <a:pt x="64" y="240"/>
                  <a:pt x="64" y="144"/>
                </a:cubicBezTo>
                <a:cubicBezTo>
                  <a:pt x="64" y="130"/>
                  <a:pt x="48" y="120"/>
                  <a:pt x="40" y="108"/>
                </a:cubicBezTo>
                <a:cubicBezTo>
                  <a:pt x="54" y="51"/>
                  <a:pt x="68" y="31"/>
                  <a:pt x="124" y="12"/>
                </a:cubicBezTo>
                <a:cubicBezTo>
                  <a:pt x="136" y="16"/>
                  <a:pt x="147" y="25"/>
                  <a:pt x="160" y="24"/>
                </a:cubicBezTo>
                <a:cubicBezTo>
                  <a:pt x="185" y="21"/>
                  <a:pt x="232" y="0"/>
                  <a:pt x="232" y="0"/>
                </a:cubicBezTo>
                <a:cubicBezTo>
                  <a:pt x="244" y="8"/>
                  <a:pt x="255" y="18"/>
                  <a:pt x="268" y="24"/>
                </a:cubicBezTo>
                <a:cubicBezTo>
                  <a:pt x="283" y="30"/>
                  <a:pt x="303" y="26"/>
                  <a:pt x="316" y="36"/>
                </a:cubicBezTo>
                <a:cubicBezTo>
                  <a:pt x="326" y="44"/>
                  <a:pt x="320" y="62"/>
                  <a:pt x="328" y="72"/>
                </a:cubicBezTo>
                <a:cubicBezTo>
                  <a:pt x="337" y="83"/>
                  <a:pt x="352" y="88"/>
                  <a:pt x="364" y="96"/>
                </a:cubicBezTo>
                <a:cubicBezTo>
                  <a:pt x="353" y="171"/>
                  <a:pt x="354" y="190"/>
                  <a:pt x="30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6781680"/>
            <a:ext cx="468360" cy="1791000"/>
          </a:xfrm>
          <a:custGeom>
            <a:avLst/>
            <a:gdLst/>
            <a:ahLst/>
            <a:rect l="l" t="t" r="r" b="b"/>
            <a:pathLst>
              <a:path w="295" h="1128">
                <a:moveTo>
                  <a:pt x="0" y="1128"/>
                </a:moveTo>
                <a:cubicBezTo>
                  <a:pt x="18" y="1019"/>
                  <a:pt x="37" y="921"/>
                  <a:pt x="72" y="816"/>
                </a:cubicBezTo>
                <a:cubicBezTo>
                  <a:pt x="77" y="802"/>
                  <a:pt x="95" y="798"/>
                  <a:pt x="108" y="792"/>
                </a:cubicBezTo>
                <a:cubicBezTo>
                  <a:pt x="150" y="771"/>
                  <a:pt x="206" y="765"/>
                  <a:pt x="252" y="756"/>
                </a:cubicBezTo>
                <a:cubicBezTo>
                  <a:pt x="295" y="691"/>
                  <a:pt x="267" y="708"/>
                  <a:pt x="240" y="648"/>
                </a:cubicBezTo>
                <a:cubicBezTo>
                  <a:pt x="230" y="625"/>
                  <a:pt x="216" y="576"/>
                  <a:pt x="216" y="576"/>
                </a:cubicBezTo>
                <a:cubicBezTo>
                  <a:pt x="220" y="552"/>
                  <a:pt x="216" y="525"/>
                  <a:pt x="228" y="504"/>
                </a:cubicBezTo>
                <a:cubicBezTo>
                  <a:pt x="234" y="493"/>
                  <a:pt x="255" y="501"/>
                  <a:pt x="264" y="492"/>
                </a:cubicBezTo>
                <a:cubicBezTo>
                  <a:pt x="273" y="483"/>
                  <a:pt x="272" y="468"/>
                  <a:pt x="276" y="456"/>
                </a:cubicBezTo>
                <a:cubicBezTo>
                  <a:pt x="241" y="212"/>
                  <a:pt x="285" y="516"/>
                  <a:pt x="252" y="300"/>
                </a:cubicBezTo>
                <a:cubicBezTo>
                  <a:pt x="234" y="186"/>
                  <a:pt x="226" y="111"/>
                  <a:pt x="108" y="72"/>
                </a:cubicBezTo>
                <a:cubicBezTo>
                  <a:pt x="100" y="60"/>
                  <a:pt x="90" y="49"/>
                  <a:pt x="84" y="36"/>
                </a:cubicBezTo>
                <a:cubicBezTo>
                  <a:pt x="78" y="25"/>
                  <a:pt x="85" y="0"/>
                  <a:pt x="72" y="0"/>
                </a:cubicBezTo>
                <a:cubicBezTo>
                  <a:pt x="57" y="0"/>
                  <a:pt x="60" y="51"/>
                  <a:pt x="60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858000"/>
            <a:ext cx="457200" cy="1638360"/>
          </a:xfrm>
          <a:custGeom>
            <a:avLst/>
            <a:gdLst/>
            <a:ahLst/>
            <a:rect l="l" t="t" r="r" b="b"/>
            <a:pathLst>
              <a:path w="288" h="1032">
                <a:moveTo>
                  <a:pt x="288" y="1032"/>
                </a:moveTo>
                <a:cubicBezTo>
                  <a:pt x="259" y="944"/>
                  <a:pt x="257" y="856"/>
                  <a:pt x="228" y="768"/>
                </a:cubicBezTo>
                <a:cubicBezTo>
                  <a:pt x="222" y="749"/>
                  <a:pt x="188" y="761"/>
                  <a:pt x="168" y="756"/>
                </a:cubicBezTo>
                <a:cubicBezTo>
                  <a:pt x="113" y="741"/>
                  <a:pt x="54" y="726"/>
                  <a:pt x="0" y="708"/>
                </a:cubicBezTo>
                <a:cubicBezTo>
                  <a:pt x="5" y="685"/>
                  <a:pt x="12" y="637"/>
                  <a:pt x="24" y="612"/>
                </a:cubicBezTo>
                <a:cubicBezTo>
                  <a:pt x="48" y="564"/>
                  <a:pt x="79" y="520"/>
                  <a:pt x="96" y="468"/>
                </a:cubicBezTo>
                <a:cubicBezTo>
                  <a:pt x="88" y="436"/>
                  <a:pt x="66" y="404"/>
                  <a:pt x="72" y="372"/>
                </a:cubicBezTo>
                <a:cubicBezTo>
                  <a:pt x="82" y="320"/>
                  <a:pt x="84" y="264"/>
                  <a:pt x="108" y="216"/>
                </a:cubicBezTo>
                <a:cubicBezTo>
                  <a:pt x="165" y="102"/>
                  <a:pt x="94" y="294"/>
                  <a:pt x="156" y="108"/>
                </a:cubicBezTo>
                <a:cubicBezTo>
                  <a:pt x="165" y="81"/>
                  <a:pt x="188" y="60"/>
                  <a:pt x="204" y="36"/>
                </a:cubicBezTo>
                <a:cubicBezTo>
                  <a:pt x="212" y="24"/>
                  <a:pt x="250" y="22"/>
                  <a:pt x="240" y="12"/>
                </a:cubicBezTo>
                <a:cubicBezTo>
                  <a:pt x="228" y="0"/>
                  <a:pt x="208" y="20"/>
                  <a:pt x="192" y="24"/>
                </a:cubicBezTo>
                <a:cubicBezTo>
                  <a:pt x="136" y="61"/>
                  <a:pt x="164" y="71"/>
                  <a:pt x="108" y="108"/>
                </a:cubicBezTo>
                <a:cubicBezTo>
                  <a:pt x="95" y="148"/>
                  <a:pt x="96" y="131"/>
                  <a:pt x="96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7391520"/>
            <a:ext cx="420480" cy="647640"/>
          </a:xfrm>
          <a:custGeom>
            <a:avLst/>
            <a:gdLst/>
            <a:ahLst/>
            <a:rect l="l" t="t" r="r" b="b"/>
            <a:pathLst>
              <a:path w="265" h="408">
                <a:moveTo>
                  <a:pt x="265" y="384"/>
                </a:moveTo>
                <a:cubicBezTo>
                  <a:pt x="198" y="362"/>
                  <a:pt x="118" y="387"/>
                  <a:pt x="49" y="396"/>
                </a:cubicBezTo>
                <a:cubicBezTo>
                  <a:pt x="37" y="400"/>
                  <a:pt x="0" y="408"/>
                  <a:pt x="13" y="408"/>
                </a:cubicBezTo>
                <a:cubicBezTo>
                  <a:pt x="45" y="408"/>
                  <a:pt x="77" y="403"/>
                  <a:pt x="109" y="396"/>
                </a:cubicBezTo>
                <a:cubicBezTo>
                  <a:pt x="134" y="391"/>
                  <a:pt x="181" y="372"/>
                  <a:pt x="181" y="372"/>
                </a:cubicBezTo>
                <a:cubicBezTo>
                  <a:pt x="194" y="32"/>
                  <a:pt x="193" y="156"/>
                  <a:pt x="19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6240" y="9485280"/>
            <a:ext cx="11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00600" y="3505320"/>
          <a:ext cx="1371600" cy="11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05320"/>
                    <a:ext cx="13716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28600" y="8229600"/>
            <a:ext cx="1576440" cy="149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7543800"/>
            <a:ext cx="914400" cy="609480"/>
          </a:xfrm>
          <a:prstGeom prst="wedgeRoundRectCallout">
            <a:avLst>
              <a:gd name="adj1" fmla="val 17361"/>
              <a:gd name="adj2" fmla="val 679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Wanneer zal d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stoppen..??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graan wordt na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33:50Z</dcterms:created>
  <dc:creator>ERIK</dc:creator>
  <dc:description/>
  <dc:language>en-US</dc:language>
  <cp:lastModifiedBy>ERIK</cp:lastModifiedBy>
  <dcterms:modified xsi:type="dcterms:W3CDTF">2014-06-01T18:24:52Z</dcterms:modified>
  <cp:revision>2</cp:revision>
  <dc:subject/>
  <dc:title>Geen diatitel</dc:title>
</cp:coreProperties>
</file>