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97377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D11-FAF7-4B54-B014-D0697F40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A160-B65F-4CA6-AEF6-906BBBEB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F1E4-E037-4A81-993D-7B5AEED9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9C1B-6BF8-4534-ADD9-71F8B4EE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A056-4743-484B-8636-187365F6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282B-7AA1-431E-A752-88229572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2DF4-E913-43EE-A41D-30C5BCC9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467B-DF55-4A6F-9BFB-BF5977BE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D6F7-72B8-45D3-87F3-2218ACDA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2810-F1DA-4E59-8888-109DB928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1F50-5B48-489F-B2C4-9398630C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4E54-7D2B-42AF-B188-AA0883DB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41DC-14B7-4CBD-81BE-964501105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80880"/>
            <a:ext cx="5867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5867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514600"/>
            <a:ext cx="5867280" cy="693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44792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E DONKSE KLOEFFE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81532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5960" y="8113680"/>
            <a:ext cx="5904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-Weerspreuken - Juli                                Inhoud         7-Wist u dit ?-Vitaminen en minera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-Spreekwoorden en gezegden                                                             -Aloé-v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3-Spreekwijzen                                                               8-In nr 101 waren 6 prutsen(muisjes)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4-Woordpuzzel + oplossing 101:”begrotingsbudget”        vin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5-Rebus-61 + oplossing 60:                                            9-Hoeveel vind u er in deze uitgave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angzaam,dan breekt het lijntje ni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6-Poézie - “De Orkiedo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45720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uli-2007(102)Jaargang 9 nr.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8" name="100_2929" descr=""/>
          <p:cNvPicPr/>
          <p:nvPr/>
        </p:nvPicPr>
        <p:blipFill>
          <a:blip r:embed="rId1"/>
          <a:srcRect l="2597" t="0" r="3895" b="0"/>
          <a:stretch/>
        </p:blipFill>
        <p:spPr>
          <a:xfrm>
            <a:off x="533520" y="2514600"/>
            <a:ext cx="5867280" cy="418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2514600"/>
            <a:ext cx="5867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3520" y="6705720"/>
            <a:ext cx="1828800" cy="1447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 flipH="1">
            <a:off x="2362320" y="6705720"/>
            <a:ext cx="2133360" cy="1447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419720" y="6705720"/>
            <a:ext cx="1981080" cy="1447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6705720"/>
            <a:ext cx="586728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7848720"/>
            <a:ext cx="1066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3352680"/>
            <a:ext cx="1447920" cy="609840"/>
          </a:xfrm>
          <a:prstGeom prst="wedgeRoundRectCallout">
            <a:avLst>
              <a:gd name="adj1" fmla="val 51314"/>
              <a:gd name="adj2" fmla="val 7005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allo,..Maldeg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eft een mooi park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541840" y="4648320"/>
            <a:ext cx="793800" cy="1369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952880" y="3733920"/>
            <a:ext cx="1447920" cy="609480"/>
          </a:xfrm>
          <a:prstGeom prst="wedgeRoundRectCallout">
            <a:avLst>
              <a:gd name="adj1" fmla="val -8333"/>
              <a:gd name="adj2" fmla="val 8046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Ja..;je zegt dat we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k kom hier elke d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8360" y="9323280"/>
            <a:ext cx="343080" cy="328680"/>
          </a:xfrm>
          <a:custGeom>
            <a:avLst/>
            <a:gdLst/>
            <a:ahLst/>
            <a:rect l="l" t="t" r="r" b="b"/>
            <a:pathLst>
              <a:path w="216" h="207">
                <a:moveTo>
                  <a:pt x="24" y="63"/>
                </a:moveTo>
                <a:cubicBezTo>
                  <a:pt x="16" y="60"/>
                  <a:pt x="0" y="63"/>
                  <a:pt x="0" y="55"/>
                </a:cubicBezTo>
                <a:cubicBezTo>
                  <a:pt x="0" y="52"/>
                  <a:pt x="66" y="19"/>
                  <a:pt x="72" y="15"/>
                </a:cubicBezTo>
                <a:cubicBezTo>
                  <a:pt x="69" y="23"/>
                  <a:pt x="58" y="33"/>
                  <a:pt x="64" y="39"/>
                </a:cubicBezTo>
                <a:cubicBezTo>
                  <a:pt x="70" y="45"/>
                  <a:pt x="80" y="35"/>
                  <a:pt x="88" y="31"/>
                </a:cubicBezTo>
                <a:cubicBezTo>
                  <a:pt x="150" y="0"/>
                  <a:pt x="76" y="27"/>
                  <a:pt x="136" y="7"/>
                </a:cubicBezTo>
                <a:cubicBezTo>
                  <a:pt x="152" y="10"/>
                  <a:pt x="188" y="12"/>
                  <a:pt x="200" y="31"/>
                </a:cubicBezTo>
                <a:cubicBezTo>
                  <a:pt x="209" y="45"/>
                  <a:pt x="216" y="79"/>
                  <a:pt x="216" y="79"/>
                </a:cubicBezTo>
                <a:cubicBezTo>
                  <a:pt x="190" y="88"/>
                  <a:pt x="144" y="119"/>
                  <a:pt x="144" y="119"/>
                </a:cubicBezTo>
                <a:cubicBezTo>
                  <a:pt x="171" y="159"/>
                  <a:pt x="178" y="132"/>
                  <a:pt x="192" y="175"/>
                </a:cubicBezTo>
                <a:cubicBezTo>
                  <a:pt x="173" y="204"/>
                  <a:pt x="185" y="195"/>
                  <a:pt x="160" y="20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9404280"/>
            <a:ext cx="236520" cy="66600"/>
          </a:xfrm>
          <a:custGeom>
            <a:avLst/>
            <a:gdLst/>
            <a:ahLst/>
            <a:rect l="l" t="t" r="r" b="b"/>
            <a:pathLst>
              <a:path w="149" h="42">
                <a:moveTo>
                  <a:pt x="0" y="12"/>
                </a:moveTo>
                <a:cubicBezTo>
                  <a:pt x="41" y="2"/>
                  <a:pt x="31" y="0"/>
                  <a:pt x="80" y="12"/>
                </a:cubicBezTo>
                <a:cubicBezTo>
                  <a:pt x="126" y="23"/>
                  <a:pt x="149" y="42"/>
                  <a:pt x="104" y="12"/>
                </a:cubicBezTo>
                <a:cubicBezTo>
                  <a:pt x="52" y="29"/>
                  <a:pt x="68" y="40"/>
                  <a:pt x="48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1T16:17:20Z</dcterms:created>
  <dc:creator>Win</dc:creator>
  <dc:description/>
  <dc:language>en-US</dc:language>
  <cp:lastModifiedBy>ERIK</cp:lastModifiedBy>
  <cp:lastPrinted>2007-07-31T08:22:59Z</cp:lastPrinted>
  <dcterms:modified xsi:type="dcterms:W3CDTF">2014-06-01T18:22:23Z</dcterms:modified>
  <cp:revision>7</cp:revision>
  <dc:subject/>
  <dc:title>Geen diatitel</dc:title>
</cp:coreProperties>
</file>