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E83-B9C2-4F93-84A9-49B6D364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CC4-E455-451F-8E57-200E6A8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43C-753D-43CC-B962-4CC15103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B8D-DDE4-42E5-8FB1-58151EAC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27B-0F8A-4F52-AC84-63099198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0FE-AA25-484C-A377-BF535F4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78D-D1E2-474C-96BD-B9BA812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DBE-6735-41C7-B8BB-F614F84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0A2-DF9D-4315-BA68-3302A066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0AB-8243-4CE4-ACF8-7E86386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803-CA97-40FD-9BBC-3A14EBE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AB5-FC68-4756-A9CF-A5FC505A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FBC-E2E1-4783-B402-0A49F3F2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9624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23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omaar...!!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fbeelding%20019" descr=""/>
          <p:cNvPicPr/>
          <p:nvPr/>
        </p:nvPicPr>
        <p:blipFill>
          <a:blip r:embed="rId1">
            <a:lum bright="18000"/>
          </a:blip>
          <a:srcRect l="20007" t="10000" r="17503" b="0"/>
          <a:stretch/>
        </p:blipFill>
        <p:spPr>
          <a:xfrm>
            <a:off x="4191120" y="304920"/>
            <a:ext cx="190476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228600"/>
            <a:ext cx="2057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914400"/>
            <a:ext cx="1905120" cy="762120"/>
          </a:xfrm>
          <a:prstGeom prst="wedgeRoundRectCallout">
            <a:avLst>
              <a:gd name="adj1" fmla="val 77000"/>
              <a:gd name="adj2" fmla="val 4104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Het zal wel niet gemakkel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zijn..,maar…,ik ga de uitd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ging aan,voor de volg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honderd…misschie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00_2926" descr=""/>
          <p:cNvPicPr/>
          <p:nvPr/>
        </p:nvPicPr>
        <p:blipFill>
          <a:blip r:embed="rId2"/>
          <a:srcRect l="13432" t="6718" r="31343" b="0"/>
          <a:stretch/>
        </p:blipFill>
        <p:spPr>
          <a:xfrm>
            <a:off x="380880" y="190512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828800"/>
            <a:ext cx="2743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25909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04920"/>
            <a:ext cx="19047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590920"/>
            <a:ext cx="2210040" cy="914400"/>
          </a:xfrm>
          <a:prstGeom prst="wedgeRoundRectCallout">
            <a:avLst>
              <a:gd name="adj1" fmla="val -74425"/>
              <a:gd name="adj2" fmla="val 10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Jullie mogen ook iets inze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zoals Martine doet;nu en d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Een leuk plaatje..,of een pleza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te vertelling,u ziet maar,..bay b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33880" y="944892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1666800"/>
            <a:ext cx="977760" cy="276480"/>
          </a:xfrm>
          <a:custGeom>
            <a:avLst/>
            <a:gdLst/>
            <a:ahLst/>
            <a:rect l="l" t="t" r="r" b="b"/>
            <a:pathLst>
              <a:path w="616" h="174">
                <a:moveTo>
                  <a:pt x="32" y="174"/>
                </a:moveTo>
                <a:cubicBezTo>
                  <a:pt x="24" y="171"/>
                  <a:pt x="12" y="174"/>
                  <a:pt x="8" y="166"/>
                </a:cubicBezTo>
                <a:cubicBezTo>
                  <a:pt x="0" y="150"/>
                  <a:pt x="36" y="123"/>
                  <a:pt x="40" y="118"/>
                </a:cubicBezTo>
                <a:cubicBezTo>
                  <a:pt x="52" y="103"/>
                  <a:pt x="61" y="86"/>
                  <a:pt x="72" y="70"/>
                </a:cubicBezTo>
                <a:cubicBezTo>
                  <a:pt x="77" y="63"/>
                  <a:pt x="74" y="52"/>
                  <a:pt x="80" y="46"/>
                </a:cubicBezTo>
                <a:cubicBezTo>
                  <a:pt x="86" y="40"/>
                  <a:pt x="96" y="41"/>
                  <a:pt x="104" y="38"/>
                </a:cubicBezTo>
                <a:cubicBezTo>
                  <a:pt x="107" y="46"/>
                  <a:pt x="104" y="59"/>
                  <a:pt x="112" y="62"/>
                </a:cubicBezTo>
                <a:cubicBezTo>
                  <a:pt x="131" y="70"/>
                  <a:pt x="154" y="44"/>
                  <a:pt x="168" y="38"/>
                </a:cubicBezTo>
                <a:cubicBezTo>
                  <a:pt x="254" y="0"/>
                  <a:pt x="186" y="42"/>
                  <a:pt x="240" y="6"/>
                </a:cubicBezTo>
                <a:cubicBezTo>
                  <a:pt x="301" y="12"/>
                  <a:pt x="323" y="8"/>
                  <a:pt x="368" y="38"/>
                </a:cubicBezTo>
                <a:cubicBezTo>
                  <a:pt x="378" y="69"/>
                  <a:pt x="384" y="83"/>
                  <a:pt x="416" y="94"/>
                </a:cubicBezTo>
                <a:cubicBezTo>
                  <a:pt x="432" y="89"/>
                  <a:pt x="448" y="83"/>
                  <a:pt x="464" y="78"/>
                </a:cubicBezTo>
                <a:cubicBezTo>
                  <a:pt x="472" y="75"/>
                  <a:pt x="488" y="70"/>
                  <a:pt x="488" y="70"/>
                </a:cubicBezTo>
                <a:cubicBezTo>
                  <a:pt x="508" y="101"/>
                  <a:pt x="517" y="106"/>
                  <a:pt x="552" y="94"/>
                </a:cubicBezTo>
                <a:cubicBezTo>
                  <a:pt x="576" y="58"/>
                  <a:pt x="576" y="44"/>
                  <a:pt x="616" y="70"/>
                </a:cubicBezTo>
                <a:cubicBezTo>
                  <a:pt x="546" y="82"/>
                  <a:pt x="578" y="85"/>
                  <a:pt x="528" y="118"/>
                </a:cubicBezTo>
                <a:cubicBezTo>
                  <a:pt x="473" y="81"/>
                  <a:pt x="498" y="92"/>
                  <a:pt x="456" y="78"/>
                </a:cubicBezTo>
                <a:cubicBezTo>
                  <a:pt x="396" y="118"/>
                  <a:pt x="326" y="120"/>
                  <a:pt x="256" y="126"/>
                </a:cubicBezTo>
                <a:cubicBezTo>
                  <a:pt x="248" y="129"/>
                  <a:pt x="240" y="132"/>
                  <a:pt x="232" y="134"/>
                </a:cubicBezTo>
                <a:cubicBezTo>
                  <a:pt x="221" y="137"/>
                  <a:pt x="211" y="139"/>
                  <a:pt x="200" y="142"/>
                </a:cubicBezTo>
                <a:cubicBezTo>
                  <a:pt x="184" y="147"/>
                  <a:pt x="152" y="158"/>
                  <a:pt x="152" y="158"/>
                </a:cubicBezTo>
                <a:cubicBezTo>
                  <a:pt x="119" y="147"/>
                  <a:pt x="130" y="146"/>
                  <a:pt x="88" y="158"/>
                </a:cubicBezTo>
                <a:cubicBezTo>
                  <a:pt x="72" y="162"/>
                  <a:pt x="40" y="174"/>
                  <a:pt x="40" y="174"/>
                </a:cubicBezTo>
                <a:cubicBezTo>
                  <a:pt x="34" y="164"/>
                  <a:pt x="6" y="126"/>
                  <a:pt x="40" y="126"/>
                </a:cubicBezTo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1773360"/>
            <a:ext cx="28800" cy="85680"/>
          </a:xfrm>
          <a:custGeom>
            <a:avLst/>
            <a:gdLst/>
            <a:ahLst/>
            <a:rect l="l" t="t" r="r" b="b"/>
            <a:pathLst>
              <a:path w="18" h="54">
                <a:moveTo>
                  <a:pt x="9" y="51"/>
                </a:moveTo>
                <a:cubicBezTo>
                  <a:pt x="15" y="33"/>
                  <a:pt x="18" y="0"/>
                  <a:pt x="1" y="51"/>
                </a:cubicBezTo>
                <a:cubicBezTo>
                  <a:pt x="0" y="54"/>
                  <a:pt x="6" y="51"/>
                  <a:pt x="9" y="5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er%20gerbil" descr=""/>
          <p:cNvPicPr/>
          <p:nvPr/>
        </p:nvPicPr>
        <p:blipFill>
          <a:blip r:embed="rId3"/>
          <a:stretch/>
        </p:blipFill>
        <p:spPr>
          <a:xfrm>
            <a:off x="3276720" y="3505320"/>
            <a:ext cx="1600200" cy="166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24280" y="3657600"/>
            <a:ext cx="1447920" cy="838080"/>
          </a:xfrm>
          <a:prstGeom prst="wedgeRoundRectCallout">
            <a:avLst>
              <a:gd name="adj1" fmla="val -69736"/>
              <a:gd name="adj2" fmla="val 700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Allee jong..,klimm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oor zo ne jonge kadé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je gaat je toch n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laten kennen zeker!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257800"/>
            <a:ext cx="579096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isteren is verleden tijd,morgen is een myst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vandaag is een geschenk,daarom heet het ook the pres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Ik denk dat dit leven,bijzonder is…?leef e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niet van elk moment…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het is géén generale repititi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Neem deze kleine engel,en houdt haar dicht bij 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zij is je bescherme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die gestuurd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om over je te waken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3400" y="8001000"/>
            <a:ext cx="1828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8:48:03Z</dcterms:created>
  <dc:creator>ERIK</dc:creator>
  <dc:description/>
  <dc:language>en-US</dc:language>
  <cp:lastModifiedBy>ERIK</cp:lastModifiedBy>
  <cp:lastPrinted>2007-06-14T22:31:43Z</cp:lastPrinted>
  <dcterms:modified xsi:type="dcterms:W3CDTF">2007-06-14T23:48:37Z</dcterms:modified>
  <cp:revision>3</cp:revision>
  <dc:subject/>
  <dc:title>Geen diatitel</dc:title>
</cp:coreProperties>
</file>