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D9E-D08F-46CC-8BCB-A4E690BE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BCA-6C8C-485D-A7AA-415145DD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233-E658-4CA2-AD06-95499F85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A27-D9ED-409E-ACA8-E963FF1A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0B1-31DC-4E95-859C-65D8673C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854-5835-41A2-9CF2-E127AC72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EEE-B304-4B2F-B785-547B555E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BF0-A546-4955-A39E-E97258B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E47-AE93-41A0-BF63-46E9BD27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EDF-8A7B-495C-8FA0-CCDB5ED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8AB-1D87-496E-834A-CDFF9F9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195-07E5-427D-8E11-C090B5B8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05F0-9C70-4F63-BC3B-3FD767F4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520" y="114480"/>
            <a:ext cx="638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erd gegoten.Die pot werd in een houten wastobbe gezet,half 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uld met koud water,om het stijven te versnellen.Terwijl Kam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 het roeren was,dacht hij terug aan die mooie tijd toen hij n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ard reed op het zwijntje zijnen rug,zonder dat vader of moe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ar iets van afwisten,was hij nu en dan eens het kot binnenges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en om zich een beetje te amuseren.Het roeren gebeurde met 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uten spatel,precies een klein roeispaantje.Dat was juist een werk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je voor onzen Kamiel dacht moeder;hij kon daar weinig ongeluk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en mee doen,of zijn vingers tussen steken.Dat dacht zijn moe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nminst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6941" t="49316" r="6941" b="10893"/>
          <a:stretch/>
        </p:blipFill>
        <p:spPr>
          <a:xfrm>
            <a:off x="228600" y="2895480"/>
            <a:ext cx="6019920" cy="388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560" y="6629400"/>
            <a:ext cx="621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ij roerde dan ook vol ijver,en…,om er zeker van 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ijn dat hij alles wel meehad…,stekte hij nu en dan eens ferm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n bodem van den heten smoutp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er almeteens het gat uitvloog,en…al het smout zich langza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t het water mengde in de wastobbe,dat was me wat…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miel,die nu de ernst van het gebeurde begon te vatten,….r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n rende zo snel als hij kon,naar buiten…,dwars door het kiek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,over de gracht langs achter van het erf,den buiten in…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u dacht hij,was zijn laatste uur geslagen.Wat zou moeder er 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eggen,om nog te zwijgen van vaders zijn litanien,hij mocht 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iet aan denken…..nog rap een weesgegroe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576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20:05:05Z</dcterms:created>
  <dc:creator>ERIK</dc:creator>
  <dc:description/>
  <dc:language>en-US</dc:language>
  <cp:lastModifiedBy>ERIK</cp:lastModifiedBy>
  <dcterms:modified xsi:type="dcterms:W3CDTF">2014-02-02T19:36:48Z</dcterms:modified>
  <cp:revision>2</cp:revision>
  <dc:subject/>
  <dc:title>Geen diatitel</dc:title>
</cp:coreProperties>
</file>