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4855-9F50-4327-9CC6-DA41801A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8A82-A1C8-4EC5-99E2-46CFC36D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482F-57B2-456C-9837-260F08D20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2EC0-AB95-4634-B618-2360B2918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03DC-6683-4D70-BC4F-6F894226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A627-8E94-4640-B51E-209504B4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3484-3DD6-405E-AD68-B2C21F18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98FC-C692-4275-A03D-03D691CC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8806-B720-442C-99CA-E4E6F7FE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B4CF-636A-4C75-A4E5-FBC61C66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DCB0-8CD5-4CC2-9D56-3A4D581F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F80E-836F-41E1-BCBC-AB36016C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FD3E-3DED-45CF-A977-6EC63754C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172200" cy="960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90720" y="-39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8520" y="114480"/>
            <a:ext cx="638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werd gegoten.Die pot werd in een houten wastobbe gezet,half ge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uld met koud water,om het stijven te versnellen.Terwijl Kami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an het roeren was,dacht hij terug aan die mooie tijd toen hij n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paard reed op het zwijntje zijnen rug,zonder dat vader of moe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aar iets van afwisten,was hij nu en dan eens het kot binnengeslo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pen om zich een beetje te amuseren.Het roeren gebeurde met 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outen spatel,precies een klein roeispaantje.Dat was juist een werk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je voor onzen Kamiel dacht moeder;hij kon daar weinig ongeluk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en mee doen,of zijn vingers tussen steken.Dat dacht zijn moe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enminst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6941" t="49316" r="6941" b="10893"/>
          <a:stretch/>
        </p:blipFill>
        <p:spPr>
          <a:xfrm>
            <a:off x="228600" y="2895480"/>
            <a:ext cx="6019920" cy="3880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2560" y="6629400"/>
            <a:ext cx="6211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ij roerde dan ook vol ijver,en…,om er zeker van 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zijn dat hij alles wel meehad…,stekte hij nu en dan eens ferm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en bodem van den heten smoutpo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ot er almeteens het gat uitvloog,en…al het smout zich langza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et het water mengde in de wastobbe,dat was me wat…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amiel,die nu de ernst van het gebeurde begon te vatten,….re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n rende zo snel als hij kon,naar buiten…,dwars door het kieken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park,over de gracht langs achter van het erf,den buiten in…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Nu dacht hij,was zijn laatste uur geslagen.Wat zou moeder er v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zeggen,om nog te zwijgen van vaders zijn litanien,hij mocht 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niet aan denken…..nog rap een weesgegroet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65760" y="948528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20:05:05Z</dcterms:created>
  <dc:creator>ERIK</dc:creator>
  <dc:description/>
  <dc:language>en-US</dc:language>
  <cp:lastModifiedBy>ERIK</cp:lastModifiedBy>
  <dcterms:modified xsi:type="dcterms:W3CDTF">2014-02-02T19:36:48Z</dcterms:modified>
  <cp:revision>2</cp:revision>
  <dc:subject/>
  <dc:title>Geen diatitel</dc:title>
</cp:coreProperties>
</file>