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800C-0D89-4B05-B348-31DD2D104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87C3-E0A5-4543-A11D-C5B43452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4AA9-B565-4BF5-858C-2D795396B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1F03-C92A-4ECF-8031-6ECCC5B5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5880-38C3-4989-832D-ED0E6F65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07A3-C432-4055-A3CD-D7513DB5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DAC0-7A5D-494B-A406-A2FE01F2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0134-1495-4D25-A92E-7323455D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A9EB-4C0C-4A26-81D7-D13303B6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543E-3E35-4B69-B0E5-183629AE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5885-11E3-432F-AEC5-A9DF6B27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F2E3-4429-4777-83BF-964E59FC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8184-0AE2-4358-B3CD-E8EAAC577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52280"/>
            <a:ext cx="6019920" cy="960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62720" y="-3960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28600"/>
            <a:ext cx="2286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304920"/>
            <a:ext cx="21337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eldverhaal-5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19320" y="762120"/>
            <a:ext cx="1371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"Donk...,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14400" y="1219320"/>
            <a:ext cx="2057400" cy="39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oendertijd !!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1140840" y="1600200"/>
            <a:ext cx="1328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(deel  8 ) wordt vervolg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02920" y="138240"/>
            <a:ext cx="190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Times New Roman"/>
              </a:rPr>
              <a:t>Vervolg = slachten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9800" y="419040"/>
            <a:ext cx="6186960" cy="9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amiel had slecht geslapen,dien nach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erst het ongeluk met de pollepel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e kasserolle met bloed,dan moeder d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an alteratie de lampe belge kapot h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slagen.Dien morgen van ‘t slach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ad hij eigenlijk ook al de grap met de zwijnestaart gemist,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at was nochtans een lekkernij waar ge naar hartelust kon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nabbelen.Buiten het spelletje van de ogen van het zwijn,di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onden blijven plakken,had Dolf nog een ander leuk spellet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waarmee de kinderen joelden van de pr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et heette “doppen voor de kodde”.Die kodde,dat was de sta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an het zwijn,wie de kodde wilde ,moest eerst zijn neus in ‘t g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an ‘t geslacht zwijn steken.Kamiel die wist hoe het in elka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tak,had zich wijselijk een beetje aan de kant gehouden.Hij z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at Tille,de dochter van de gebuurs,haar korte wipneus tussen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espen had gewrongen en als beloning van de slachter dan 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e beloofde staart mocht in ontvangst nemen.Nadien beklaag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amiel zich dat hij dat zelf er niet voor over had.Hij was im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l eens met zijnen voorgevel in een koeienstront getuimeld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n…,erger dingen bestonden er toch niet…,…ofwel…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Nu…,gedane zaken hadden geen keer..!!Hij was toch nog kon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ent dat hij de “wroete”,of de snuit zoals men beschaafd zeg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ad kunnen scheef slaan.Alvorens daar te kunnen op sjieke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oest hij er wel de ring zien uit te peuter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n ieder geval,moeder had ‘s andereendaags smout gesmolten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aar groot fornuis in de “kete”of “ovenkot.Toen dat Kamiel v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chool thuis kwam,werd hij niet tegensta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et accident van daags voordien,to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weerom in dienst genomen om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et gesmolten smout te roeren,zod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et overal even rap kon opstijven,en 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ooie witte kleur bekwam.Het was 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at het kokend vet ,waar eerst de vleesbrokj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f “kaantjes uitgezeefd waren,in een bruine smoutpot  </a:t>
            </a: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495680" y="7620120"/>
            <a:ext cx="221004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8:00:59Z</dcterms:created>
  <dc:creator>ERIK</dc:creator>
  <dc:description/>
  <dc:language>en-US</dc:language>
  <cp:lastModifiedBy>ERIK</cp:lastModifiedBy>
  <cp:lastPrinted>2006-08-22T21:50:24Z</cp:lastPrinted>
  <dcterms:modified xsi:type="dcterms:W3CDTF">2014-02-02T19:34:46Z</dcterms:modified>
  <cp:revision>2</cp:revision>
  <dc:subject/>
  <dc:title>Geen diatitel</dc:title>
</cp:coreProperties>
</file>