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BDF-E12F-420C-BD63-07F00A3B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A8C-595C-4145-8BDA-1810413B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7B5-C0F7-48D1-97CD-40353EA2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5C0-A662-41CA-A406-E8E61EE2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2DF-6A9F-459A-8DD7-715E46AF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C95-045F-4598-935C-6504DAC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C26-5388-48AA-B110-927AF25E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5C9-AD3B-4F20-BA32-F11F5E50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9B6-9DE7-457E-809E-D3883BA9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E51-2105-4DD1-B659-995F974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754-DBB3-485F-A093-C21CA3C7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2BD-B23E-4577-9C7F-E73675C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F9E8-C025-4844-85FC-FE9401EDC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62720" y="-396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28600"/>
            <a:ext cx="2286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304920"/>
            <a:ext cx="2133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eldverhaal-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9320" y="7621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"Donk...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1219320"/>
            <a:ext cx="205740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endertijd 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140840" y="1600200"/>
            <a:ext cx="13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(deel  8 ) wordt vervolg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2920" y="138240"/>
            <a:ext cx="19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Times New Roman"/>
              </a:rPr>
              <a:t>Vervolg = slachte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9800" y="419040"/>
            <a:ext cx="618696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miel had slecht geslapen,dien nac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st het ongeluk met de pollepel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kasserolle met bloed,dan moeder d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alteratie de lampe belge kapot h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lagen.Dien morgen van ‘t sla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ad hij eigenlijk ook al de grap met de zwijnestaart gemist,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was nochtans een lekkernij waar ge naar hartelust kon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abbelen.Buiten het spelletje van de ogen van het zwijn,d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onden blijven plakken,had Dolf nog een ander leuk spellet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aarmee de kinderen joelden van de pr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heette “doppen voor de kodde”.Die kodde,dat was de sta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het zwijn,wie de kodde wilde ,moest eerst zijn neus in ‘t g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‘t geslacht zwijn steken.Kamiel die wist hoe het i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ak,had zich wijselijk een beetje aan de kant gehouden.Hij z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Tille,de dochter van de gebuurs,haar korte wipneus tusse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spen had gewrongen en als beloning van de slachter dan 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beloofde staart mocht in ontvangst nemen.Nadien beklaag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miel zich dat hij dat zelf er niet voor over had.Hij was im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 eens met zijnen voorgevel in een koeienstront getuimeld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n…,erger dingen bestonden er toch niet…,…ofwel…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u…,gedane zaken hadden geen keer..!!Hij was toch nog k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nt dat hij de “wroete”,of de snuit zoals men beschaafd zeg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ad kunnen scheef slaan.Alvorens daar te kunnen op sjiek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st hij er wel de ring zien uit te peut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ieder geval,moeder had ‘s andereendaags smout gesmolten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aar groot fornuis in de “kete”of “ovenkot.Toen dat Kamiel v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hool thuis kwam,werd hij niet tegensta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accident van daags voordien,t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erom in dienst genomen om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gesmolten smout te roeren,zo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overal even rap kon opstijven,en 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oie witte kleur bekwam.Het was 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het kokend vet ,waar eerst de vleesbrok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f “kaantjes uitgezeefd waren,in een bruine smoutpot  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95680" y="7620120"/>
            <a:ext cx="2210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8:00:59Z</dcterms:created>
  <dc:creator>ERIK</dc:creator>
  <dc:description/>
  <dc:language>en-US</dc:language>
  <cp:lastModifiedBy>ERIK</cp:lastModifiedBy>
  <cp:lastPrinted>2006-08-22T21:50:24Z</cp:lastPrinted>
  <dcterms:modified xsi:type="dcterms:W3CDTF">2014-02-02T19:34:46Z</dcterms:modified>
  <cp:revision>2</cp:revision>
  <dc:subject/>
  <dc:title>Geen diatitel</dc:title>
</cp:coreProperties>
</file>