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4D4-34CF-4E6F-8B6E-BA7E3DB0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2F9A-0C5D-4BD0-B5D3-F924E425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986-7DBD-44B6-AE02-8B209FB1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8ED4-CD9C-454E-9C7A-C9A5DD2B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D5E-962F-4463-B384-58511CFE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5AFB-9AA0-48DB-A2B4-803F1C99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082-C3E3-4685-A442-2B9B3933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A33F-A037-4082-AFD5-EDE14B70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FFB8-677C-42EA-BF3C-D2A7EFAA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726-1978-47B8-B17C-AE241EAF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D1E-0F5A-4A1B-AF63-451AA747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8BE-89FC-4915-AF5B-F930D3D4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51BB-8C09-4D7C-9DDD-914E99499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09624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18720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304920"/>
            <a:ext cx="1143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ezi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2860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09680" y="838080"/>
            <a:ext cx="2362320" cy="3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"De zageman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752480"/>
            <a:ext cx="4572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k zaag de bomen in het wou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520" y="2362320"/>
            <a:ext cx="5486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 met een zaag tot plankenhout.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971800"/>
            <a:ext cx="5486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ie zonder zaag ook zagen kan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3657600"/>
            <a:ext cx="49528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ie is als ik;...een zageman.!!!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4863960" y="422748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ader C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4956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contrast="-48000"/>
          </a:blip>
          <a:stretch/>
        </p:blipFill>
        <p:spPr>
          <a:xfrm>
            <a:off x="228600" y="4511520"/>
            <a:ext cx="5943600" cy="4480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4495680"/>
            <a:ext cx="2284560" cy="5181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133720" y="7315200"/>
            <a:ext cx="4038480" cy="2108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033880" y="937260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21:52:00Z</dcterms:created>
  <dc:creator>ERIK</dc:creator>
  <dc:description/>
  <dc:language>en-US</dc:language>
  <cp:lastModifiedBy>ERIK</cp:lastModifiedBy>
  <dcterms:modified xsi:type="dcterms:W3CDTF">2014-02-02T19:32:03Z</dcterms:modified>
  <cp:revision>1</cp:revision>
  <dc:subject/>
  <dc:title>Geen diatitel</dc:title>
</cp:coreProperties>
</file>