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8BE-3B3A-499E-97DD-EF8C0F6B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6D8-6145-4A84-9109-29F3B4C9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CD6-2406-4B86-886C-AA5F5DB4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1A1-2B2B-468E-93FE-73EC70C3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33C-4C05-497C-AAF8-33E24B67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8F0-1981-42BD-96EC-543E714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206-FCE4-403A-9F50-71242A3E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96C-8D7D-4405-9064-22DCBDF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80A-7EAE-4B58-9B03-7D99BC2B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943-B0BC-40E0-BDB2-CA11378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BA4-0AF8-4723-AEB4-318AA25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FCA-F14A-464F-AC81-BF415D6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C736-F529-4A10-BE7B-0D1EA8FA3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1872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304920"/>
            <a:ext cx="1143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ezi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09680" y="838080"/>
            <a:ext cx="236232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"De zageman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524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k zaag de bomen in het wou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2362320"/>
            <a:ext cx="5486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 met een zaag tot plankenhout.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971800"/>
            <a:ext cx="5486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e zonder zaag ook zagen kan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3657600"/>
            <a:ext cx="49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e is als ik;...een zageman.!!!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4863960" y="4227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ader C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4956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228600" y="4511520"/>
            <a:ext cx="5943600" cy="448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4495680"/>
            <a:ext cx="2284560" cy="5181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133720" y="7315200"/>
            <a:ext cx="4038480" cy="2108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3880" y="937260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21:52:00Z</dcterms:created>
  <dc:creator>ERIK</dc:creator>
  <dc:description/>
  <dc:language>en-US</dc:language>
  <cp:lastModifiedBy>ERIK</cp:lastModifiedBy>
  <dcterms:modified xsi:type="dcterms:W3CDTF">2014-02-02T19:32:03Z</dcterms:modified>
  <cp:revision>1</cp:revision>
  <dc:subject/>
  <dc:title>Geen diatitel</dc:title>
</cp:coreProperties>
</file>