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BED-E0B8-41A1-BA9E-ADDB924A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1C7-A6FA-4D96-BC9B-932A0E40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D72-7D1D-44C8-92BC-3DDCCE2C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564-554B-4C4E-8E57-C38B7881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1EB-8FCE-4536-B60D-BCCEF92C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F3B-1EDD-4C41-BF65-59D91548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6F1-29C9-42F5-8880-8DFF2CCA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244-204A-4F4B-B1DD-67888BFA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B02-F36E-4A99-B98C-2B47E789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554-F155-4875-9012-674E43A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6A7-5451-43B9-8435-D7B27060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DF3-7043-454A-8904-174113CA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4D5B-9E4B-4015-8214-402F47108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1500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304920"/>
            <a:ext cx="22100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nelle quizvra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8600"/>
            <a:ext cx="2438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23720" y="1144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ntwoord nr 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457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440" y="647640"/>
            <a:ext cx="36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 Bieten                            2- Brocc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 Zuid-Amerika               4- B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5- Hongaars                       5- Ra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002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2560" y="156204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lgende opgave: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Transportzak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905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4640" y="1866960"/>
            <a:ext cx="598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 Wat is het grootste vliegveld in de Verenigde Sta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- Waar staat de L voor in de afkorting KL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 Welke Parijse luchthaven is naar een president vernoem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4- Van welk woord is bus de verkorte v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5- Welke autofabrikant heeft modellen gemaakt met de nam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lite en Espr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6- Wat is een TG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624852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1804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3880" y="6781680"/>
            <a:ext cx="4191120" cy="261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8001000"/>
            <a:ext cx="1143000" cy="457200"/>
          </a:xfrm>
          <a:prstGeom prst="wedgeRoundRectCallout">
            <a:avLst>
              <a:gd name="adj1" fmla="val 97222"/>
              <a:gd name="adj2" fmla="val -3819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k vlieg eerst…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an jij…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8001000"/>
            <a:ext cx="1295640" cy="609480"/>
          </a:xfrm>
          <a:prstGeom prst="wedgeRoundRectCallout">
            <a:avLst>
              <a:gd name="adj1" fmla="val -79902"/>
              <a:gd name="adj2" fmla="val 2005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ee…ik vlieg eers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als was afgespr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…!!!verdo…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6T20:43:33Z</dcterms:created>
  <dc:creator>ERIK</dc:creator>
  <dc:description/>
  <dc:language>en-US</dc:language>
  <cp:lastModifiedBy>ERIK</cp:lastModifiedBy>
  <dcterms:modified xsi:type="dcterms:W3CDTF">2014-02-03T08:52:14Z</dcterms:modified>
  <cp:revision>1</cp:revision>
  <dc:subject/>
  <dc:title>Geen diatitel</dc:title>
</cp:coreProperties>
</file>