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440-7F17-48AB-A000-830C7936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9C9-FB74-4222-B924-EF89CA0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B5E-E22A-4622-9463-5DA50D56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15-E262-4F8A-8DC6-1C95CB0A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F3A-E60A-4630-8847-970F216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603-70D8-49BA-B90B-90A03614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50C-1595-48A2-B7E0-C7CB9F0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02F-B8C4-41A2-A02B-E6F417C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9C0-C80C-4E5C-9C2E-49943E02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6F6-BB5E-4671-B8B1-79D74E4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81E-2829-461E-89FD-AA7FC95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F20-0C15-41FB-96DF-60F9C99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9DE-1A48-42E1-BEE4-35DFD7D1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1500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304920"/>
            <a:ext cx="2210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nelle quizvra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23720" y="114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ntwoord nr 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440" y="647640"/>
            <a:ext cx="36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 Bieten                            2- Broc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 Zuid-Amerika               4- B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5- Hongaars                       5- Ra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002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2560" y="156204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lgende opgave: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Transportzak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905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4640" y="1866960"/>
            <a:ext cx="598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 Wat is het grootste vliegveld in de Verenigde Sta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 Waar staat de L voor in de afkorting KL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 Welke Parijse luchthaven is naar een president vernoem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- Van welk woord is bus de verkorte v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5- Welke autofabrikant heeft modellen gemaakt met de nam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lite en Espr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6- Wat is een TG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62485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180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6781680"/>
            <a:ext cx="4191120" cy="261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8001000"/>
            <a:ext cx="1143000" cy="457200"/>
          </a:xfrm>
          <a:prstGeom prst="wedgeRoundRectCallout">
            <a:avLst>
              <a:gd name="adj1" fmla="val 97222"/>
              <a:gd name="adj2" fmla="val -381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k vlieg eerst…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jij…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8001000"/>
            <a:ext cx="1295640" cy="609480"/>
          </a:xfrm>
          <a:prstGeom prst="wedgeRoundRectCallout">
            <a:avLst>
              <a:gd name="adj1" fmla="val -79902"/>
              <a:gd name="adj2" fmla="val 200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ee…ik vlieg eers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als was afgespr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…!!!verdo…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6T20:43:33Z</dcterms:created>
  <dc:creator>ERIK</dc:creator>
  <dc:description/>
  <dc:language>en-US</dc:language>
  <cp:lastModifiedBy>ERIK</cp:lastModifiedBy>
  <dcterms:modified xsi:type="dcterms:W3CDTF">2014-02-03T08:52:14Z</dcterms:modified>
  <cp:revision>1</cp:revision>
  <dc:subject/>
  <dc:title>Geen diatitel</dc:title>
</cp:coreProperties>
</file>