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09D-85C4-408E-AE8D-2A1CE464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915-6E11-4331-B8A8-985F012B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518-D885-4B70-80F6-91C2CFA1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821-ADD9-4D14-ACBB-56B9DAC4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7CC-3E73-43F8-930E-67F87AB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B51-27BB-431E-8400-B3A09E3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500-06BD-4AB2-BF90-6E35A4D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4F3-DB0C-4B2E-A611-E5FB1586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288-4724-4DFE-8FF1-3BA6129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7CF-4D12-456F-ABFD-2273A59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2CD-3147-4535-B697-0B953368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FE8-4AE4-4863-8C05-93C6CC5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09AC-2309-438C-AC21-9077E69B8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114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 -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9528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3520" y="1144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-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57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600" y="45720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Familie,dat is een plek die wordt geregeerd door de my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die structuur geven aan wat ons bezi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57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800" y="31622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" y="3314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1981080" cy="167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7200" y="2857680"/>
            <a:ext cx="58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 = N                  R = I                   T = M                N =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400" y="3009960"/>
            <a:ext cx="57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                   - -               - - - -               - 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219320"/>
            <a:ext cx="1066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600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878800">
            <a:off x="2819160" y="28954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3760" y="2438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4429" t="0" r="15867" b="50416"/>
          <a:stretch/>
        </p:blipFill>
        <p:spPr>
          <a:xfrm>
            <a:off x="3505320" y="1219320"/>
            <a:ext cx="13716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657600" y="2666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876920" y="1143000"/>
            <a:ext cx="129528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0" r="16670" b="0"/>
          <a:stretch/>
        </p:blipFill>
        <p:spPr>
          <a:xfrm>
            <a:off x="4800600" y="19051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3352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8600" y="342900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>
            <a:off x="10666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8640" y="506736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 = T              - V                    - H            - K  - L        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29520" y="5257800"/>
            <a:ext cx="58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      - -                     - - -               - -             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 flipH="1" rot="10800000">
            <a:off x="1447920" y="3733920"/>
            <a:ext cx="1600200" cy="947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971800" y="3352680"/>
            <a:ext cx="1316160" cy="175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71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3720" y="44578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038480" y="342900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800600" y="4343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181480" y="3429000"/>
            <a:ext cx="9954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55627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228600" y="5638680"/>
            <a:ext cx="1219320" cy="140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480" y="7124760"/>
            <a:ext cx="56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 = T              - D           S = GT      B = G             B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320" y="727704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-               - - -            - - - -    :     - - -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1447920" y="5638680"/>
            <a:ext cx="1218960" cy="144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743200" y="5715000"/>
            <a:ext cx="695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 flipH="1" rot="10800000">
            <a:off x="3429000" y="6095880"/>
            <a:ext cx="1371600" cy="81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4800600" y="594360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548604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76201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228600" y="769608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7360" y="9182160"/>
            <a:ext cx="45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 = N                    P =R                   P =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5920" y="941076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                      - - - -              +   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3886200" y="7620120"/>
            <a:ext cx="6271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33720" y="8915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8991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915400"/>
            <a:ext cx="38124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8991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827400">
            <a:off x="2379240" y="8078400"/>
            <a:ext cx="763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358400">
            <a:off x="2438280" y="7924680"/>
            <a:ext cx="763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8839080"/>
            <a:ext cx="759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461400">
            <a:off x="2207880" y="8924760"/>
            <a:ext cx="1523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42840" y="8496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7696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417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4800600" y="7848720"/>
            <a:ext cx="14479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21:45:44Z</dcterms:created>
  <dc:creator>ERIK</dc:creator>
  <dc:description/>
  <dc:language>en-US</dc:language>
  <cp:lastModifiedBy>ERIK</cp:lastModifiedBy>
  <cp:lastPrinted>2006-08-22T21:23:44Z</cp:lastPrinted>
  <dcterms:modified xsi:type="dcterms:W3CDTF">2014-02-02T19:28:22Z</dcterms:modified>
  <cp:revision>4</cp:revision>
  <dc:subject/>
  <dc:title>Geen diatitel</dc:title>
</cp:coreProperties>
</file>