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AD6-B610-4FDA-B030-1793E395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2A8-441F-4944-8EFA-DB9F26B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B17-6F72-49D1-87F4-65245C97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1F5-59DC-40B9-B56B-B24F7BB3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A95-BA9A-4C40-9F97-F1EF52C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DCE-59A4-4602-ABC5-DA71B3AD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8EB-EC5D-4E10-A580-2ACA0F2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F86-5935-41A7-B1C4-A3A1BAD0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92B-AF68-4A80-8882-A21945D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795-2F84-4B57-8CBF-977C2784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12F-A6A8-451B-B989-AC52EF9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6F0-9330-495A-804F-1B8D5E8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798-C196-43D1-B1A7-EBCDC4D68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-39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720" y="1144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57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0840" y="1144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in 90 = “Hooimaa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4572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3640" y="57168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der-ders-li-gen-wijs-an-ta-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914400"/>
            <a:ext cx="5029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193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3680" y="950760"/>
            <a:ext cx="50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11  12  13  14  15  16  17  18  19  20  21 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920" y="19432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vul-ver-ta-di-me-bel-nig-gi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5257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6668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680" y="2398680"/>
            <a:ext cx="53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3 24  25  26  27  28  29  30  31  32  33  34  35  36  37  38  39  40  41  42  43  44 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42900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ca-me-zor-kos-ver-ti-gi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809880"/>
            <a:ext cx="4572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3680" y="3846600"/>
            <a:ext cx="46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6 47  48  49  50  51  52  53  54  55  56  57  58  59  60  61  62  63  64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680" y="48387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25780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562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5257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2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7720" y="529416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4  50  30  40  62  26   1   65  54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477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2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6553080"/>
            <a:ext cx="5943600" cy="313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666880" y="6934320"/>
            <a:ext cx="206064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" y="7010280"/>
            <a:ext cx="2633760" cy="2676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114800" y="7238880"/>
            <a:ext cx="1832040" cy="2438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740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6248520"/>
            <a:ext cx="568080" cy="399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50" y="116"/>
                </a:moveTo>
                <a:cubicBezTo>
                  <a:pt x="41" y="113"/>
                  <a:pt x="0" y="108"/>
                  <a:pt x="34" y="84"/>
                </a:cubicBezTo>
                <a:cubicBezTo>
                  <a:pt x="48" y="74"/>
                  <a:pt x="82" y="68"/>
                  <a:pt x="82" y="68"/>
                </a:cubicBezTo>
                <a:cubicBezTo>
                  <a:pt x="99" y="0"/>
                  <a:pt x="81" y="47"/>
                  <a:pt x="98" y="60"/>
                </a:cubicBezTo>
                <a:cubicBezTo>
                  <a:pt x="107" y="67"/>
                  <a:pt x="119" y="65"/>
                  <a:pt x="130" y="68"/>
                </a:cubicBezTo>
                <a:cubicBezTo>
                  <a:pt x="180" y="51"/>
                  <a:pt x="207" y="65"/>
                  <a:pt x="250" y="84"/>
                </a:cubicBezTo>
                <a:cubicBezTo>
                  <a:pt x="265" y="91"/>
                  <a:pt x="298" y="100"/>
                  <a:pt x="298" y="100"/>
                </a:cubicBezTo>
                <a:cubicBezTo>
                  <a:pt x="301" y="108"/>
                  <a:pt x="309" y="116"/>
                  <a:pt x="306" y="124"/>
                </a:cubicBezTo>
                <a:cubicBezTo>
                  <a:pt x="299" y="143"/>
                  <a:pt x="241" y="138"/>
                  <a:pt x="290" y="180"/>
                </a:cubicBezTo>
                <a:cubicBezTo>
                  <a:pt x="302" y="191"/>
                  <a:pt x="322" y="185"/>
                  <a:pt x="338" y="188"/>
                </a:cubicBezTo>
                <a:cubicBezTo>
                  <a:pt x="358" y="219"/>
                  <a:pt x="355" y="227"/>
                  <a:pt x="330" y="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3040" y="6400800"/>
            <a:ext cx="368280" cy="111240"/>
          </a:xfrm>
          <a:custGeom>
            <a:avLst/>
            <a:gdLst/>
            <a:ahLst/>
            <a:rect l="l" t="t" r="r" b="b"/>
            <a:pathLst>
              <a:path w="232" h="70">
                <a:moveTo>
                  <a:pt x="0" y="16"/>
                </a:moveTo>
                <a:cubicBezTo>
                  <a:pt x="31" y="26"/>
                  <a:pt x="33" y="46"/>
                  <a:pt x="64" y="56"/>
                </a:cubicBezTo>
                <a:cubicBezTo>
                  <a:pt x="107" y="42"/>
                  <a:pt x="77" y="30"/>
                  <a:pt x="120" y="16"/>
                </a:cubicBezTo>
                <a:cubicBezTo>
                  <a:pt x="147" y="56"/>
                  <a:pt x="146" y="70"/>
                  <a:pt x="184" y="32"/>
                </a:cubicBezTo>
                <a:cubicBezTo>
                  <a:pt x="176" y="27"/>
                  <a:pt x="154" y="24"/>
                  <a:pt x="160" y="16"/>
                </a:cubicBezTo>
                <a:cubicBezTo>
                  <a:pt x="170" y="3"/>
                  <a:pt x="208" y="0"/>
                  <a:pt x="208" y="0"/>
                </a:cubicBezTo>
                <a:cubicBezTo>
                  <a:pt x="206" y="7"/>
                  <a:pt x="190" y="51"/>
                  <a:pt x="192" y="56"/>
                </a:cubicBezTo>
                <a:cubicBezTo>
                  <a:pt x="196" y="65"/>
                  <a:pt x="232" y="64"/>
                  <a:pt x="208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6377040"/>
            <a:ext cx="101520" cy="61920"/>
          </a:xfrm>
          <a:custGeom>
            <a:avLst/>
            <a:gdLst/>
            <a:ahLst/>
            <a:rect l="l" t="t" r="r" b="b"/>
            <a:pathLst>
              <a:path w="64" h="39">
                <a:moveTo>
                  <a:pt x="64" y="7"/>
                </a:moveTo>
                <a:cubicBezTo>
                  <a:pt x="48" y="18"/>
                  <a:pt x="32" y="28"/>
                  <a:pt x="16" y="39"/>
                </a:cubicBezTo>
                <a:lnTo>
                  <a:pt x="40" y="23"/>
                </a:lnTo>
                <a:cubicBezTo>
                  <a:pt x="40" y="23"/>
                  <a:pt x="16" y="39"/>
                  <a:pt x="16" y="39"/>
                </a:cubicBezTo>
                <a:cubicBezTo>
                  <a:pt x="19" y="31"/>
                  <a:pt x="30" y="21"/>
                  <a:pt x="24" y="15"/>
                </a:cubicBezTo>
                <a:cubicBezTo>
                  <a:pt x="18" y="9"/>
                  <a:pt x="0" y="31"/>
                  <a:pt x="0" y="23"/>
                </a:cubicBezTo>
                <a:cubicBezTo>
                  <a:pt x="0" y="0"/>
                  <a:pt x="63" y="7"/>
                  <a:pt x="64" y="7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1:06:02Z</dcterms:created>
  <dc:creator>ERIK</dc:creator>
  <dc:description/>
  <dc:language>en-US</dc:language>
  <cp:lastModifiedBy>ERIK</cp:lastModifiedBy>
  <dcterms:modified xsi:type="dcterms:W3CDTF">2014-02-02T19:26:55Z</dcterms:modified>
  <cp:revision>2</cp:revision>
  <dc:subject/>
  <dc:title>Geen diatitel</dc:title>
</cp:coreProperties>
</file>