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5F1-9EB6-4120-A353-3E7D65C2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7E3-458C-4A6B-9D5C-857E2AC6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4E7D-D5EF-4898-994F-E9A342C4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3C9-3CAD-4FD3-9B12-234DFE42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28B-AF6F-4677-BBC6-D76A5D83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D31-06F1-47AE-A6C3-1B10D099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DBFB-4C24-4577-A4BC-C84EF9AC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102-4867-4C14-A307-569680DC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056-AE22-4992-AB93-E568DED1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5F7-6969-4443-A42F-532EDF45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00F-1A40-43C8-B1AE-447B78B7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7138-C5B3-4A3E-B3FD-840BD718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2FE0-08DB-4B91-BCDD-898E637AE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62720" y="-39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720" y="1144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Woordpuzz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457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0840" y="11448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plossing in 90 = “Hooimaan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4572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3640" y="57168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-der-ders-li-gen-wijs-an-ta-o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914400"/>
            <a:ext cx="5029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2193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3680" y="950760"/>
            <a:ext cx="509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    2    3    4    5    6    7    8    9   10  11  12  13  14  15  16  17  18  19  20  21 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2920" y="19432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-vul-ver-ta-di-me-bel-nig-ging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362320"/>
            <a:ext cx="5257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6668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680" y="2398680"/>
            <a:ext cx="53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3 24  25  26  27  28  29  30  31  32  33  34  35  36  37  38  39  40  41  42  43  44 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42900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-ca-me-zor-kos-ver-ti-ging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809880"/>
            <a:ext cx="4572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3680" y="3846600"/>
            <a:ext cx="46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6 47  48  49  50  51  52  53  54  55  56  57  58  59  60  61  62  63  64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9680" y="48387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lieve hieronder uw oplossing in te vull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257800"/>
            <a:ext cx="22860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55627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240" y="125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7720" y="5294160"/>
            <a:ext cx="24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4  50  30  40  62  26   1   65  54 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647712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2240" y="125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6553080"/>
            <a:ext cx="5943600" cy="3133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666880" y="6934320"/>
            <a:ext cx="206064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85800" y="7010280"/>
            <a:ext cx="2633760" cy="2676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114800" y="7238880"/>
            <a:ext cx="1832040" cy="2438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567400" y="944892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6248520"/>
            <a:ext cx="568080" cy="399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50" y="116"/>
                </a:moveTo>
                <a:cubicBezTo>
                  <a:pt x="41" y="113"/>
                  <a:pt x="0" y="108"/>
                  <a:pt x="34" y="84"/>
                </a:cubicBezTo>
                <a:cubicBezTo>
                  <a:pt x="48" y="74"/>
                  <a:pt x="82" y="68"/>
                  <a:pt x="82" y="68"/>
                </a:cubicBezTo>
                <a:cubicBezTo>
                  <a:pt x="99" y="0"/>
                  <a:pt x="81" y="47"/>
                  <a:pt x="98" y="60"/>
                </a:cubicBezTo>
                <a:cubicBezTo>
                  <a:pt x="107" y="67"/>
                  <a:pt x="119" y="65"/>
                  <a:pt x="130" y="68"/>
                </a:cubicBezTo>
                <a:cubicBezTo>
                  <a:pt x="180" y="51"/>
                  <a:pt x="207" y="65"/>
                  <a:pt x="250" y="84"/>
                </a:cubicBezTo>
                <a:cubicBezTo>
                  <a:pt x="265" y="91"/>
                  <a:pt x="298" y="100"/>
                  <a:pt x="298" y="100"/>
                </a:cubicBezTo>
                <a:cubicBezTo>
                  <a:pt x="301" y="108"/>
                  <a:pt x="309" y="116"/>
                  <a:pt x="306" y="124"/>
                </a:cubicBezTo>
                <a:cubicBezTo>
                  <a:pt x="299" y="143"/>
                  <a:pt x="241" y="138"/>
                  <a:pt x="290" y="180"/>
                </a:cubicBezTo>
                <a:cubicBezTo>
                  <a:pt x="302" y="191"/>
                  <a:pt x="322" y="185"/>
                  <a:pt x="338" y="188"/>
                </a:cubicBezTo>
                <a:cubicBezTo>
                  <a:pt x="358" y="219"/>
                  <a:pt x="355" y="227"/>
                  <a:pt x="330" y="2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23040" y="6400800"/>
            <a:ext cx="368280" cy="111240"/>
          </a:xfrm>
          <a:custGeom>
            <a:avLst/>
            <a:gdLst/>
            <a:ahLst/>
            <a:rect l="l" t="t" r="r" b="b"/>
            <a:pathLst>
              <a:path w="232" h="70">
                <a:moveTo>
                  <a:pt x="0" y="16"/>
                </a:moveTo>
                <a:cubicBezTo>
                  <a:pt x="31" y="26"/>
                  <a:pt x="33" y="46"/>
                  <a:pt x="64" y="56"/>
                </a:cubicBezTo>
                <a:cubicBezTo>
                  <a:pt x="107" y="42"/>
                  <a:pt x="77" y="30"/>
                  <a:pt x="120" y="16"/>
                </a:cubicBezTo>
                <a:cubicBezTo>
                  <a:pt x="147" y="56"/>
                  <a:pt x="146" y="70"/>
                  <a:pt x="184" y="32"/>
                </a:cubicBezTo>
                <a:cubicBezTo>
                  <a:pt x="176" y="27"/>
                  <a:pt x="154" y="24"/>
                  <a:pt x="160" y="16"/>
                </a:cubicBezTo>
                <a:cubicBezTo>
                  <a:pt x="170" y="3"/>
                  <a:pt x="208" y="0"/>
                  <a:pt x="208" y="0"/>
                </a:cubicBezTo>
                <a:cubicBezTo>
                  <a:pt x="206" y="7"/>
                  <a:pt x="190" y="51"/>
                  <a:pt x="192" y="56"/>
                </a:cubicBezTo>
                <a:cubicBezTo>
                  <a:pt x="196" y="65"/>
                  <a:pt x="232" y="64"/>
                  <a:pt x="208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6377040"/>
            <a:ext cx="101520" cy="61920"/>
          </a:xfrm>
          <a:custGeom>
            <a:avLst/>
            <a:gdLst/>
            <a:ahLst/>
            <a:rect l="l" t="t" r="r" b="b"/>
            <a:pathLst>
              <a:path w="64" h="39">
                <a:moveTo>
                  <a:pt x="64" y="7"/>
                </a:moveTo>
                <a:cubicBezTo>
                  <a:pt x="48" y="18"/>
                  <a:pt x="32" y="28"/>
                  <a:pt x="16" y="39"/>
                </a:cubicBezTo>
                <a:lnTo>
                  <a:pt x="40" y="23"/>
                </a:lnTo>
                <a:cubicBezTo>
                  <a:pt x="40" y="23"/>
                  <a:pt x="16" y="39"/>
                  <a:pt x="16" y="39"/>
                </a:cubicBezTo>
                <a:cubicBezTo>
                  <a:pt x="19" y="31"/>
                  <a:pt x="30" y="21"/>
                  <a:pt x="24" y="15"/>
                </a:cubicBezTo>
                <a:cubicBezTo>
                  <a:pt x="18" y="9"/>
                  <a:pt x="0" y="31"/>
                  <a:pt x="0" y="23"/>
                </a:cubicBezTo>
                <a:cubicBezTo>
                  <a:pt x="0" y="0"/>
                  <a:pt x="63" y="7"/>
                  <a:pt x="64" y="7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1:06:02Z</dcterms:created>
  <dc:creator>ERIK</dc:creator>
  <dc:description/>
  <dc:language>en-US</dc:language>
  <cp:lastModifiedBy>ERIK</cp:lastModifiedBy>
  <dcterms:modified xsi:type="dcterms:W3CDTF">2014-02-02T19:26:55Z</dcterms:modified>
  <cp:revision>2</cp:revision>
  <dc:subject/>
  <dc:title>Geen diatitel</dc:title>
</cp:coreProperties>
</file>