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B4F-4363-403D-AEB3-1845CC5D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3406-41CE-4543-8D5F-D3367904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7012-1D70-46E0-A5B0-E5B27B1A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F9C-6E1C-4A40-A8B1-0960AC17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B782-3FB4-4FAE-BED0-D5803142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DF4E-0CC1-4365-9119-643D811D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2AD-3A33-41FB-91D9-CCE4D5F4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D028-4207-4ABC-ACDA-F37CF5FA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7B3-9BF5-464C-B36B-C06E1479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07D9-1039-4CC4-BB6E-51998F1D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9E5-75F5-4F7A-AA18-41530492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EB9-589E-4A58-8035-56B9EAFE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29BE-98F6-4633-93F4-228D4B7FF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09624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39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880" y="11448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Weerspreu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06560" y="11448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ugus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457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1040" y="419040"/>
            <a:ext cx="53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s ‘t weer op Maria Hemelvaartdag uitgelez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zal heel de Herfst voortreffelijk wezen.(15 august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066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5720" y="1028880"/>
            <a:ext cx="39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oals Bartel i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ordt ook de Herfst gewis.(24 august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7524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" y="17146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reekwoorden en gezeg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2057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3560" y="201924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uivels zak is nooit v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de gierigaard heeft nooit genoe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7800" y="2629080"/>
            <a:ext cx="60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ls twee honden vechten voor een been,loopt de derde er me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als twee personen om iets twisten,gebeurt het dikwijls,     he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at een derde in het bezit ervan kom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5812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304920" y="5715000"/>
            <a:ext cx="2819160" cy="2728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76720" y="5181480"/>
            <a:ext cx="2666880" cy="2567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7880" y="35434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reekwij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886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240" y="3848040"/>
            <a:ext cx="618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ijn oren zullen tui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er zal tijdens zijn afwezigheid veel over hem gesproken word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4495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4640" y="445788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emand den baard smou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hem de les lez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1055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0" t="50849" r="61602" b="13559"/>
          <a:stretch/>
        </p:blipFill>
        <p:spPr>
          <a:xfrm>
            <a:off x="5029200" y="7467480"/>
            <a:ext cx="838080" cy="1219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505320" y="7772400"/>
            <a:ext cx="2133360" cy="178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90720" y="5181480"/>
            <a:ext cx="1371600" cy="685800"/>
          </a:xfrm>
          <a:prstGeom prst="cloudCallout">
            <a:avLst>
              <a:gd name="adj1" fmla="val 66203"/>
              <a:gd name="adj2" fmla="val 4745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Grrr…grr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Waf…waf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5181480"/>
            <a:ext cx="1523880" cy="838440"/>
          </a:xfrm>
          <a:prstGeom prst="cloudCallout">
            <a:avLst>
              <a:gd name="adj1" fmla="val -65416"/>
              <a:gd name="adj2" fmla="val -208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Grrrrr….Waf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Wat denkt die we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Grr…waf waf…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276360" y="9220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352680" y="8991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971440" y="8839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276720" y="8534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276360" y="8686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680" y="8458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429000" y="80769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647960" y="9448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571640" y="9220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419360" y="8991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410080" y="8610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181480" y="8534520"/>
            <a:ext cx="1526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257440" y="8381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86104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8458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8305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867280" y="8001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7696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7620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876560" y="77724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5029200" y="76197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5028840" y="7391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6324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62485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200400" y="59436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3047760" y="571464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047760" y="55623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276360" y="54100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29880" y="547056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wa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63400" y="592776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wa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10760" y="615636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wa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7772400"/>
            <a:ext cx="990360" cy="304920"/>
          </a:xfrm>
          <a:prstGeom prst="wedgeRoundRectCallout">
            <a:avLst>
              <a:gd name="adj1" fmla="val 69870"/>
              <a:gd name="adj2" fmla="val 15106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ank u wel…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9436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0:09:27Z</dcterms:created>
  <dc:creator>ERIK</dc:creator>
  <dc:description/>
  <dc:language>en-US</dc:language>
  <cp:lastModifiedBy>ERIK</cp:lastModifiedBy>
  <dcterms:modified xsi:type="dcterms:W3CDTF">2014-02-02T18:05:01Z</dcterms:modified>
  <cp:revision>1</cp:revision>
  <dc:subject/>
  <dc:title>Geen diatitel</dc:title>
</cp:coreProperties>
</file>