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BD8E-07FE-4447-B6AF-708D05881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2D11-7DFE-41F0-BB89-BECF4DC51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BE94-B87A-453A-B442-1D89FBB30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4987-CECE-4726-92AE-CA8162F7C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6270-5DA7-40EB-8CF9-67B7BE3AD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F71D-B62B-4195-A04B-DE2807673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F4F2-500F-47C9-A600-3AB5FA48C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5CC8-91F4-4AEE-9036-C261882A8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FC80-557F-4CBC-9E72-C531390A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C9CD-8DD4-425C-A114-1A7443B2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6ECC-1395-4FFB-B0E7-892595C6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B5B7-D9CE-4A94-9BC4-B733DEF6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D6E95-BF4A-4FAF-96D2-CBDBA8D140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52280"/>
            <a:ext cx="6096240" cy="960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90720" y="-39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7880" y="114480"/>
            <a:ext cx="161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Weerspreuk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4572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06560" y="11448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Augus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895480" y="457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1040" y="419040"/>
            <a:ext cx="535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Is ‘t weer op Maria Hemelvaartdag uitgeleze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het zal heel de Herfst voortreffelijk wezen.(15 augustu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1066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5720" y="1028880"/>
            <a:ext cx="39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Zoals Bartel i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wordt ook de Herfst gewis.(24 augustu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175248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7160" y="171468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Spreekwoorden en gezeg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20574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3560" y="2019240"/>
            <a:ext cx="330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Duivels zak is nooit vo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(de gierigaard heeft nooit genoe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7800" y="2629080"/>
            <a:ext cx="604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Als twee honden vechten voor een been,loopt de derde er me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(als twee personen om iets twisten,gebeurt het dikwijls,     he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Dat een derde in het bezit ervan kom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3581280"/>
            <a:ext cx="4419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>
            <a:lum contrast="-42000"/>
          </a:blip>
          <a:stretch/>
        </p:blipFill>
        <p:spPr>
          <a:xfrm>
            <a:off x="304920" y="5715000"/>
            <a:ext cx="2819160" cy="2728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276720" y="5181480"/>
            <a:ext cx="2666880" cy="25671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37880" y="354348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Spreekwijz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38862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9240" y="3848040"/>
            <a:ext cx="618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Zijn oren zullen tuit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(er zal tijdens zijn afwezigheid veel over hem gesproken word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00200" y="44956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34640" y="4457880"/>
            <a:ext cx="27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Iemand den baard smout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(hem de les lez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105520"/>
            <a:ext cx="4419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rcRect l="0" t="50849" r="61602" b="13559"/>
          <a:stretch/>
        </p:blipFill>
        <p:spPr>
          <a:xfrm>
            <a:off x="5029200" y="7467480"/>
            <a:ext cx="838080" cy="12193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3505320" y="7772400"/>
            <a:ext cx="2133360" cy="17892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990720" y="5181480"/>
            <a:ext cx="1371600" cy="685800"/>
          </a:xfrm>
          <a:prstGeom prst="cloudCallout">
            <a:avLst>
              <a:gd name="adj1" fmla="val 66203"/>
              <a:gd name="adj2" fmla="val 47453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Times New Roman"/>
              </a:rPr>
              <a:t>Grrr…grr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Times New Roman"/>
              </a:rPr>
              <a:t>Waf…waf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343400" y="5181480"/>
            <a:ext cx="1523880" cy="838440"/>
          </a:xfrm>
          <a:prstGeom prst="cloudCallout">
            <a:avLst>
              <a:gd name="adj1" fmla="val -65416"/>
              <a:gd name="adj2" fmla="val -2083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Times New Roman"/>
              </a:rPr>
              <a:t>Grrrrr….Waf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Times New Roman"/>
              </a:rPr>
              <a:t>Wat denkt die we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Times New Roman"/>
              </a:rPr>
              <a:t>Grr…waf waf…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3276360" y="9220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352680" y="89917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971440" y="8839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276720" y="8534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276360" y="8686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352680" y="84582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3429000" y="80769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4647960" y="9448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571640" y="9220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4419360" y="8991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5410080" y="8610480"/>
            <a:ext cx="763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181480" y="8534520"/>
            <a:ext cx="1526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5257440" y="8381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638680" y="861048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84582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943600" y="8305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867280" y="80010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86400" y="769608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7620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876560" y="77724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5029200" y="76197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5028840" y="73911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8120" y="63244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00400" y="6248520"/>
            <a:ext cx="1522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200400" y="594360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3047760" y="571464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29000" y="5943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3047760" y="5562360"/>
            <a:ext cx="1522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3276360" y="5410080"/>
            <a:ext cx="7596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29880" y="5470560"/>
            <a:ext cx="37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wa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63400" y="5927760"/>
            <a:ext cx="37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wa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10760" y="6156360"/>
            <a:ext cx="37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wa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33920" y="7772400"/>
            <a:ext cx="990360" cy="304920"/>
          </a:xfrm>
          <a:prstGeom prst="wedgeRoundRectCallout">
            <a:avLst>
              <a:gd name="adj1" fmla="val 69870"/>
              <a:gd name="adj2" fmla="val 15106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ank u wel…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94360" y="9485280"/>
            <a:ext cx="112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rik De Bac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0T10:09:27Z</dcterms:created>
  <dc:creator>ERIK</dc:creator>
  <dc:description/>
  <dc:language>en-US</dc:language>
  <cp:lastModifiedBy>ERIK</cp:lastModifiedBy>
  <dcterms:modified xsi:type="dcterms:W3CDTF">2014-02-02T18:05:01Z</dcterms:modified>
  <cp:revision>1</cp:revision>
  <dc:subject/>
  <dc:title>Geen diatitel</dc:title>
</cp:coreProperties>
</file>