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45CF-DE60-4CD3-888A-8A18B6FBE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12FF-CFAA-4EE1-A98A-67E33EE13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31B7-E547-4215-A5CC-5712F755F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80D3-CC1B-4BD4-B1C1-AA59360C8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712B-F159-4978-B3A4-BE2A0CC81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4EC5-9338-4A21-AF93-F8BA30FC4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1899-FD23-4F9A-A7DB-A8841E9D1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4489-20D7-40B8-9E8A-1CE181641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1B96-B454-4252-BEF9-6C67355BC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02C9-DDEF-4681-9936-0C6D0A3A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0FCE-14F1-415D-A126-E3186E7F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CB8D-8C86-4271-AFF8-E2B8D9DA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E318F-2A68-4602-9C99-A80A88276A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380880"/>
            <a:ext cx="58672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295280"/>
            <a:ext cx="58672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2514600"/>
            <a:ext cx="5867280" cy="6934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447920"/>
            <a:ext cx="5486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DE DONKSE KLOEFFE</a:t>
            </a:r>
            <a:endParaRPr b="0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815328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9560" y="8113680"/>
            <a:ext cx="5940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1-Weerspreuken                                       Inhoud:        8-Beeldverhaal - 51”Donk…toendertij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2-Spreekwoorden en gezegden                                     9-Er waren 6 muisjes te vinden 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3-Spreekwijzen                                                           10-Hoeveel vind u er nu,goed tellen hé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4-Woordpuzzel + oplossong 90 =Hooima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5-Rebus-50 + oplossing 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6-Snelle quizvragen + antwoord nr 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7-Poezie - “De zagema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09480" y="457200"/>
            <a:ext cx="5715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ugustus-2006(91)Jaargang 8 no 8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>
            <a:lum contrast="-36000"/>
          </a:blip>
          <a:stretch/>
        </p:blipFill>
        <p:spPr>
          <a:xfrm>
            <a:off x="533520" y="2719440"/>
            <a:ext cx="5867280" cy="4519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rcRect l="0" t="0" r="61432" b="0"/>
          <a:stretch/>
        </p:blipFill>
        <p:spPr>
          <a:xfrm>
            <a:off x="609480" y="4800600"/>
            <a:ext cx="1382760" cy="3336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568760" y="4876920"/>
            <a:ext cx="1819440" cy="3070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1905120" y="4724280"/>
            <a:ext cx="2792160" cy="33894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505320" y="3657600"/>
            <a:ext cx="1295280" cy="609480"/>
          </a:xfrm>
          <a:prstGeom prst="wedgeRoundRectCallout">
            <a:avLst>
              <a:gd name="adj1" fmla="val -45587"/>
              <a:gd name="adj2" fmla="val 128384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Dat is nog ee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vakantie…!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38440" y="7259760"/>
            <a:ext cx="776160" cy="550800"/>
          </a:xfrm>
          <a:custGeom>
            <a:avLst/>
            <a:gdLst/>
            <a:ahLst/>
            <a:rect l="l" t="t" r="r" b="b"/>
            <a:pathLst>
              <a:path w="489" h="347">
                <a:moveTo>
                  <a:pt x="121" y="107"/>
                </a:moveTo>
                <a:cubicBezTo>
                  <a:pt x="87" y="96"/>
                  <a:pt x="79" y="85"/>
                  <a:pt x="57" y="59"/>
                </a:cubicBezTo>
                <a:cubicBezTo>
                  <a:pt x="47" y="48"/>
                  <a:pt x="35" y="38"/>
                  <a:pt x="25" y="27"/>
                </a:cubicBezTo>
                <a:cubicBezTo>
                  <a:pt x="19" y="20"/>
                  <a:pt x="0" y="0"/>
                  <a:pt x="9" y="3"/>
                </a:cubicBezTo>
                <a:cubicBezTo>
                  <a:pt x="25" y="8"/>
                  <a:pt x="34" y="26"/>
                  <a:pt x="49" y="35"/>
                </a:cubicBezTo>
                <a:cubicBezTo>
                  <a:pt x="67" y="45"/>
                  <a:pt x="86" y="53"/>
                  <a:pt x="105" y="59"/>
                </a:cubicBezTo>
                <a:cubicBezTo>
                  <a:pt x="198" y="90"/>
                  <a:pt x="291" y="99"/>
                  <a:pt x="385" y="123"/>
                </a:cubicBezTo>
                <a:cubicBezTo>
                  <a:pt x="405" y="150"/>
                  <a:pt x="422" y="171"/>
                  <a:pt x="433" y="203"/>
                </a:cubicBezTo>
                <a:cubicBezTo>
                  <a:pt x="420" y="205"/>
                  <a:pt x="364" y="211"/>
                  <a:pt x="345" y="219"/>
                </a:cubicBezTo>
                <a:cubicBezTo>
                  <a:pt x="316" y="232"/>
                  <a:pt x="329" y="239"/>
                  <a:pt x="297" y="243"/>
                </a:cubicBezTo>
                <a:cubicBezTo>
                  <a:pt x="262" y="247"/>
                  <a:pt x="228" y="248"/>
                  <a:pt x="193" y="251"/>
                </a:cubicBezTo>
                <a:cubicBezTo>
                  <a:pt x="154" y="264"/>
                  <a:pt x="114" y="269"/>
                  <a:pt x="73" y="275"/>
                </a:cubicBezTo>
                <a:cubicBezTo>
                  <a:pt x="102" y="347"/>
                  <a:pt x="137" y="339"/>
                  <a:pt x="209" y="339"/>
                </a:cubicBezTo>
                <a:lnTo>
                  <a:pt x="441" y="323"/>
                </a:lnTo>
                <a:cubicBezTo>
                  <a:pt x="483" y="264"/>
                  <a:pt x="465" y="251"/>
                  <a:pt x="489" y="27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28880" y="7785000"/>
            <a:ext cx="169560" cy="279360"/>
          </a:xfrm>
          <a:custGeom>
            <a:avLst/>
            <a:gdLst/>
            <a:ahLst/>
            <a:rect l="l" t="t" r="r" b="b"/>
            <a:pathLst>
              <a:path w="107" h="176">
                <a:moveTo>
                  <a:pt x="0" y="0"/>
                </a:moveTo>
                <a:cubicBezTo>
                  <a:pt x="58" y="19"/>
                  <a:pt x="48" y="24"/>
                  <a:pt x="96" y="56"/>
                </a:cubicBezTo>
                <a:cubicBezTo>
                  <a:pt x="99" y="64"/>
                  <a:pt x="107" y="72"/>
                  <a:pt x="104" y="80"/>
                </a:cubicBezTo>
                <a:cubicBezTo>
                  <a:pt x="100" y="89"/>
                  <a:pt x="81" y="86"/>
                  <a:pt x="80" y="96"/>
                </a:cubicBezTo>
                <a:cubicBezTo>
                  <a:pt x="78" y="113"/>
                  <a:pt x="96" y="144"/>
                  <a:pt x="96" y="144"/>
                </a:cubicBezTo>
                <a:cubicBezTo>
                  <a:pt x="80" y="147"/>
                  <a:pt x="63" y="145"/>
                  <a:pt x="48" y="152"/>
                </a:cubicBezTo>
                <a:cubicBezTo>
                  <a:pt x="39" y="156"/>
                  <a:pt x="32" y="176"/>
                  <a:pt x="32" y="1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32080" y="7848720"/>
            <a:ext cx="411120" cy="279360"/>
          </a:xfrm>
          <a:custGeom>
            <a:avLst/>
            <a:gdLst/>
            <a:ahLst/>
            <a:rect l="l" t="t" r="r" b="b"/>
            <a:pathLst>
              <a:path w="259" h="176">
                <a:moveTo>
                  <a:pt x="3" y="120"/>
                </a:moveTo>
                <a:cubicBezTo>
                  <a:pt x="11" y="125"/>
                  <a:pt x="25" y="127"/>
                  <a:pt x="27" y="136"/>
                </a:cubicBezTo>
                <a:cubicBezTo>
                  <a:pt x="29" y="148"/>
                  <a:pt x="0" y="163"/>
                  <a:pt x="11" y="168"/>
                </a:cubicBezTo>
                <a:cubicBezTo>
                  <a:pt x="26" y="176"/>
                  <a:pt x="59" y="152"/>
                  <a:pt x="59" y="152"/>
                </a:cubicBezTo>
                <a:cubicBezTo>
                  <a:pt x="96" y="115"/>
                  <a:pt x="171" y="89"/>
                  <a:pt x="195" y="40"/>
                </a:cubicBezTo>
                <a:lnTo>
                  <a:pt x="25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7981920"/>
            <a:ext cx="965160" cy="120600"/>
          </a:xfrm>
          <a:custGeom>
            <a:avLst/>
            <a:gdLst/>
            <a:ahLst/>
            <a:rect l="l" t="t" r="r" b="b"/>
            <a:pathLst>
              <a:path w="608" h="76">
                <a:moveTo>
                  <a:pt x="0" y="52"/>
                </a:moveTo>
                <a:cubicBezTo>
                  <a:pt x="80" y="36"/>
                  <a:pt x="150" y="40"/>
                  <a:pt x="232" y="52"/>
                </a:cubicBezTo>
                <a:cubicBezTo>
                  <a:pt x="281" y="76"/>
                  <a:pt x="329" y="75"/>
                  <a:pt x="376" y="44"/>
                </a:cubicBezTo>
                <a:cubicBezTo>
                  <a:pt x="391" y="0"/>
                  <a:pt x="408" y="10"/>
                  <a:pt x="448" y="20"/>
                </a:cubicBezTo>
                <a:cubicBezTo>
                  <a:pt x="492" y="49"/>
                  <a:pt x="555" y="60"/>
                  <a:pt x="608" y="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90920" y="7480440"/>
            <a:ext cx="511200" cy="482400"/>
          </a:xfrm>
          <a:custGeom>
            <a:avLst/>
            <a:gdLst/>
            <a:ahLst/>
            <a:rect l="l" t="t" r="r" b="b"/>
            <a:pathLst>
              <a:path w="322" h="304">
                <a:moveTo>
                  <a:pt x="18" y="0"/>
                </a:moveTo>
                <a:cubicBezTo>
                  <a:pt x="13" y="11"/>
                  <a:pt x="0" y="20"/>
                  <a:pt x="2" y="32"/>
                </a:cubicBezTo>
                <a:cubicBezTo>
                  <a:pt x="4" y="40"/>
                  <a:pt x="18" y="38"/>
                  <a:pt x="26" y="40"/>
                </a:cubicBezTo>
                <a:cubicBezTo>
                  <a:pt x="77" y="55"/>
                  <a:pt x="40" y="39"/>
                  <a:pt x="90" y="64"/>
                </a:cubicBezTo>
                <a:cubicBezTo>
                  <a:pt x="87" y="85"/>
                  <a:pt x="89" y="108"/>
                  <a:pt x="82" y="128"/>
                </a:cubicBezTo>
                <a:cubicBezTo>
                  <a:pt x="74" y="150"/>
                  <a:pt x="33" y="212"/>
                  <a:pt x="18" y="232"/>
                </a:cubicBezTo>
                <a:cubicBezTo>
                  <a:pt x="58" y="258"/>
                  <a:pt x="115" y="263"/>
                  <a:pt x="162" y="272"/>
                </a:cubicBezTo>
                <a:cubicBezTo>
                  <a:pt x="173" y="277"/>
                  <a:pt x="183" y="284"/>
                  <a:pt x="194" y="288"/>
                </a:cubicBezTo>
                <a:cubicBezTo>
                  <a:pt x="210" y="294"/>
                  <a:pt x="242" y="304"/>
                  <a:pt x="242" y="304"/>
                </a:cubicBezTo>
                <a:cubicBezTo>
                  <a:pt x="266" y="301"/>
                  <a:pt x="291" y="304"/>
                  <a:pt x="314" y="296"/>
                </a:cubicBezTo>
                <a:cubicBezTo>
                  <a:pt x="322" y="293"/>
                  <a:pt x="296" y="294"/>
                  <a:pt x="290" y="288"/>
                </a:cubicBezTo>
                <a:cubicBezTo>
                  <a:pt x="276" y="274"/>
                  <a:pt x="269" y="256"/>
                  <a:pt x="258" y="240"/>
                </a:cubicBezTo>
                <a:cubicBezTo>
                  <a:pt x="252" y="231"/>
                  <a:pt x="234" y="216"/>
                  <a:pt x="234" y="2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65760" y="7505640"/>
            <a:ext cx="601560" cy="343080"/>
          </a:xfrm>
          <a:custGeom>
            <a:avLst/>
            <a:gdLst/>
            <a:ahLst/>
            <a:rect l="l" t="t" r="r" b="b"/>
            <a:pathLst>
              <a:path w="379" h="216">
                <a:moveTo>
                  <a:pt x="96" y="56"/>
                </a:moveTo>
                <a:cubicBezTo>
                  <a:pt x="92" y="74"/>
                  <a:pt x="63" y="175"/>
                  <a:pt x="72" y="192"/>
                </a:cubicBezTo>
                <a:cubicBezTo>
                  <a:pt x="76" y="200"/>
                  <a:pt x="150" y="173"/>
                  <a:pt x="160" y="168"/>
                </a:cubicBezTo>
                <a:cubicBezTo>
                  <a:pt x="116" y="198"/>
                  <a:pt x="52" y="207"/>
                  <a:pt x="0" y="216"/>
                </a:cubicBezTo>
                <a:cubicBezTo>
                  <a:pt x="17" y="165"/>
                  <a:pt x="68" y="181"/>
                  <a:pt x="120" y="176"/>
                </a:cubicBezTo>
                <a:cubicBezTo>
                  <a:pt x="99" y="173"/>
                  <a:pt x="73" y="181"/>
                  <a:pt x="56" y="168"/>
                </a:cubicBezTo>
                <a:cubicBezTo>
                  <a:pt x="41" y="156"/>
                  <a:pt x="85" y="137"/>
                  <a:pt x="104" y="136"/>
                </a:cubicBezTo>
                <a:cubicBezTo>
                  <a:pt x="184" y="131"/>
                  <a:pt x="264" y="131"/>
                  <a:pt x="344" y="128"/>
                </a:cubicBezTo>
                <a:cubicBezTo>
                  <a:pt x="379" y="93"/>
                  <a:pt x="376" y="91"/>
                  <a:pt x="336" y="64"/>
                </a:cubicBezTo>
                <a:cubicBezTo>
                  <a:pt x="318" y="36"/>
                  <a:pt x="300" y="18"/>
                  <a:pt x="272" y="0"/>
                </a:cubicBezTo>
                <a:cubicBezTo>
                  <a:pt x="233" y="19"/>
                  <a:pt x="203" y="32"/>
                  <a:pt x="160" y="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18040" y="7885080"/>
            <a:ext cx="112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rik De Bac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4419720" y="8686800"/>
            <a:ext cx="1143000" cy="800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3200400" y="8458200"/>
            <a:ext cx="914400" cy="9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1T16:17:20Z</dcterms:created>
  <dc:creator>Win</dc:creator>
  <dc:description/>
  <dc:language>en-US</dc:language>
  <cp:lastModifiedBy>ERIK</cp:lastModifiedBy>
  <dcterms:modified xsi:type="dcterms:W3CDTF">2014-02-04T08:47:40Z</dcterms:modified>
  <cp:revision>8</cp:revision>
  <dc:subject/>
  <dc:title>Geen diatitel</dc:title>
</cp:coreProperties>
</file>