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5260-6F2B-4113-A756-5D8080A03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9629-E6FA-4F61-9EA8-90E51CF1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0031-C02F-4C3F-B49F-16E0D0F74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2093-DD15-4006-AA4B-1E26C6571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6BAB-1978-4196-9C63-DA7E87AB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9F77-2B39-48CC-809C-554BE4F1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9828-B2AC-49D1-911D-80565047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B1A9-E94B-4C20-9277-4A71C19D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1E60-DD61-4C5A-9554-33552A8F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4993-9F3D-469E-8744-7917EA6E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0078-B871-4818-A897-1B6A56F9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6CC9-65FD-4672-B06D-2B4810A8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684D-3B8A-4923-95E0-94F05C419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352680"/>
            <a:ext cx="3048120" cy="3048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dolescence"/>
              </a:rPr>
              <a:t>Kolde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304920"/>
            <a:ext cx="3048120" cy="3047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Lucida Calligraphy"/>
              </a:rPr>
              <a:t>Lief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304920"/>
            <a:ext cx="3048120" cy="304776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Lucida Sans Unicode"/>
              </a:rPr>
              <a:t>Erns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3352680"/>
            <a:ext cx="3048120" cy="3048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ndy"/>
              </a:rPr>
              <a:t>Stou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3080" y="670572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= samen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295280" y="7924680"/>
            <a:ext cx="4267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Palatino Linotype"/>
              </a:rPr>
              <a:t>Sef van Wegber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Palatino Linotype"/>
              <a:ea typeface="Palatino Linotype"/>
            </a:endParaRPr>
          </a:p>
        </p:txBody>
      </p:sp>
      <p:sp>
        <p:nvSpPr>
          <p:cNvPr id="47" name=""/>
          <p:cNvSpPr/>
          <p:nvPr/>
        </p:nvSpPr>
        <p:spPr>
          <a:xfrm>
            <a:off x="2889360" y="2819520"/>
            <a:ext cx="1079280" cy="1079280"/>
          </a:xfrm>
          <a:prstGeom prst="plus">
            <a:avLst>
              <a:gd name="adj" fmla="val 38528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6T15:33:57Z</dcterms:created>
  <dc:creator>BGC PC@Home Project</dc:creator>
  <dc:description/>
  <dc:language>en-US</dc:language>
  <cp:lastModifiedBy>BGC PC@Home Project</cp:lastModifiedBy>
  <dcterms:modified xsi:type="dcterms:W3CDTF">2009-06-06T16:02:52Z</dcterms:modified>
  <cp:revision>6</cp:revision>
  <dc:subject/>
  <dc:title>PowerPoint Presentation</dc:title>
</cp:coreProperties>
</file>