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7E2-D02B-4782-BC33-ACA4C350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8CF-15CD-4EDB-BA71-4B6A2816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D5E-B0B1-4066-8E8A-CC19C7E7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6B6-D43D-407C-B1F7-127C3994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C4D-CA28-4563-AEF4-05ADC9B2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205-8E82-4B4C-9BDE-D30E2EF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5DC-AB88-41CF-9911-9BA2520F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6BB-79C8-41F0-A71E-4174FD4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D49-D9CC-41B5-AECB-14C726A3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3A0-B0DF-45EE-B2E3-B10F8EB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B92-CBDD-4F1B-8E43-632002C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B8C-841A-43B4-BE29-E3CBEC3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4F0B-0026-4344-930E-758887600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352680"/>
            <a:ext cx="3048120" cy="3048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dolescence"/>
              </a:rPr>
              <a:t>Kold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04920"/>
            <a:ext cx="3048120" cy="3047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Calligraphy"/>
              </a:rPr>
              <a:t>Lie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4920"/>
            <a:ext cx="3048120" cy="3047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Sans Unicode"/>
              </a:rPr>
              <a:t>Ern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352680"/>
            <a:ext cx="3048120" cy="3048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dy"/>
              </a:rPr>
              <a:t>Stou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67057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= sam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7924680"/>
            <a:ext cx="426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latino Linotype"/>
              </a:rPr>
              <a:t>Sef van Wegber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latino Linotype"/>
              <a:ea typeface="Palatino Linotype"/>
            </a:endParaRPr>
          </a:p>
        </p:txBody>
      </p:sp>
      <p:sp>
        <p:nvSpPr>
          <p:cNvPr id="47" name=""/>
          <p:cNvSpPr/>
          <p:nvPr/>
        </p:nvSpPr>
        <p:spPr>
          <a:xfrm>
            <a:off x="2889360" y="2819520"/>
            <a:ext cx="1079280" cy="1079280"/>
          </a:xfrm>
          <a:prstGeom prst="plus">
            <a:avLst>
              <a:gd name="adj" fmla="val 3852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5:33:57Z</dcterms:created>
  <dc:creator>BGC PC@Home Project</dc:creator>
  <dc:description/>
  <dc:language>en-US</dc:language>
  <cp:lastModifiedBy>BGC PC@Home Project</cp:lastModifiedBy>
  <dcterms:modified xsi:type="dcterms:W3CDTF">2009-06-06T16:02:52Z</dcterms:modified>
  <cp:revision>6</cp:revision>
  <dc:subject/>
  <dc:title>PowerPoint Presentation</dc:title>
</cp:coreProperties>
</file>